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7748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990720"/>
            <a:ext cx="7772400" cy="101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0920" y="6553080"/>
            <a:ext cx="659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D37A-A407-41C2-8868-846B7AB0E503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DC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Equipment and Vehicle Descrip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the Physical Environmen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DRIS Organiz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G8 Meet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 - 24 August, 200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stributed Interactive Simulation (DIS) (IEEE 1278) community currently uses an Entity and Bit-Encoded Value (EBV) specification for describing information being passed in protocol data units (PDUs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usiness case reasons the SEDRIS Organization has begun work to replace EBV with EDCS to improve simulation interoperabil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esentation objective is to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a brief background on the DIS EBV specific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cterize the scope of the EDCS additions, and their rational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nstrate example additions of how ECCs and EACs would work together to replace the EBV specific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17748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umeration &amp; Bit Encoded Values (EBV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rity: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umeration and Bit-Encoded Values for Use with Protocols for Distributed Interactive Simulation Applica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mpanies IEEE Standard 1278.1-1995 &amp; IEEE Standard 1278.1A-199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ust 13, 200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: Specifies the numerical values and associated definitions DIS PDU fields which are identified as enumerations in IEEE 1278.1-199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BV replacemen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in significant EDCS code additions in the following area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hicl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quipmen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li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ndabl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fe Form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nition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BV Information Categories*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353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Information /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tfor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ni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 for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vironment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ltural featu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ndabl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sor/Emitt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fa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Communic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1143000"/>
            <a:ext cx="4724280" cy="50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Emission Re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e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hetic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 Management with 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e 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Real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- Comput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d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760" y="6222960"/>
            <a:ext cx="872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tegory names are exactly as used in EBV.  For explanation of each category, see the EBV docu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tity Information/Interaction with Sample Dat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3276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ity Kind - La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ity Kind - Ai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ity Kind - Surfa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ity Kind - Subsurfa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ity Kind - Spa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ni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 for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feat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ndab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ndable - Ai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ndable - Surfa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ndable - Subsurfa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or / Emit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57600" y="1260360"/>
            <a:ext cx="3057480" cy="1581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934320" y="1260360"/>
            <a:ext cx="1974600" cy="482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934320" y="2022480"/>
            <a:ext cx="1974600" cy="954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657600" y="2936880"/>
            <a:ext cx="2185920" cy="2523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6248520" y="3241800"/>
            <a:ext cx="2655720" cy="1110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6248520" y="4613400"/>
            <a:ext cx="2655720" cy="796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3657600" y="5603760"/>
            <a:ext cx="2655720" cy="7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lans and Recommenda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ns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tent and style of this report be used for future EBV-like content capt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will be presented to EBV users at the September SISO Worksho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RIS Organization will continue work to expand EBV coverage and submit as future commen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ommendations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G8 accept this report as material to be added to the next release of the EDCS for comment. (acronyms / abbreviations /symbols need reviewed / relocated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G8 members consider adding similar content, reflecting national interests, as future EDCS commen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4T21:22:24Z</dcterms:created>
  <dc:creator>MITRE</dc:creator>
  <dc:description/>
  <dc:language>en-US</dc:language>
  <cp:lastModifiedBy>Paul Foley</cp:lastModifiedBy>
  <dcterms:modified xsi:type="dcterms:W3CDTF">2001-08-24T01:28:42Z</dcterms:modified>
  <cp:revision>40</cp:revision>
  <dc:subject/>
  <dc:title>No Slide Title</dc:title>
</cp:coreProperties>
</file>