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DC926-7BB4-4906-BE47-01C458865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7F5C-7C99-42F9-923A-E5FD09CA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0D22C-DEF6-4D4A-BB37-0F56AA5DD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EC649-C8EB-422E-B7C1-83E1E7A59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A15A-3561-4F11-89DB-13CA7248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9FBB-443A-4D0D-A1DA-ABAA6A47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051C-E0E6-4048-B107-A34334C4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35E71-3DD1-4EB5-9B4E-CB198F2C2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0AEE-C4B9-4AE2-9A32-7BF6057D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4815-E581-4ED2-ADCC-2927207D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A8BA-A60A-4A35-858A-04E03363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3753-8494-4ED0-A50A-2AB64EB17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148A-F418-484D-9A5D-38C608F76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295280" y="640080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6480" y="-360"/>
            <a:ext cx="9124920" cy="392040"/>
            <a:chOff x="6480" y="-360"/>
            <a:chExt cx="9124920" cy="392040"/>
          </a:xfrm>
        </p:grpSpPr>
        <p:sp>
          <p:nvSpPr>
            <p:cNvPr id="6" name=""/>
            <p:cNvSpPr/>
            <p:nvPr/>
          </p:nvSpPr>
          <p:spPr>
            <a:xfrm>
              <a:off x="6480" y="4680"/>
              <a:ext cx="9124920" cy="3808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a:off x="99072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V="1">
              <a:off x="211284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V="1">
              <a:off x="330660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a:off x="576432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695628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V="1">
              <a:off x="815040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4568760" y="-360"/>
              <a:ext cx="0" cy="3920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380880"/>
            <a:ext cx="769608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G8 #8 Meeting Palm Springs August 2001</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venor’s Report</a:t>
            </a:r>
            <a:endParaRPr b="0" lang="en-US" sz="2800" spc="-1" strike="noStrike">
              <a:solidFill>
                <a:srgbClr val="000000"/>
              </a:solidFill>
              <a:latin typeface="Times New Roman"/>
            </a:endParaRPr>
          </a:p>
        </p:txBody>
      </p:sp>
      <p:sp>
        <p:nvSpPr>
          <p:cNvPr id="51" name=""/>
          <p:cNvSpPr/>
          <p:nvPr/>
        </p:nvSpPr>
        <p:spPr>
          <a:xfrm>
            <a:off x="304920" y="1752480"/>
            <a:ext cx="8229600" cy="44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Topic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mmendations to SC24 from Lake Tahoe meeting</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tus of Category C Liaison Agreement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nadian NB comments on EDC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suggestion for registration of items in EDCS, FACC and S-57</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eeting of Joint Steering Group on Spatial Stanardisation, Septe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33520"/>
            <a:ext cx="76960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mmendations to SC24 at Last Meeting</a:t>
            </a:r>
            <a:endParaRPr b="0" lang="en-US" sz="2800" spc="-1" strike="noStrike">
              <a:solidFill>
                <a:srgbClr val="000000"/>
              </a:solidFill>
              <a:latin typeface="Times New Roman"/>
            </a:endParaRPr>
          </a:p>
        </p:txBody>
      </p:sp>
      <p:sp>
        <p:nvSpPr>
          <p:cNvPr id="53" name=""/>
          <p:cNvSpPr/>
          <p:nvPr/>
        </p:nvSpPr>
        <p:spPr>
          <a:xfrm>
            <a:off x="380880" y="1371600"/>
            <a:ext cx="8229600" cy="49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2000" spc="-1" strike="noStrike">
                <a:solidFill>
                  <a:srgbClr val="000000"/>
                </a:solidFill>
                <a:latin typeface="Arial"/>
              </a:rPr>
              <a:t>Request to forward the following Working Drafts to FCD</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DC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DCS Language Binding</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RM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RM Language Binding</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Continue Participation in Joint Steering Group (JSG) on Spatial Standardization</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Appoint the following Liaison Officers</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ck Puk for SEDRI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eve Carson and Paul Foley for TC211</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eve Carson for the JSG on Spatial Standardization</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ul Foley for O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19520" y="380880"/>
            <a:ext cx="3429000" cy="397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38080" y="1066680"/>
            <a:ext cx="7086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762120" y="380880"/>
            <a:ext cx="777240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us of Category C Liaison Agreeements</a:t>
            </a:r>
            <a:endParaRPr b="0" lang="en-US" sz="2800" spc="-1" strike="noStrike">
              <a:solidFill>
                <a:srgbClr val="000000"/>
              </a:solidFill>
              <a:latin typeface="Times New Roman"/>
            </a:endParaRPr>
          </a:p>
        </p:txBody>
      </p:sp>
      <p:sp>
        <p:nvSpPr>
          <p:cNvPr id="57" name=""/>
          <p:cNvSpPr/>
          <p:nvPr/>
        </p:nvSpPr>
        <p:spPr>
          <a:xfrm>
            <a:off x="304920" y="1143000"/>
            <a:ext cx="8610480" cy="49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GC</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pen GIS Consortium)</a:t>
            </a:r>
            <a:endParaRPr b="0" lang="en-US" sz="20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eement in plac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mited liaison, as OGC not defining a feature catalogue or spatial reference model</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DGIWG / FACC         (Digital Geographic Information Working Group)</a:t>
            </a:r>
            <a:endParaRPr b="0" lang="en-US" sz="20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al in principal.</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to request SC24 to take a ballot</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IHO / S-57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International Hydrographic Organization)</a:t>
            </a:r>
            <a:endParaRPr b="0" lang="en-US" sz="20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al in principal.</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to request SC24 to take a ballot</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WMO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World Meteorological Organization)</a:t>
            </a:r>
            <a:endParaRPr b="0" lang="en-US" sz="20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l contacts to gain approval to proceed are still in progr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19520" y="380880"/>
            <a:ext cx="3429000" cy="397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38080" y="1066680"/>
            <a:ext cx="7086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762120" y="380880"/>
            <a:ext cx="777240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adian NB comment on EDCS</a:t>
            </a:r>
            <a:endParaRPr b="0" lang="en-US" sz="2800" spc="-1" strike="noStrike">
              <a:solidFill>
                <a:srgbClr val="000000"/>
              </a:solidFill>
              <a:latin typeface="Times New Roman"/>
            </a:endParaRPr>
          </a:p>
        </p:txBody>
      </p:sp>
      <p:sp>
        <p:nvSpPr>
          <p:cNvPr id="61" name=""/>
          <p:cNvSpPr/>
          <p:nvPr/>
        </p:nvSpPr>
        <p:spPr>
          <a:xfrm>
            <a:off x="380880" y="1219320"/>
            <a:ext cx="8534520" cy="469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Received from Roz Waddell, Standards Council of Canada            2001-7-17</a:t>
            </a:r>
            <a:endParaRPr b="0" lang="en-US" sz="20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 supports the development of project 18025 the Environmental Data Coding Specification (EDCS), and especially the establishment of a mechanism for authoritative referencing to other standardized or registered definitions of features and attributes.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felt that a system of co-operative agreements will be needed to establish authoritative references between different groups within ISO and with external liaison organizations. This should be addressed at the JSG. Also the ISO TC211 DIS 19110 on Feature Cataloguing Methodology should be followed as applicable. </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ada also supports the use of the SI Metric System as the basic system of measure for attribute values in the EDCS and feels that this approach should be encouraged for other feature catalogues and data dictionaries, or a conversion should be provided to SI un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1295280"/>
            <a:ext cx="8305920" cy="46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Referencing between EDCS, FACC and S-57 is often not exact because;</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cope may be different, e.g. ‘Earth’ v. ‘Terrain’</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catalogue may subsequently change independently</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uggestion to Introduce</a:t>
            </a:r>
            <a:r>
              <a:rPr b="0" lang="en-GB" sz="1800" spc="-1" strike="noStrike">
                <a:solidFill>
                  <a:srgbClr val="000000"/>
                </a:solidFill>
                <a:latin typeface="Arial"/>
              </a:rPr>
              <a:t> </a:t>
            </a:r>
            <a:r>
              <a:rPr b="1" lang="en-GB" sz="2000" spc="-1" strike="noStrike">
                <a:solidFill>
                  <a:srgbClr val="000000"/>
                </a:solidFill>
                <a:latin typeface="Arial"/>
              </a:rPr>
              <a:t>Registration Numbers</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uggested by Doug O’Brien of Canada that, if a registration number was used instead of a code (e.g. FACC AA010), then it would provide a more rigorous cross-referencing system.</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Discuss at JSG Meeting </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hould this be discussed at the JSG ?</a:t>
            </a:r>
            <a:endParaRPr b="0" lang="en-US" sz="1800" spc="-1" strike="noStrike">
              <a:solidFill>
                <a:srgbClr val="000000"/>
              </a:solidFill>
              <a:latin typeface="Times New Roman"/>
            </a:endParaRPr>
          </a:p>
        </p:txBody>
      </p:sp>
      <p:sp>
        <p:nvSpPr>
          <p:cNvPr id="63" name=""/>
          <p:cNvSpPr/>
          <p:nvPr/>
        </p:nvSpPr>
        <p:spPr>
          <a:xfrm>
            <a:off x="609480" y="457200"/>
            <a:ext cx="784872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of Items in EDCS, FACC and S-5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1981080"/>
            <a:ext cx="830592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Representatives for SC 24/WG 8 and SEDRIS</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proposed tha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eve Carson represents WG 8</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ura Moore represents SC 24</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id represents SEDRIS</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2000" spc="-1" strike="noStrike">
                <a:solidFill>
                  <a:srgbClr val="000000"/>
                </a:solidFill>
                <a:latin typeface="Arial"/>
              </a:rPr>
              <a:t>Topics to be Discussed</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ross-referencing between EDCS, FACC, S-57 and WMO catalogu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ssues related to SRM ?</a:t>
            </a:r>
            <a:endParaRPr b="0" lang="en-US" sz="1800" spc="-1" strike="noStrike">
              <a:solidFill>
                <a:srgbClr val="000000"/>
              </a:solidFill>
              <a:latin typeface="Times New Roman"/>
            </a:endParaRPr>
          </a:p>
        </p:txBody>
      </p:sp>
      <p:sp>
        <p:nvSpPr>
          <p:cNvPr id="65" name=""/>
          <p:cNvSpPr/>
          <p:nvPr/>
        </p:nvSpPr>
        <p:spPr>
          <a:xfrm>
            <a:off x="609480" y="457200"/>
            <a:ext cx="784872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SG on Spatial Standardization Meet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va, 17, 18 September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3T07:48:48Z</dcterms:created>
  <dc:creator>Roger Loveless</dc:creator>
  <dc:description>typos and other corrections made by Tim also removed SEDRIS logo as it was old logo and probably should not be included in Convenor's report</dc:description>
  <dc:language>en-US</dc:language>
  <cp:lastModifiedBy>Roger Loveless</cp:lastModifiedBy>
  <dcterms:modified xsi:type="dcterms:W3CDTF">2001-07-31T18:51:10Z</dcterms:modified>
  <cp:revision>10</cp:revision>
  <dc:subject/>
  <dc:title>No Slide Title</dc:title>
</cp:coreProperties>
</file>