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552-0DE4-457B-AB27-E107A6C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C89-AA85-4A98-933C-D1D6B5AB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82A-F9F6-4793-A7AB-93E8CE90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B8C-CDA1-43EC-BA76-284A676F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973-CE3F-44E2-9D9A-01382C6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6B4-DB6F-4E8D-A3B2-D59614D0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B84-1421-45D5-A393-C4D5DAA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2AB-1578-4AF9-ABEC-5BD08294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884-DAB7-4834-92A8-40FD96A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7D5-7A50-49B1-9584-CD0A383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6E0-1738-4BBC-B5D1-DD8A264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5B7-77C1-4BD3-905E-7860D253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BC4-C978-4F60-A39F-E57B584CD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ligion related concep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ve Ca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SC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JTC 1/SC 24 WG 8 Palm Springs, CA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finition of relig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SOED Definition of religion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Belief in or sensing of some superhuman controlling power or powers, entitled to obedience, reverence, and worship, or in a system defining a code of living, esp. as a means to achieve spiritual or material improvement; acceptance of such belief (esp. as represented by an organized Church) as a standard of spiritual and practical life; the expression of this in worship etc.  ME. 4 A particular system of such belief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ＭＳ 明朝"/>
              </a:rPr>
              <a:t>Classification of faith group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ominational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nstance, an individual in the United States may identify herself as "Christian" in a general survey. She is probably aware that her church is quite different from some Christians. She is a Protestant; she has Catholic neighbors who she knows are Christians, but a different kind of Christian. She may explain she is a Presbyterian when telling her coworkers what church she goes to. If she is active in a congregation, she can probably identify a specific religious body (or "denomination"), such as the Presbyterian Church (U.S.A.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- continu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erson'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relig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Christian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is part of the Protestant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ran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Christian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is Presbyterian. Presbyterianism is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nominational fami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in Protestantis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byterian Church (U.S.A.) is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ligious body (or denominatio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he belongs 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ly, the Oakview Presbyterian Church is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greg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he attend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8:10:42Z</dcterms:created>
  <dc:creator>Steve Carson</dc:creator>
  <dc:description/>
  <dc:language>en-US</dc:language>
  <cp:lastModifiedBy>Steve Carson</cp:lastModifiedBy>
  <dcterms:modified xsi:type="dcterms:W3CDTF">2001-08-20T14:55:13Z</dcterms:modified>
  <cp:revision>38</cp:revision>
  <dc:subject/>
  <dc:title>EDCS Concepts</dc:title>
</cp:coreProperties>
</file>