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414-40D7-4524-9D12-71323ADC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AC6-68C1-4ABF-8DBE-7C167B40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0C0-C1BE-4895-BD67-3586931A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651-E49E-4632-B765-C08D2EF4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085-C73A-4108-98E9-7A0C5AA1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B79-AAB0-4E9C-8C19-C62BD9D2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9E1-B1F1-42E0-828A-610AC1F9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9E9-98D5-4B6C-B2CE-7CCCBB7C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F5C-432B-4F0D-B1F7-4BD6565C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766-EF3A-4343-A74E-C4A38F68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3E3-9626-4A0E-AF11-BB9C7387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9CE-B69D-4161-A2EF-477AA598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SC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165B-58DD-47B0-A316-6B64EB5A5E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aming Concepts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ve Car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SC Associ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JTC 1/SC 24 WG 8 Amsterdam, The Netherl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ggested approach to naming - 3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 EA NAMING_SCHEME. This EA is of type ENUMERATION and defined as "A scheme that associates an organization that administers a specification assigning names with a specification of how those names are mapped to EA STRING values.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initial NAMING_SCHEME valu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O_COUNTRY_NAME  -- ISO assigned Country Names (ref ISO 3166-1:1997, Codes for the representation of names of countries and their subdivisions -- Part 1: Country cod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_COUNTRY_NAME  UN assigned Country Nam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TED_STATES_GOVERNMENT_COUNTRY_NAME  -- United States Government assigned Country names in FIPS xx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CAO_LOCATION_IDENTIFIER -- ICAO assigned Location Identifiers (like KOR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TED_STATES_GOVERNMENT_AVIATION_LOCATION_IDENTIFIER  -- United States Government assigned Aviation Location Identifiers (like OR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TED_STATES_GOVERNMENT_NAVY_SHIP_HULL_NUMBER  -- United States Government assigned Navy ship hull number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TED_KINGDOM_GOVERNMENT_NAVY_SHIP_HULL_NUMB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ted Kingdom Government assigned Navy ship hull number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TED_STATES_GOVERNMENT_PAINT_SCHEME_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 that we have the following 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 NAMING_SCHEME of type ENUMERATION as described previous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 NAME sub-typed from STRING -- used when an imprecise name is appropri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 CONSTRAINED_NAM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b-typed from NAME -- used when a precisely specified name is nee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ample 1: Country nam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C 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this can be associat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 NAME or EA CONSTRAINED_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an EA CONSTRAINED_NAME is associated, then an EA NAMING_SCHEME is also associ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ecific EC NATION instance may have associat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) EA NAME, value "Republic of Taiwan"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) EA CONSTRAINED_NAME, value "Taiwan, Province of China" and EA NAMING_SCHEME, value UN_COUNTRY_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) EA CONSTRAINED_NAME, value "Taiwan" and EA NAMING_SCHEME, value UNITED_STATES_GOVERNMENT_COUNTRY_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ehicle paint schem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n an EC TANK and an EA VEHICLE_CHARACTERISTIC that is ENUMERATED with val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UFACTUR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W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ER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INT_SCHE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CEN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TAN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 VEHICLE_CHARACTERISTIC , value EE PAINT_SCHE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 CONSTRAINED_NAME, value "Algeria"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 NAMING_SCHEME, value UN_COUNTRY_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ehicle paint schemes - continu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TA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 VEHICLE_CHARACTERISTIC , value EE PAINT_SCHE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 CONSTRAINED_NAME, value "Algeria"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 NAMING_SCHEME, value UNITED_STATES_GOVERNMENT_PAINT_SCHEME_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MOTOR_VEH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 VEHICLE_CHARACTERISTIC , value EE LICEN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 CONSTRAINED_NAME, value "Maryland DMV"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 NAMING_SCHEME, value UNITED_STATES_GOVERNMENT_D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atement of the problem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environmental data representation there is a requirement to be able to identify individual instances of certain concepts. Lets call these "Entity Identification Name Spaces" or EINS for purposes of this discu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36576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43434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77120" y="43434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0384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47242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48769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51055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52578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5791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5791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ers/N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809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886200"/>
            <a:ext cx="8384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733920"/>
            <a:ext cx="8384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4114800"/>
            <a:ext cx="8380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4495680"/>
            <a:ext cx="838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419720"/>
            <a:ext cx="8384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724280"/>
            <a:ext cx="838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5105520"/>
            <a:ext cx="8380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3505320"/>
            <a:ext cx="8380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4876920"/>
            <a:ext cx="8380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410080"/>
            <a:ext cx="838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3581280"/>
            <a:ext cx="13716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3962520"/>
            <a:ext cx="175248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4267080"/>
            <a:ext cx="22096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181480" y="4266720"/>
            <a:ext cx="10670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181480" y="4419360"/>
            <a:ext cx="83844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029200" y="38095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352680"/>
            <a:ext cx="3048120" cy="99072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4343400"/>
            <a:ext cx="3505320" cy="129528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219320" y="3885840"/>
            <a:ext cx="9144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4267080"/>
            <a:ext cx="7621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aracteristics of name spa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 of individual instances of some concepts is lar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ample, there are many thousands of individual aircraft and watercraft and many millions of land vehicles and individual life form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often too many instances to individually list them all in an International Standar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dentifiers used to denote specific instances change over time as new entities are created and others are destroy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aracteristics of name spaces - continu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 are used to hold values that identify instances of EC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some EAs whose attribute value types are presently ENUMERATION or STRING that have hundreds of possible value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 are the names of countries (ENUMERATION in "national paint schemes", but also needed and useful elsewhere) and identifiers for facilities used in aviation (at present STRING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aracteristics of name spaces - continu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tential names or identifiers are often dependent on perspective, that is, who is doing the naming or ident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ames or identifiers change over time (historically, the values have changed and/or they will continue to change in the future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1: the political subdivisions and the names for them that were in common use in 500 BCE, 1850 or 1940 are different from those used to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2: different names are assigned to the same instance by those with different perspectiv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irport identifiers (ICAO 4 character; US FAA 3 character; etc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s of countries (UN “Taiwan Province of China” vs. US “Taiwan”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bservations on name typ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 an EA of type STRING is used for names, then the format must be definitively specified to avoid interoperability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 an EA of type ENUMERATION is used for names, then the number of enumerated values should be relatively small and s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aming author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naming authorities that "own" EINS  and assign and manage the names in the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ant to leverage the work of these naming authorities and not duplicate or replace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UN has a committee that assigns names for countr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US Government assigns personal identification numbers called "Social Security Numbers" to individu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Netherlands government assigns registration numbers (“hull numbers”) to water cra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French government assigns registration numbers (“tail numbers” to aircra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ggested approach to nam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ach EINS , identify a Naming Authority that assigns names to entities in that space. For examp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ufacturers assign serial numbers to products that they produc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overnmental entities assign identification numbers to entities in some  EINS. Examples include hull numbers, tail numbers, license plate numbers, national health insurance numbers etc. to entiti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UN assigns names to countri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untries assign names to other count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ggested approach to naming - 2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EAs of value type STRING to hold names/identifi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essential that the mapping from names as assigned by the Naming Authority to string EA values is well specif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Assume a license plate number that appears on a vehicle "ZYX 123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 space that appears between "X" and "1" coded in the STRING or not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at is, do we code this license plate as "ZYX 123" or "ZYX123"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a license plate number contains up to 7 numbers or digits and an individual license plate "123" has three digits, is this represented as "123" or "123   " (four trailing spaces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18:10:42Z</dcterms:created>
  <dc:creator>Steve Carson</dc:creator>
  <dc:description/>
  <dc:language>en-US</dc:language>
  <cp:lastModifiedBy>Steve Carson</cp:lastModifiedBy>
  <dcterms:modified xsi:type="dcterms:W3CDTF">2001-11-08T23:54:38Z</dcterms:modified>
  <cp:revision>52</cp:revision>
  <dc:subject/>
  <dc:title>EDCS Concepts</dc:title>
</cp:coreProperties>
</file>