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0BB-1AF2-4EB0-AF44-5C65EF8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1EE-8869-4BC2-9708-18C8BD8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888-F6B5-4F41-B3B0-94BEA6E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EBF-3C4F-449B-972F-DD43D6F7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2FD-0070-4A98-A682-5345752A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4E4-DD70-4CA0-B2AA-FF12EA28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E73-48D1-4B7B-A046-1C30BD84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809-FA00-4E49-A034-3CA55663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913-FFF6-4025-875B-C9A6CC5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17D-12B0-48AC-8F01-DCE81E2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59E-E119-4EEE-977E-0E13333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EA9-B1EF-4CB7-84B4-2CEF775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5BA-DB98-421F-958F-2D3EF37F3D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ing format definition approach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STRING_SCHEME Dictionar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O_COUNTRY_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_COUNTRY_N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ED_STATES_GOVERNMENT_COUNTRY_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CAO_LOCATION_IDENT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ED_STATES_GOVERNMENT_AVIATION_LOCATION_IDENTIFI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ED_STATES_GOVERNMENT_NAVY_SHIP_HULL_NU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ED_KINGDOM_GOVERNMENT_NAVY_SHIP_HULL_NU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ED_STATES_GOVERNMENT_PAINT_SCHEME_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these fundamental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STRAINED_STRING  (each EA of this Attribute Value Type must have an associated entry from the STRING_SCHEME diction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hicle paint schem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: 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 T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PAINT_SCHEME that is of type CONSTRAINED_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TA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 PAINT_SCHEME, value "Algeria" and associ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ING_SCHEME dictionary entry , value UN_COUNTRY_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8:10:42Z</dcterms:created>
  <dc:creator>Steve Carson</dc:creator>
  <dc:description/>
  <dc:language>en-US</dc:language>
  <cp:lastModifiedBy>Tim Gifford</cp:lastModifiedBy>
  <dcterms:modified xsi:type="dcterms:W3CDTF">2001-11-09T16:53:16Z</dcterms:modified>
  <cp:revision>55</cp:revision>
  <dc:subject/>
  <dc:title>EDCS Concepts</dc:title>
</cp:coreProperties>
</file>