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C7E-49A8-4BD1-919F-EA0E72E1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DF1-5AAE-4171-8968-E985E728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FA5-9E53-4750-BD8F-51BDAF1E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E83-CE00-420C-A658-54B0D334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DA1-BF41-4BF1-BAFD-C76C48BD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DA3-C0C8-4D81-8201-2399760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9FA-5710-4584-B078-245294F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DD1-D63C-4980-BA35-C559E98C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FC3-679B-4EF9-9C81-98B86AE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95F-1079-4F2A-B811-65A2D0E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18F-7687-422F-810F-948970E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29E-DF3E-4A8A-9E1B-E14FF5A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3F73-9B57-4C29-B208-5B07C2978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640080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-360"/>
            <a:ext cx="9124920" cy="392040"/>
            <a:chOff x="6480" y="-360"/>
            <a:chExt cx="9124920" cy="392040"/>
          </a:xfrm>
        </p:grpSpPr>
        <p:sp>
          <p:nvSpPr>
            <p:cNvPr id="6" name=""/>
            <p:cNvSpPr/>
            <p:nvPr/>
          </p:nvSpPr>
          <p:spPr>
            <a:xfrm>
              <a:off x="6480" y="4680"/>
              <a:ext cx="9124920" cy="3808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99072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211284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330660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576432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695628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815040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456876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880"/>
            <a:ext cx="769608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G8 #9 Mee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sterdam, November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or’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548640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 of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int Steering Group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TC1 Plenary, Hawa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MO Li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le for ISO Bulle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Steering Group on Spatial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95280"/>
            <a:ext cx="8229600" cy="51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planned for September 18, 19in Geneva was cancell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e to international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 8 topics would have been EDCS/FACC/S-57 co-ordination and S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ra Moore has issued a Report - SC 24 N 2036 identifying the following objectives of the J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rdination of Establishment of Cat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tion Based Services - New work item proposals from TC 2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monization of SQL/MM/ISO 19125-2/OGC - Feature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Time Locating System (RTLS) - Cellular locating / pos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e Participation in Joint Steering Group (JSG) on Spatial Standardiz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880"/>
            <a:ext cx="3429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0666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8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TC1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830556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d in Hawaii, 29 October - 2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 24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ern at Proposals for restructuring JT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ults of Meeting not ye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380880"/>
            <a:ext cx="3429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7524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8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Meteorological Organization (W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523880"/>
            <a:ext cx="8534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egory C Liaison not required, since WMO is an internationally recognized standards making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with WMO Representatives on 6 Novemb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828800"/>
            <a:ext cx="784836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via Laura Moore for an article on the work of SC 24/WG 8 for the ISO Bulle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uld want to emphasise ISO/Industry co-operativ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lling to write an article, but any contributions welco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icle for ISO Bulle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07:48:48Z</dcterms:created>
  <dc:creator>Roger Loveless</dc:creator>
  <dc:description>typos and other corrections made by Tim also removed SEDRIS logo as it was old logo and probably should not be included in Convenor's report</dc:description>
  <dc:language>en-US</dc:language>
  <cp:lastModifiedBy>cogman</cp:lastModifiedBy>
  <dcterms:modified xsi:type="dcterms:W3CDTF">2001-11-05T18:53:29Z</dcterms:modified>
  <cp:revision>11</cp:revision>
  <dc:subject/>
  <dc:title>No Slide Title</dc:title>
</cp:coreProperties>
</file>