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018-C4D1-4163-9D59-C186839A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9CA-2641-4882-9FF6-22100891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758-4224-4545-8018-10EA7A49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452-2060-48E9-B429-6B262C8C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B46-247C-42CA-BD76-A29246BE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79D-F01E-4E0D-88A4-815BB8C6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BE0-FDF4-4A86-B2F5-C7E4E160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E4C-C385-44C0-A11B-5E472E48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0FB-ABE4-4676-A636-C0293158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C39-2533-41E3-9BAA-3773A117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01F-E7B8-445B-AAF9-0906637C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72C-1579-4488-85B6-DDC4865A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e9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Februar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8 #10 Santa Fe,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5DBB-F7A1-451B-BEC2-17795943D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7315200" y="5105520"/>
            <a:ext cx="1270080" cy="126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50000">
              <a:srgbClr val="e9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DRIS Liaison Organiz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O/IEC JTC 1/SC 24 Working Group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nth Meetin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-21 February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nta Fe, New Mexic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3600" y="5638680"/>
            <a:ext cx="2215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Berner, Ph.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DR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ner@Consultan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e9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orms to  EDCS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CD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new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use of Metadata in D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release expected in a few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a testing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e9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M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I conversion implem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d data structures for SRF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gging behind the some of the newer concepts in WD5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e9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M &amp;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DRIS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head of the current SEDRIS W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M &amp; API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CS C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data structures (S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8 actio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M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e9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DRIS Technology Confer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6324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STC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torials/Training/Panels/Exhi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couver, British Columbia,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 of Aug 19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4:56:50Z</dcterms:created>
  <dc:creator>Paul Berner, Ph.D.</dc:creator>
  <dc:description/>
  <dc:language>en-US</dc:language>
  <cp:lastModifiedBy>Paul Berner, Ph.D.</cp:lastModifiedBy>
  <dcterms:modified xsi:type="dcterms:W3CDTF">2002-02-15T19:02:40Z</dcterms:modified>
  <cp:revision>3</cp:revision>
  <dc:subject>WG8 Santa Fe meeting</dc:subject>
  <dc:title>SEDRIS Liaison Organization Report</dc:title>
</cp:coreProperties>
</file>