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81B-0385-4D89-A8BB-E671DC44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061-2912-4A1C-A6EE-40F4E5C7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F20-5EF8-4AED-B4D8-666E087A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332-C79E-4735-92A3-35EC203C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199-EF55-4406-9F5B-40E378D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6F0-A906-422C-A770-C7BD728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6F2-3C8E-43A0-A9ED-55AD766F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4A1-7591-4112-8B3B-513CC16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C4E-F89A-4582-9F46-A3243885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D35-4432-4640-9695-97FCCD7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765-F435-4BA9-93F8-0E110DD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ACA-F87C-4376-AC8E-73B71CE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4AE3-9875-40F3-9032-90A7311EB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8951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do under ISO / IEC 9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technolog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and image processing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es for registration of graph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  Additional Classes of Graphical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set of graphical item classes is listed in ANNEX 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 most recent  list of classes of graphical items is maintained by  the Registration Authority.  Additional classes of graphical items may be added to the register according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gistration  Rapporteur Group, in consultation  with  the functional standards Working Group identifies the need for a new class of registered item.   The group produces a document that describes the new class that it wishes to sponsor and circulates it to the Working Groups of  ISO/IEC JTC1/SC24 for com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onsoring Working Group, in collaboration with the Registration Rapporteur Group, processes the comments received and forwards the revised proposal to the Secretariat of ISO/IEC JTC1/SC24 for an SC24 letter ball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 - The Registration Rapporteur Group, in consultation with the sponsoring Working Group, resolves any comments submitted with vo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 - The Secretariat of ISO/IEC JTC1/SC24 forwards the final proposal to the Registration Auth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5 - T he Registration Authority updates the Register, the Information Pack, and distributes the results to the public upon requ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tion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5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ssues, forwarded by Steve Kerr, address extension of the existing SC24 Registry for Graphical Items to incorporate SEDRIS registration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What year(s) do folks expect to need new “classes” added to the regis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arting CY2002 for EDCS, CY2003 for SRM &amp; SED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How many new classes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23-1 SEDRIS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Item Data Type Enume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Data Type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tem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25 Environmental Data Coding Specification (EDCS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 Entrie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Classif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Meta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Attribu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Attribute Enumera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Organizational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Unit Equivalence 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Unit Sc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S Schema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tion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How many new classes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26 Spatial Reference Model (SRM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Dat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36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Datum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ferenc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Reference Frame Class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Reference Fram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5512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s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Will the classes be simple lists?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, expected list size in the first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ations for list growth in subsequent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If other than simple lists, we need some sense of the expected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Expectations for “on-line” availability of the registered items, or will paper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-ROM distribution suffice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on-line”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 Projected number of annual requests for register content (i.e., 10’s. 100’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’s)? 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ly in the 100’s to 1000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 Any unique / special requirements?    Responsiveness (Discu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04:01Z</dcterms:created>
  <dc:creator>Paul Foley</dc:creator>
  <dc:description/>
  <dc:language>en-US</dc:language>
  <cp:lastModifiedBy>Tim Gifford</cp:lastModifiedBy>
  <dcterms:modified xsi:type="dcterms:W3CDTF">2002-02-21T13:50:16Z</dcterms:modified>
  <cp:revision>5</cp:revision>
  <dc:subject/>
  <dc:title>Registration Questions?</dc:title>
</cp:coreProperties>
</file>