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C19-0AB5-4145-A45E-B2B72BD9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9BB-EB8F-48C9-A286-D6EBCD96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903-0AD8-474A-B358-9A63881E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06F7-EEE0-4208-A354-326FD943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EBA-A7AA-4536-A209-E93A8B61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D39B-318C-454E-87A4-5C97806D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775-C939-4D5E-81C5-47D3CBAA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EDF-43FA-4DC9-AFC4-5F495DE4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DAC-A910-4147-8045-452B2FFC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60A-6898-4878-A0E1-B7B313EC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AF0-77B8-4789-A03C-104C69EF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88A-22FD-4663-B302-2F185380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A20B-BE53-4C5A-933B-EB7374F40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95280" y="640080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-360"/>
            <a:ext cx="9124920" cy="392040"/>
            <a:chOff x="6480" y="-360"/>
            <a:chExt cx="9124920" cy="392040"/>
          </a:xfrm>
        </p:grpSpPr>
        <p:sp>
          <p:nvSpPr>
            <p:cNvPr id="6" name=""/>
            <p:cNvSpPr/>
            <p:nvPr/>
          </p:nvSpPr>
          <p:spPr>
            <a:xfrm>
              <a:off x="6480" y="4680"/>
              <a:ext cx="9124920" cy="38088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99072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211284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330660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576432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695628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815040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456876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80880"/>
            <a:ext cx="7696080" cy="181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G8 #10 Meeting, Santa Fe, N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or’s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590920"/>
            <a:ext cx="640080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mmary of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ession to 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MO interest in SED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delines on Submitting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act with Swedish Standards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45720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ion to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752480"/>
            <a:ext cx="800100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an Stride has reminded us that all Standards are expected to progress to the CD stage within 3 years of being appr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DRIS, SEDRIS LB, EDCS and SRM were approved in February 2000, hence must reach CD by February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CS and SRM should be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DRIS and SEDRIS LB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9520" y="380880"/>
            <a:ext cx="3429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06668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80880"/>
            <a:ext cx="777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MO Interest in SED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7920"/>
            <a:ext cx="83055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ation on SEDRIS given to WMO Specialist Group in November 200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Data Interchange, the WMO Specialist group is focussed on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an Environmental Data Catalog, the Group sees the value of EDCS and would like to keep in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19520" y="380880"/>
            <a:ext cx="3429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75248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533520"/>
            <a:ext cx="777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delines for Submitting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981080"/>
            <a:ext cx="82296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cedent established by SC 29/WG 1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mplate for Comments was sent out for use with  MPE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at the Guidelines being interpreted in the wrong m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 of Appreciation of the EDCS Guidelines has been received from 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1828800"/>
            <a:ext cx="7848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ing the SEDRIS Workshop in Stockholm, November 2001, an attempt was made to re-establish contact with the Swedish Standards Bo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ious contact was Bo Viklund, but he is no longer inv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wedish Defence personnel (FMV) are involved with TC 211, but have not yet been able to interest them in SC 2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57200"/>
            <a:ext cx="784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act with Sweden Standards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3T07:48:48Z</dcterms:created>
  <dc:creator>Roger Loveless</dc:creator>
  <dc:description>typos and other corrections made by Tim also removed SEDRIS logo as it was old logo and probably should not be included in Convenor's report</dc:description>
  <dc:language>en-US</dc:language>
  <cp:lastModifiedBy>cogman</cp:lastModifiedBy>
  <dcterms:modified xsi:type="dcterms:W3CDTF">2002-02-14T20:00:23Z</dcterms:modified>
  <cp:revision>13</cp:revision>
  <dc:subject/>
  <dc:title>No Slide Title</dc:title>
</cp:coreProperties>
</file>