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86B-DF30-493F-8FC5-D00A352A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D8E-1DEA-4FF6-95B5-51D25384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729-BC41-4A0C-91A6-CC138D1D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27E-DBF9-462A-80DE-8CF9F725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C00-F5E8-4F41-9754-00234D4A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2F4-F6C5-4470-8440-E35C61DC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DFB-DDE2-4600-929E-C7DF78CE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D1D-3FD0-4A5A-9F84-9C0368EC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2F2-D031-4E86-86D4-1FBD27F4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B58-305D-4041-83A9-3C56D3C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94F-B09D-493F-A96B-37AC9071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D07-A7F5-40E3-8435-D6459906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4027-7B38-4AC2-A4FC-CC4AF2FD8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ment Identifier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_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ORG_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_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_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NOT insert using automatic numb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ke “ORG” consistent (MEXICO vs Mexic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ntify Table # to which comments app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n referencing a Comment ID elsewhere, delete underscore &amp; colon (e.g.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6:29:11Z</dcterms:created>
  <dc:creator>.</dc:creator>
  <dc:description/>
  <dc:language>en-US</dc:language>
  <cp:lastModifiedBy>wentzg.</cp:lastModifiedBy>
  <dcterms:modified xsi:type="dcterms:W3CDTF">2002-03-25T15:09:32Z</dcterms:modified>
  <cp:revision>3</cp:revision>
  <dc:subject/>
  <dc:title>Comment Identifier Format</dc:title>
</cp:coreProperties>
</file>