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0E2-6E83-47F5-8A7C-C580EF20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nformation shall be submitted for a proposal of any class of graphical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classes may be identified in the ISO graphics standards as being registerable i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s for adding, deleting or adding language bindings or encodings may be made by the following Sponsoring Authorit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ISO or IEC Technical Committee or Sub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‑member or O‑member of ISO/IEC JTC1 or ISO/IEC JTC1/SC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international organization having Category A liaison status with ISO/IEC JTC1 or ISO/IEC/JTC1/SC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B93-A1C9-4D75-A80B-66967B42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151-4996-447E-9D6C-545E1369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1BE-8182-43B2-9965-5EC44AF1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910-2235-49E7-B88C-1F9217A1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5B8-FBFF-4686-BB54-B0B5275F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E5B-EC62-4089-A1B6-F09A41EE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5AF-7F44-4EDC-8058-6E4FF450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F03-5448-4D35-B1F6-553CE79F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56C-6169-46B3-8E93-18E083AE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758-CFBC-4966-B9CA-EAD9F17A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F30-5360-42E6-BE3B-D3624973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401-7594-48BB-AF65-7CB3696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SC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9063-B74E-4692-90F1-8ABB11FDDE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gistration Concept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ve Ca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SC Assoc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JTC 1/SC 24 WG 8 Cochem, Germ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ril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 EC proposal proform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EC%20proposal" descr=""/>
          <p:cNvPicPr/>
          <p:nvPr/>
        </p:nvPicPr>
        <p:blipFill>
          <a:blip r:embed="rId1"/>
          <a:stretch/>
        </p:blipFill>
        <p:spPr>
          <a:xfrm>
            <a:off x="380880" y="833400"/>
            <a:ext cx="84582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 page of a blank profile proform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CGM%20Proforma%202" descr=""/>
          <p:cNvPicPr/>
          <p:nvPr/>
        </p:nvPicPr>
        <p:blipFill>
          <a:blip r:embed="rId1"/>
          <a:stretch/>
        </p:blipFill>
        <p:spPr>
          <a:xfrm>
            <a:off x="685800" y="880920"/>
            <a:ext cx="777240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 page of a filled-in profile proform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CGM%20Proforma" descr=""/>
          <p:cNvPicPr/>
          <p:nvPr/>
        </p:nvPicPr>
        <p:blipFill>
          <a:blip r:embed="rId1"/>
          <a:stretch/>
        </p:blipFill>
        <p:spPr>
          <a:xfrm>
            <a:off x="1752480" y="785880"/>
            <a:ext cx="601992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DCS Profile contents (4.14.14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DCS Profile shall specify a subset of this International Standard and its registered items 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list of EDCS Dictionari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each listed EDCS Dictionary, a list of entries in that dictionar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al EDCS Profile Constra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file Proforma example page 1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rofile%201" descr=""/>
          <p:cNvPicPr/>
          <p:nvPr/>
        </p:nvPicPr>
        <p:blipFill>
          <a:blip r:embed="rId1"/>
          <a:stretch/>
        </p:blipFill>
        <p:spPr>
          <a:xfrm>
            <a:off x="762120" y="736560"/>
            <a:ext cx="79246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file Proforma example page 2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profile%202" descr=""/>
          <p:cNvPicPr/>
          <p:nvPr/>
        </p:nvPicPr>
        <p:blipFill>
          <a:blip r:embed="rId1"/>
          <a:stretch/>
        </p:blipFill>
        <p:spPr>
          <a:xfrm>
            <a:off x="1447920" y="809640"/>
            <a:ext cx="61722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gistration in the EDCS (4.14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llowing eight types of EDCS Dictionary Entries may be register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C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U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Q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O,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, EDCS Profiles may also be regist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ngs to do to establish SEDRIS regist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SC 24 to allow Category C liaisons to be a Sponsoring Authority (recommendation to SC 2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proposal(s) to add new classes of registered items (ballot; see flow cha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decision tree for submitters and sponso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checklist for sponsors and registration auth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registration profo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how to register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th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s in regist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328760"/>
            <a:ext cx="83534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ndatory proposal conte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Date of 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ing Auth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f Graphical 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(if appropri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ture (if appropri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Com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fication for I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east one language binding or encoding (if appropri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dding a new class of item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23920" y="1047600"/>
            <a:ext cx="50961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ponsoring author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ISO or IEC Technical Committee or Subcommitt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P‑member or O‑member of ISO/IEC JTC1 or ISO/IEC JTC1/SC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international organization hav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y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aison status with ISO/IEC JTC1 or ISO/IEC/JTC1/SC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 blank proposal proform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Line%20type%201" descr=""/>
          <p:cNvPicPr/>
          <p:nvPr/>
        </p:nvPicPr>
        <p:blipFill>
          <a:blip r:embed="rId1"/>
          <a:stretch/>
        </p:blipFill>
        <p:spPr>
          <a:xfrm>
            <a:off x="914400" y="839880"/>
            <a:ext cx="73152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 filled out proposal proform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Line%20type%202" descr=""/>
          <p:cNvPicPr/>
          <p:nvPr/>
        </p:nvPicPr>
        <p:blipFill>
          <a:blip r:embed="rId1"/>
          <a:stretch/>
        </p:blipFill>
        <p:spPr>
          <a:xfrm>
            <a:off x="1066680" y="857160"/>
            <a:ext cx="70106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18:10:42Z</dcterms:created>
  <dc:creator>Steve Carson</dc:creator>
  <dc:description/>
  <dc:language>en-US</dc:language>
  <cp:lastModifiedBy>Steve Carson</cp:lastModifiedBy>
  <dcterms:modified xsi:type="dcterms:W3CDTF">2002-04-13T23:20:00Z</dcterms:modified>
  <cp:revision>68</cp:revision>
  <dc:subject/>
  <dc:title>EDCS Concepts</dc:title>
</cp:coreProperties>
</file>