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786A-4685-4888-B35E-6673CE19B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2471-A959-4D05-8E2B-8D4E3859D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C74C-70DE-4564-A8C6-EDD57E079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40B9-3AC4-47D9-9E7A-63F7EE208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6D02-38EC-4AB9-A93D-458B40245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87C7-66B0-4B9E-ABCE-3714A3A9B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9F58-006E-4EFC-B0C2-48AB787D6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EED1-0693-40B4-8D5F-5E8C6B90B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9DFB-AFBB-4798-BAD5-374EE3646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92B3-D832-49F6-A2E1-653AFA69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4FF8-0024-4619-A553-3F5DA0A9E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E464-B08C-449F-B47F-835B55AB7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2D4DF-630D-4403-A4FE-BCF62E1287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95280" y="6400800"/>
            <a:ext cx="716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6480" y="-360"/>
            <a:ext cx="9124920" cy="392040"/>
            <a:chOff x="6480" y="-360"/>
            <a:chExt cx="9124920" cy="392040"/>
          </a:xfrm>
        </p:grpSpPr>
        <p:sp>
          <p:nvSpPr>
            <p:cNvPr id="6" name=""/>
            <p:cNvSpPr/>
            <p:nvPr/>
          </p:nvSpPr>
          <p:spPr>
            <a:xfrm>
              <a:off x="6480" y="4680"/>
              <a:ext cx="9124920" cy="38088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>
              <a:off x="990720" y="-360"/>
              <a:ext cx="0" cy="392040"/>
            </a:xfrm>
            <a:prstGeom prst="line">
              <a:avLst/>
            </a:prstGeom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>
              <a:off x="2112840" y="-360"/>
              <a:ext cx="0" cy="392040"/>
            </a:xfrm>
            <a:prstGeom prst="line">
              <a:avLst/>
            </a:prstGeom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>
              <a:off x="3306600" y="-360"/>
              <a:ext cx="0" cy="392040"/>
            </a:xfrm>
            <a:prstGeom prst="line">
              <a:avLst/>
            </a:prstGeom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>
              <a:off x="5764320" y="-360"/>
              <a:ext cx="0" cy="392040"/>
            </a:xfrm>
            <a:prstGeom prst="line">
              <a:avLst/>
            </a:prstGeom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6956280" y="-360"/>
              <a:ext cx="0" cy="392040"/>
            </a:xfrm>
            <a:prstGeom prst="line">
              <a:avLst/>
            </a:prstGeom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>
              <a:off x="8150400" y="-360"/>
              <a:ext cx="0" cy="392040"/>
            </a:xfrm>
            <a:prstGeom prst="line">
              <a:avLst/>
            </a:prstGeom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4568760" y="-360"/>
              <a:ext cx="0" cy="392040"/>
            </a:xfrm>
            <a:prstGeom prst="line">
              <a:avLst/>
            </a:prstGeom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380880"/>
            <a:ext cx="7696080" cy="181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G8 #10 Meeting, Coche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 - 14 April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venor’s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2590920"/>
            <a:ext cx="640080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ummary of Top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gression to C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tus of Liaisons to Other Organiz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tting the Scene for the Editing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te Com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457200"/>
            <a:ext cx="80769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gression to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752480"/>
            <a:ext cx="8001000" cy="35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O documen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dentifies the 4 original Work Items as not have advanced since 2000-02-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DRIS, SEDRIS LB, EDCS and SRM were approved in February 2000, hence must reach CD by February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CS and SRM should be 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DRIS parts 1, 2, 3  and SEDRIS LB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819520" y="380880"/>
            <a:ext cx="3429000" cy="39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1066680"/>
            <a:ext cx="7086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380880"/>
            <a:ext cx="77724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tus of Liaisons to other Organiz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447920"/>
            <a:ext cx="830556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IGIWG and FACC Working Grou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dy for SC 24 to ball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dy for SC 24 to ball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t C or Cat A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t A only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llot need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819520" y="380880"/>
            <a:ext cx="3429000" cy="39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1752480"/>
            <a:ext cx="7086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533520"/>
            <a:ext cx="77724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DCS Editing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981080"/>
            <a:ext cx="8229600" cy="39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a document progresses from WD to CD, the ownership moves from WG8 to SC 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urpose of the Editing Meeting is to determine the disposition of all comments submitted, i.e., the precise action to be ta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very effort should be made to agree a disposition that will change any disapproval votes to approv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voting at an Editing Me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omments and their disposition are sent to SC 24 at the end of the me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C 24 asks any NB that voted for disapproval to reconsider their vo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62120" y="533520"/>
            <a:ext cx="77724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SO Standardization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371600"/>
            <a:ext cx="784872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volves transforming a technology developed for specific applications to a standard that is applicable to a wider, international audi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w wide should it be expand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is no clear boundary for the scope of an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Too narrow, it will not be adopted by new u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Too wide, it will never be finis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IS is expected to be authori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uthority is assigned by References (in the EDC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abilty could be an iss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33520" y="1828800"/>
            <a:ext cx="784836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Comments were received after the closure 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se comments have been included this time, as from an organization with whom we would like to establish a liai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future, comments received late may be rej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457200"/>
            <a:ext cx="78487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te Com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3T07:48:48Z</dcterms:created>
  <dc:creator>Roger Loveless</dc:creator>
  <dc:description>typos and other corrections made by Tim also removed SEDRIS logo as it was old logo and probably should not be included in Convenor's report</dc:description>
  <dc:language>en-US</dc:language>
  <cp:lastModifiedBy>Roger Loveless</cp:lastModifiedBy>
  <dcterms:modified xsi:type="dcterms:W3CDTF">2002-04-08T17:38:40Z</dcterms:modified>
  <cp:revision>15</cp:revision>
  <dc:subject/>
  <dc:title>No Slide Title</dc:title>
</cp:coreProperties>
</file>