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63320" y="123480"/>
            <a:ext cx="8319960" cy="78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11360" y="1181160"/>
            <a:ext cx="777240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711360" y="3748320"/>
            <a:ext cx="777240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3320" y="123480"/>
            <a:ext cx="8319960" cy="78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11360" y="1181160"/>
            <a:ext cx="379260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94040" y="1181160"/>
            <a:ext cx="379260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711360" y="3748320"/>
            <a:ext cx="379260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94040" y="3748320"/>
            <a:ext cx="379260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63320" y="123480"/>
            <a:ext cx="8319960" cy="78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11360" y="1181160"/>
            <a:ext cx="25023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9360" y="1181160"/>
            <a:ext cx="25023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67000" y="1181160"/>
            <a:ext cx="25023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711360" y="3748320"/>
            <a:ext cx="25023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9360" y="3748320"/>
            <a:ext cx="25023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67000" y="3748320"/>
            <a:ext cx="25023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63320" y="123480"/>
            <a:ext cx="8319960" cy="78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711360" y="1181160"/>
            <a:ext cx="7772400" cy="491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3320" y="123480"/>
            <a:ext cx="8319960" cy="78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711360" y="1181160"/>
            <a:ext cx="7772400" cy="49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3320" y="123480"/>
            <a:ext cx="8319960" cy="78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11360" y="1181160"/>
            <a:ext cx="3792600" cy="49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94040" y="1181160"/>
            <a:ext cx="3792600" cy="49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3320" y="123480"/>
            <a:ext cx="8319960" cy="78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63320" y="123480"/>
            <a:ext cx="8319960" cy="36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3320" y="123480"/>
            <a:ext cx="8319960" cy="78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11360" y="1181160"/>
            <a:ext cx="379260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94040" y="1181160"/>
            <a:ext cx="3792600" cy="49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711360" y="3748320"/>
            <a:ext cx="379260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63320" y="123480"/>
            <a:ext cx="8319960" cy="78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11360" y="1181160"/>
            <a:ext cx="3792600" cy="49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94040" y="1181160"/>
            <a:ext cx="379260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94040" y="3748320"/>
            <a:ext cx="379260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63320" y="123480"/>
            <a:ext cx="8319960" cy="78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11360" y="1181160"/>
            <a:ext cx="379260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94040" y="1181160"/>
            <a:ext cx="379260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711360" y="3748320"/>
            <a:ext cx="777240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3320" y="123480"/>
            <a:ext cx="8319960" cy="78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11360" y="1181160"/>
            <a:ext cx="7772400" cy="49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84280" indent="-235080">
              <a:lnSpc>
                <a:spcPct val="95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27000" indent="-22860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270080" indent="-228600">
              <a:lnSpc>
                <a:spcPct val="95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612800" indent="-228600">
              <a:lnSpc>
                <a:spcPct val="95000"/>
              </a:lnSpc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612800" indent="-228600">
              <a:lnSpc>
                <a:spcPct val="95000"/>
              </a:lnSpc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612800" indent="-228600">
              <a:lnSpc>
                <a:spcPct val="95000"/>
              </a:lnSpc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952560"/>
            <a:ext cx="7772400" cy="101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63320" y="123480"/>
            <a:ext cx="8319960" cy="78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G 8 Standards Schedu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" name=""/>
          <p:cNvGraphicFramePr/>
          <p:nvPr/>
        </p:nvGraphicFramePr>
        <p:xfrm>
          <a:off x="685800" y="1209600"/>
          <a:ext cx="7772400" cy="4735440"/>
        </p:xfrm>
        <a:graphic>
          <a:graphicData uri="http://schemas.openxmlformats.org/drawingml/2006/table">
            <a:tbl>
              <a:tblPr/>
              <a:tblGrid>
                <a:gridCol w="1554120"/>
                <a:gridCol w="1554120"/>
                <a:gridCol w="1555920"/>
                <a:gridCol w="1554120"/>
                <a:gridCol w="1554120"/>
              </a:tblGrid>
              <a:tr h="411120"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ndar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D/FC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D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392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DRIS DRM (18023-1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D 6 1-Sep-0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D Feb 0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CD Nov-0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g-0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-0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880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DRIS Abstract Transmittal Format (18023-2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D 2 9-Oct-0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D 1-Jun-0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CD 1-Dec-0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g-0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 0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880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F Binary Encoding (18023-3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D 1 1 Feb-0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D Aug-0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CD Feb-0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g-0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 0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880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DRIS C Binding (18024-4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D 6 17-Sep-0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D Feb 0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CD Nov-0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g-0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-0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DCS (18025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CD 20-Aug-0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-0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-0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DCS C Binding (18041-4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CD 16-Sep-0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-0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-0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980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RM (18026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D 7 21-Oct-0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D May-0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CD Oct-0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g-0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-0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940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RM C Binding (18042-4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D 4 28-Oct-0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D May-0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CD Oct-0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g-0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-0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" name=""/>
          <p:cNvSpPr/>
          <p:nvPr/>
        </p:nvSpPr>
        <p:spPr>
          <a:xfrm>
            <a:off x="60480" y="6143760"/>
            <a:ext cx="9032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90360" y="759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G 8 meeting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1068480" y="1397160"/>
            <a:ext cx="7471800" cy="355320"/>
            <a:chOff x="1068480" y="1397160"/>
            <a:chExt cx="7471800" cy="355320"/>
          </a:xfrm>
        </p:grpSpPr>
        <p:sp>
          <p:nvSpPr>
            <p:cNvPr id="44" name=""/>
            <p:cNvSpPr/>
            <p:nvPr/>
          </p:nvSpPr>
          <p:spPr>
            <a:xfrm>
              <a:off x="6943320" y="1397160"/>
              <a:ext cx="53208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475760" y="1397160"/>
              <a:ext cx="53208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8008200" y="1397160"/>
              <a:ext cx="53208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409080" y="1397160"/>
              <a:ext cx="53388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874840" y="1397160"/>
              <a:ext cx="53388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339160" y="1397160"/>
              <a:ext cx="53532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807080" y="1397160"/>
              <a:ext cx="53208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272840" y="1397160"/>
              <a:ext cx="53388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737160" y="1397160"/>
              <a:ext cx="53532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204720" y="1397160"/>
              <a:ext cx="53208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670480" y="1397160"/>
              <a:ext cx="53388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136600" y="1397160"/>
              <a:ext cx="53352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602360" y="1397160"/>
              <a:ext cx="53388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068480" y="1397160"/>
              <a:ext cx="53388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068480" y="1397160"/>
              <a:ext cx="74718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068480" y="1752480"/>
              <a:ext cx="74718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68480" y="1397160"/>
              <a:ext cx="0" cy="35532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602360" y="1397160"/>
              <a:ext cx="0" cy="355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136600" y="1397160"/>
              <a:ext cx="0" cy="355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670480" y="1397160"/>
              <a:ext cx="0" cy="355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204720" y="1397160"/>
              <a:ext cx="0" cy="355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737160" y="1397160"/>
              <a:ext cx="0" cy="355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272840" y="1397160"/>
              <a:ext cx="0" cy="355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807080" y="1397160"/>
              <a:ext cx="0" cy="355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339160" y="1397160"/>
              <a:ext cx="0" cy="355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874840" y="1397160"/>
              <a:ext cx="0" cy="355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409080" y="1397160"/>
              <a:ext cx="0" cy="355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943320" y="1397160"/>
              <a:ext cx="0" cy="355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540280" y="1397160"/>
              <a:ext cx="0" cy="35532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8008200" y="1397160"/>
              <a:ext cx="0" cy="355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475760" y="1397160"/>
              <a:ext cx="0" cy="355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" name=""/>
          <p:cNvSpPr/>
          <p:nvPr/>
        </p:nvSpPr>
        <p:spPr>
          <a:xfrm>
            <a:off x="6919920" y="1103400"/>
            <a:ext cx="320040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2003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62000" y="1066680"/>
            <a:ext cx="426708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2002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066680" y="1066680"/>
            <a:ext cx="7467840" cy="180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066680" y="1401840"/>
            <a:ext cx="7467840" cy="144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066680" y="1066680"/>
            <a:ext cx="1800" cy="33516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8543880" y="1066680"/>
            <a:ext cx="1800" cy="33516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57440" y="1838160"/>
            <a:ext cx="6229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tg. #12 17 – 22 June - London SEDRIS pt.1 WD 5, SEDRIS LB WD 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96240" y="4514760"/>
            <a:ext cx="304920" cy="30492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52360" y="1941480"/>
            <a:ext cx="304920" cy="30492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082520" y="2682720"/>
            <a:ext cx="6812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tg. #13  8 -13 December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lando SEDRIS pt. 1 WD 6,  &amp; SEDRIS LB WD 6, SEDRIS pt. 2 WD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4811760" y="1047600"/>
            <a:ext cx="0" cy="324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340160" y="2693880"/>
            <a:ext cx="304920" cy="30492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43000" y="1471680"/>
            <a:ext cx="3430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Ju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728720" y="1476360"/>
            <a:ext cx="3430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Ju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262240" y="1481040"/>
            <a:ext cx="3427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u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786040" y="1476360"/>
            <a:ext cx="3430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314880" y="1481040"/>
            <a:ext cx="3427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c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848040" y="1471680"/>
            <a:ext cx="3430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302000" y="1486080"/>
            <a:ext cx="3430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e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452920" y="1476360"/>
            <a:ext cx="3430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e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67200" y="1476360"/>
            <a:ext cx="3430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J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938920" y="1467000"/>
            <a:ext cx="3427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462720" y="1471680"/>
            <a:ext cx="3427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p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053120" y="1476360"/>
            <a:ext cx="3430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674800" y="4497480"/>
            <a:ext cx="4239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tg. #15, 19 – 27 June 2003 Kore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DCS FCD, EDCS LB FC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31960" y="3821040"/>
            <a:ext cx="5098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tg. #14 March 2003 Stuttgart SRM WD 7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RM LB WD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064200" y="3836880"/>
            <a:ext cx="304920" cy="30492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562880" y="1471680"/>
            <a:ext cx="3427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Ju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101080" y="1486080"/>
            <a:ext cx="3427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Ju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4T01:28:35Z</dcterms:created>
  <dc:creator/>
  <dc:description/>
  <dc:language>en-US</dc:language>
  <cp:lastModifiedBy>Tim Gifford</cp:lastModifiedBy>
  <cp:lastPrinted>2001-06-04T23:31:18Z</cp:lastPrinted>
  <dcterms:modified xsi:type="dcterms:W3CDTF">2002-08-12T13:26:59Z</dcterms:modified>
  <cp:revision>895</cp:revision>
  <dc:subject>ISO standards status</dc:subject>
  <dc:title>WG 8 Standards Schedule</dc:title>
</cp:coreProperties>
</file>