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29C98-58E6-412B-AB20-7E5CD710D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4B0D-169D-452A-8065-721AC14C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53F6-A805-4B3B-A4FD-EE2B7A153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172CD-E642-41C9-A28B-7113AF29E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9B34-4D3F-4776-BDFA-738AE1E01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CAE5-2074-45F4-9F3B-3C2DDFFC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066B-6D18-4C76-91E7-A9A98E6F2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1ADC-B087-4FE6-987F-E49B60F9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C79CA-83E9-4C35-BFDB-98702CF83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F12AC-5DB4-4542-8F69-1CFBC545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505A-8CD5-4EA5-B10E-340243B1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BA34-E3E5-462B-8799-615F755BE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 June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8 #12 London, UK</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61BE-9560-469D-9829-4B0DCD888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315200" y="5105520"/>
            <a:ext cx="1270080" cy="126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1904760"/>
            <a:ext cx="7620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DRIS Liaison Organization</a:t>
            </a:r>
            <a:br>
              <a:rPr sz="4400"/>
            </a:br>
            <a:r>
              <a:rPr b="0" lang="en-US" sz="4400" spc="-1" strike="noStrike">
                <a:solidFill>
                  <a:srgbClr val="000000"/>
                </a:solidFill>
                <a:latin typeface="Times New Roman"/>
              </a:rPr>
              <a:t>AI #10-14 Report</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SO/IEC JTC 1/SC 24 Working Group 8</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 name="logo" descr=""/>
          <p:cNvPicPr/>
          <p:nvPr/>
        </p:nvPicPr>
        <p:blipFill>
          <a:blip r:embed="rId1"/>
          <a:stretch/>
        </p:blipFill>
        <p:spPr>
          <a:xfrm>
            <a:off x="3733920" y="2286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to as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transmittal?</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ization of an environment using the DRM (EDCS &amp; SRM) in some type of mechanism capable of access through the API provided in Part 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t 2 specify the format of all possible encod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t 2 specify one of many possible form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he format specification in Part 2 be contained in Part 3 and then allow additional encodings through that mechanis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the relationship between the three parts and the relevance of Part 2?</a:t>
            </a:r>
            <a:endParaRPr b="0" lang="en-US" sz="3200" spc="-1" strike="noStrike">
              <a:solidFill>
                <a:srgbClr val="000000"/>
              </a:solidFill>
              <a:latin typeface="Times New Roman"/>
            </a:endParaRPr>
          </a:p>
          <a:p>
            <a:pPr marL="609480" indent="-60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does the SEDRIS organization propose the SEDRIS standard to be packaged?</a:t>
            </a:r>
            <a:endParaRPr b="0" lang="en-US" sz="3200" spc="-1" strike="noStrike">
              <a:solidFill>
                <a:srgbClr val="000000"/>
              </a:solidFill>
              <a:latin typeface="Times New Roman"/>
            </a:endParaRPr>
          </a:p>
          <a:p>
            <a:pPr marL="60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X” is the conceptualization of an environment using the DRM (EDCS &amp;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 is the realization (manifestation) of a “X” in some type of mechanism (e.g. computer memory, file system files, paper using diagrams, human mem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graphicFrame>
        <p:nvGraphicFramePr>
          <p:cNvPr id="50" name=""/>
          <p:cNvGraphicFramePr/>
          <p:nvPr/>
        </p:nvGraphicFramePr>
        <p:xfrm>
          <a:off x="1447920" y="4191120"/>
          <a:ext cx="5715000" cy="1730160"/>
        </p:xfrm>
        <a:graphic>
          <a:graphicData uri="http://schemas.openxmlformats.org/drawingml/2006/table">
            <a:tbl>
              <a:tblPr/>
              <a:tblGrid>
                <a:gridCol w="1904760"/>
                <a:gridCol w="1905120"/>
                <a:gridCol w="19051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od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p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ML Diagram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cil draw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a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p:nvPr/>
        </p:nvSpPr>
        <p:spPr>
          <a:xfrm>
            <a:off x="685800" y="1371600"/>
            <a:ext cx="7848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press X as “Y” requires:</a:t>
            </a:r>
            <a:endParaRPr b="0" lang="en-US" sz="2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organization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signals (c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lgorithm (encoding)</a:t>
            </a:r>
            <a:endParaRPr b="0" lang="en-US" sz="2400" spc="-1" strike="noStrike">
              <a:solidFill>
                <a:srgbClr val="000000"/>
              </a:solidFill>
              <a:latin typeface="Times New Roman"/>
            </a:endParaRPr>
          </a:p>
          <a:p>
            <a:pPr marL="343080" indent="-343080">
              <a:lnSpc>
                <a:spcPts val="29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and organization (format) is often tailored to the medium used for storag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Y” is based on a standard interface specification, it is a “Z”.</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tandard based ” transmission (interchange) requires a “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minimum required in order for “standard based ” transmission (interchange) to be achiev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ssible categories of interface specification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PI</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storage </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 &amp; encoding of code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 standard, home grown API mechanis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ndard API (and its implementation) provides the interface with a “Z” without the application having to know the format, code and enco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rect storage interface </a:t>
            </a:r>
            <a:r>
              <a:rPr b="0" i="1" lang="en-US" sz="2800" spc="-1" strike="noStrike">
                <a:solidFill>
                  <a:srgbClr val="000000"/>
                </a:solidFill>
                <a:latin typeface="Times New Roman"/>
              </a:rPr>
              <a:t>requires</a:t>
            </a:r>
            <a:r>
              <a:rPr b="0" lang="en-US" sz="2800" spc="-1" strike="noStrike">
                <a:solidFill>
                  <a:srgbClr val="000000"/>
                </a:solidFill>
                <a:latin typeface="Times New Roman"/>
              </a:rPr>
              <a:t> that the format, code, and encoding be specified to sufficient detail so the application can unambiguously access the data in “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 standard limit to only AP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requirements of the format (structure) of “Y”s that should be common among all “Z”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s for most of these commonalities are already provided by the D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are stated in the current draft of Part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6.3 (a, b, d), some statements in Clause 4</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others have yet to be captur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ation of precis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2280"/>
            <a:ext cx="8534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18023 Par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 should include all requirements for “Y”s that are common between, or independent of, the medium.</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3 is the  </a:t>
            </a:r>
            <a:r>
              <a:rPr b="0" i="1" lang="en-US" sz="2800" spc="-1" strike="noStrike">
                <a:solidFill>
                  <a:srgbClr val="000000"/>
                </a:solidFill>
                <a:latin typeface="Times New Roman"/>
              </a:rPr>
              <a:t>encoding</a:t>
            </a:r>
            <a:r>
              <a:rPr b="0" lang="en-US" sz="2800" spc="-1" strike="noStrike">
                <a:solidFill>
                  <a:srgbClr val="000000"/>
                </a:solidFill>
                <a:latin typeface="Times New Roman"/>
              </a:rPr>
              <a:t> of a “file” format</a:t>
            </a:r>
            <a:br>
              <a:rPr sz="2800"/>
            </a:br>
            <a:r>
              <a:rPr b="0" lang="en-US" sz="2800" spc="-1" strike="noStrike">
                <a:solidFill>
                  <a:srgbClr val="000000"/>
                </a:solidFill>
                <a:latin typeface="Times New Roman"/>
              </a:rPr>
              <a:t>using binary </a:t>
            </a:r>
            <a:r>
              <a:rPr b="0" i="1" lang="en-US" sz="2800" spc="-1" strike="noStrike">
                <a:solidFill>
                  <a:srgbClr val="000000"/>
                </a:solidFill>
                <a:latin typeface="Times New Roman"/>
              </a:rPr>
              <a:t>c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2 is suitable for “file system” medium.</a:t>
            </a:r>
            <a:endParaRPr b="0" lang="en-US" sz="28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be suitable for other medium</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not conformant file formats are possible.</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rmats may still be considered “Z”s even if the specs for them are not standardized so long as an implementation of the API exists to provide the interface to them.</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 to Tak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nformance models (including issues of profiles and registration) for each part needs to be further developed and harmonized </a:t>
            </a:r>
            <a:endParaRPr b="0" lang="en-US" sz="28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requirements addressed in Part 2-WD1 need to be moved into Part 1.</a:t>
            </a:r>
            <a:endParaRPr b="0" lang="en-US" sz="28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ment of a draft outline of Part 3 should proceed.  </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will assist in clarifying conformance.</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k question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4:56:50Z</dcterms:created>
  <dc:creator>Paul Berner, Ph.D.</dc:creator>
  <dc:description/>
  <dc:language>en-US</dc:language>
  <cp:lastModifiedBy>camposj</cp:lastModifiedBy>
  <dcterms:modified xsi:type="dcterms:W3CDTF">2002-06-21T12:21:04Z</dcterms:modified>
  <cp:revision>14</cp:revision>
  <dc:subject>WG8 Santa Fe meeting</dc:subject>
  <dc:title>SEDRIS Liaison Organization Report</dc:title>
</cp:coreProperties>
</file>