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B00-6284-4FBA-B50E-C5E2ECD1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67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DBC-F9E6-4E89-A6BB-13BF1F8A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6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6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D0F-0A87-4803-A89F-1A5BC90D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67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67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67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A50-BD95-434B-BF78-DF009380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40C-E2A8-4A04-9DCB-6ADE106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ED6-F945-44E1-8D17-7DC61593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895-5074-4D38-8B39-B015505C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A78-3F0E-4EF0-9D6C-0E442E49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ED6-7581-4FBD-99D3-CD71522D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6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115-1DD3-4710-80AF-4B5983D3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6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023-D123-4F07-A49C-5894E499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67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E72-98B0-4CEC-B759-DA2D2B38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June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CS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6140-6CFC-4578-8714-ABC1DDD1C76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914400"/>
            <a:ext cx="853416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CS Registr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pporteur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 24 WG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gue, Czech Re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June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id Mamagha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pporteur Group Memb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Administr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id Mamaghani (rapporte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Cog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 Hemb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soo Kw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P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y Wentz (administ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9BA-B642-4EB0-95F9-426CF3B25D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ne 2003, F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istry Operation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CS registry began operation in June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29 proposed entries during the first cycle (June 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 EDCS Classification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EDCS Attribute entries (one enumerated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EDCS Attribute Enumeration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ong with 4 new 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29 entries were approved, registry updated Sept 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7 proposed entries during the 2nd cycle (Sept 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EDCS Attribute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ong with 1 new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7 entries were approved, registry updated Dec 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0 proposed entries during the 3rd cycle (Dec 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0 proposed entries during the 4th cycle (Mar 06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74 proposed entries during the 5th cycle (June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EDCS Classification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EDCS Attribute entries (six enumerated typ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6 EDCS Attribute Enumeration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ong with 3 new 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 the latest entries for June 06 sub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 submissions for subsequent cycles to incre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ADC-0F95-4397-BBA9-953B465276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June 2003, F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3:07:44Z</dcterms:created>
  <dc:creator>Farid</dc:creator>
  <dc:description/>
  <dc:language>en-US</dc:language>
  <cp:lastModifiedBy>Tim Gifford</cp:lastModifiedBy>
  <dcterms:modified xsi:type="dcterms:W3CDTF">2006-06-07T07:47:26Z</dcterms:modified>
  <cp:revision>87</cp:revision>
  <dc:subject/>
  <dc:title>EDCS Prototype Registry</dc:title>
</cp:coreProperties>
</file>