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85849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67120"/>
            <a:ext cx="85849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3760" y="118080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6712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3760" y="386712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276408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7240" y="1180800"/>
            <a:ext cx="276408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9920" y="1180800"/>
            <a:ext cx="276408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67120"/>
            <a:ext cx="276408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7240" y="3867120"/>
            <a:ext cx="276408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9920" y="3867120"/>
            <a:ext cx="276408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1180800"/>
            <a:ext cx="858492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85849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41893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760" y="1180800"/>
            <a:ext cx="41893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1200" y="118800"/>
            <a:ext cx="86486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760" y="1180800"/>
            <a:ext cx="41893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386712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180800"/>
            <a:ext cx="858492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41893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760" y="118080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760" y="386712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760" y="118080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3867120"/>
            <a:ext cx="85849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85849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3867120"/>
            <a:ext cx="85849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760" y="118080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86712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760" y="386712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276408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7240" y="1180800"/>
            <a:ext cx="276408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9920" y="1180800"/>
            <a:ext cx="276408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3867120"/>
            <a:ext cx="276408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7240" y="3867120"/>
            <a:ext cx="276408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9920" y="3867120"/>
            <a:ext cx="276408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85849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41893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3760" y="1180800"/>
            <a:ext cx="41893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1200" y="118800"/>
            <a:ext cx="86486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760" y="1180800"/>
            <a:ext cx="41893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6712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41893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760" y="118080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3760" y="386712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3760" y="1180800"/>
            <a:ext cx="41893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67120"/>
            <a:ext cx="8584920" cy="24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489480" y="6629040"/>
            <a:ext cx="25621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r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 24 SEDRIS Standar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5040" y="6600600"/>
            <a:ext cx="16416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5-6 June 2006   </a:t>
            </a:r>
            <a:fld id="{8E71FC7C-E3F2-4CBA-8013-0216BCF4598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400" y="1031760"/>
            <a:ext cx="9083520" cy="98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1400" y="1028880"/>
            <a:ext cx="8985240" cy="0"/>
          </a:xfrm>
          <a:prstGeom prst="line">
            <a:avLst/>
          </a:prstGeom>
          <a:ln w="25560">
            <a:solidFill>
              <a:srgbClr val="1f0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04560" y="1180800"/>
            <a:ext cx="85849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14480"/>
            <a:ext cx="7772400" cy="3309840"/>
          </a:xfrm>
          <a:prstGeom prst="rect">
            <a:avLst/>
          </a:prstGeom>
          <a:noFill/>
          <a:ln w="38160">
            <a:solidFill>
              <a:srgbClr val="1f01d1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01d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f01d1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2600" y="6615000"/>
            <a:ext cx="25621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r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SC 24 SEDRIS Standar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85040" y="6600600"/>
            <a:ext cx="16416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66ff"/>
                </a:solidFill>
                <a:latin typeface="Arial"/>
              </a:rPr>
              <a:t>PDB</a:t>
            </a: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   5-6 June 2006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0920" y="352440"/>
            <a:ext cx="8480520" cy="4726080"/>
          </a:xfrm>
          <a:prstGeom prst="rect">
            <a:avLst/>
          </a:prstGeom>
          <a:noFill/>
          <a:ln w="38160">
            <a:solidFill>
              <a:srgbClr val="1f01d1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f01d1"/>
                </a:solidFill>
                <a:latin typeface="Arial"/>
              </a:rPr>
              <a:t>JTC 1 SC 24 / WG 8 </a:t>
            </a:r>
            <a:br>
              <a:rPr sz="2800"/>
            </a:br>
            <a:r>
              <a:rPr b="1" lang="en-US" sz="2000" spc="-1" strike="noStrike">
                <a:solidFill>
                  <a:srgbClr val="1f01d1"/>
                </a:solidFill>
                <a:latin typeface="Arial"/>
              </a:rPr>
              <a:t>Environmental Representation Standards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1f01d1"/>
                </a:solidFill>
                <a:latin typeface="Arial"/>
              </a:rPr>
              <a:t>ISO/IEC 18026 Spatial Reference Model (SRM)</a:t>
            </a:r>
            <a:br>
              <a:rPr sz="2800"/>
            </a:br>
            <a:r>
              <a:rPr b="1" lang="en-US" sz="2800" spc="-1" strike="noStrike">
                <a:solidFill>
                  <a:srgbClr val="1f01d1"/>
                </a:solidFill>
                <a:latin typeface="Arial"/>
              </a:rPr>
              <a:t>Editor’s Report</a:t>
            </a:r>
            <a:r>
              <a:rPr b="1" lang="en-US" sz="2400" spc="-1" strike="noStrike">
                <a:solidFill>
                  <a:srgbClr val="1f01d1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800" spc="-1" strike="noStrike">
                <a:solidFill>
                  <a:srgbClr val="1f01d1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1f01d1"/>
                </a:solidFill>
                <a:latin typeface="Arial"/>
              </a:rPr>
              <a:t> JTC 1 SC 24 Prague 2006</a:t>
            </a:r>
            <a:br>
              <a:rPr sz="2400"/>
            </a:br>
            <a:r>
              <a:rPr b="1" lang="en-US" sz="2400" spc="-1" strike="noStrike">
                <a:solidFill>
                  <a:srgbClr val="1f01d1"/>
                </a:solidFill>
                <a:latin typeface="Arial"/>
              </a:rPr>
              <a:t>Meeting 22</a:t>
            </a:r>
            <a:br>
              <a:rPr sz="2400"/>
            </a:br>
            <a:r>
              <a:rPr b="1" lang="en-US" sz="2400" spc="-1" strike="noStrike">
                <a:solidFill>
                  <a:srgbClr val="1f01d1"/>
                </a:solidFill>
                <a:latin typeface="Arial"/>
              </a:rPr>
              <a:t>5-6 June 2006</a:t>
            </a:r>
            <a:endParaRPr b="1" lang="en-US" sz="2400" spc="-1" strike="noStrike">
              <a:solidFill>
                <a:srgbClr val="1f01d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84080" y="5095800"/>
            <a:ext cx="399564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f01d1"/>
                </a:solidFill>
                <a:latin typeface="Arial"/>
              </a:rPr>
              <a:t>Dr. Paul Berner - SRM editor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f01d1"/>
                </a:solidFill>
                <a:latin typeface="Arial"/>
              </a:rPr>
              <a:t>Dr. Ralph Toms - SRM editor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f01d1"/>
                </a:solidFill>
                <a:latin typeface="Arial"/>
              </a:rPr>
              <a:t>Mr. Kevin Trott - SRM editor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f01d1"/>
                </a:solidFill>
                <a:latin typeface="Arial"/>
              </a:rPr>
              <a:t>SEDRIS Organization</a:t>
            </a: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84" name="jtc1_logo" descr=""/>
          <p:cNvPicPr/>
          <p:nvPr/>
        </p:nvPicPr>
        <p:blipFill>
          <a:blip r:embed="rId1"/>
          <a:stretch/>
        </p:blipFill>
        <p:spPr>
          <a:xfrm>
            <a:off x="3083040" y="420840"/>
            <a:ext cx="2751120" cy="574560"/>
          </a:xfrm>
          <a:prstGeom prst="rect">
            <a:avLst/>
          </a:prstGeom>
          <a:ln w="0">
            <a:noFill/>
          </a:ln>
        </p:spPr>
      </p:pic>
    </p:spTree>
  </p:cSld>
  <p:transition advTm="15000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rr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180800"/>
            <a:ext cx="85849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clause 7.3.2 states that 7-parameter similarity transformations are specified in the position vector rotation convention.  However, the specifications in Annex E are in the coordinate frame rotation convention.  This is a technical error. (1 insta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constant factor in Mercator mapping equ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insta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rect RT spatial region descriptions (3 instanc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incorrect cut-and-paste errors/typos (24 instanc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” instead of “2D”,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instead of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instead of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thonormal” instead of “orthogonal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-space” instead of “object-spac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parameter value or sign (5 instanc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33 instances of technical corr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500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ciency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7000" y="1371240"/>
            <a:ext cx="76456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8 instances of minor editorial corr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4 instances of editorial improv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 instances of response comple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 instances of technical corr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: 37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5000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d new technical ad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307880"/>
            <a:ext cx="75819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ork item required to make these chang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Rotation Axis order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ffect on current table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to support non-Greenwich prime meridi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figures as a field in OBRS Tab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with CS tables which allow figu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improvements in word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normative and non-norma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registration forms and procedu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able to register bibliographic referenc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5000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130400"/>
            <a:ext cx="8267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igendum (HTM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 a corrigendum with Technical corrections and the completions of response applications (33+3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]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ion as fully linked PD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editorial corrections and improvement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38+7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ion as fully linked PDF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*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editorial corrections and improvements and technical corrections (238+74+33+3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w technical add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ion of ISO/IEC 18026 (PD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ial corr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corr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w technical addi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00440" y="5037120"/>
            <a:ext cx="4378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DRIS org. has produced MS Word, PDF, and HTML versions that incorpor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 editorial corrections and improv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most all technical co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identified new technical ad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5000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step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ntinu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9160" y="1498320"/>
            <a:ext cx="703584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itor’s recommend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existing fully corrected PD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new technical ad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for review and ball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5000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5000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920" y="119160"/>
            <a:ext cx="453528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op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15920" y="1236600"/>
            <a:ext cx="7416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DF production probl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d defici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 editorial corr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itorial improv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application of comment respon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corr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d new technical ad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9440" y="2008080"/>
            <a:ext cx="744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 publication problems caused unexpected del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quired multiple careful reviews of the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detailed reviews revealed a numb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deficiencies in the S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5000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DF production probl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69720"/>
            <a:ext cx="78994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lti-file document, many hyperli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F prepa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hyper-link targets from *.doc to *.pd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 word field code search/replace fails in several claus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 intensive manual check of each hyperlink requi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ion using Adobe Acrob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ils to convert all hyperlinks in larger clau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 go to top of target page -- not to the specific target page 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19400" y="5888160"/>
            <a:ext cx="634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32 pages in 31 files with many MathType equations and fig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5000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DF production problems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ntinu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69720"/>
            <a:ext cx="7899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for FDIS pub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shed in HTM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quent investigation identified acceptable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rty PDF production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for IS pub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F version all with all editorial changes was created successfully by SEDRIS organiz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TF found changes in the PDF version to be too numerous to publish without a 2nd FDI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TF agreed to publish in HTML the FDIS version with one corre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500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or editorial corr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3600" y="1270080"/>
            <a:ext cx="78994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ken hyperlinks/bookmarks (16 instan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s: extra or missing (69 instan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ong fonts or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nt size (35 instanc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nt family (45 instanc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ld and/or Italic (13 instanc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spellings and typ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ization (8 instanc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ctuation (22 instanc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lling (14 instanc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rrect format or document style (16 instan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 238 instances of minor editorial corre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5000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itorial improv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7760" y="1460160"/>
            <a:ext cx="73533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mar (6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er word ordering, wording style consistency, possible ambiguities, .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ation (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improvements (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 74 instances of editorial improv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5000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plete application of comment respon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2800" y="1373040"/>
            <a:ext cx="76528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ed responses in one sub-clause often h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effects in many other parts of the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cases, the editors failed to identify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all of the areas aff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hange “spheroid” to “ellipsoid”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and replace did not change the instances in MathType5 tex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ew treatment for the specific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r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lauses.  3D coordinates system specifications had to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gh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is change was made for the Planetodectic 3D CS, but mi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zimuthal spherical CS, Cylindrical CS, and their lococentric varia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5000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1200" y="118800"/>
            <a:ext cx="8648640" cy="7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plete application of responses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ntinu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1000" y="1446120"/>
            <a:ext cx="76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ew ORM templates were add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MT OBLATE_ELLIPSOID_ORIGIN and ORMT SPHERE_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SRFT “ORM constraint” fields must now allow these new ORMT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se cases where mis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9160" y="3238560"/>
            <a:ext cx="772164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 33 instances of required response comple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5000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22:21:06Z</dcterms:created>
  <dc:creator>Paul Berner, PhD</dc:creator>
  <dc:description>Revised 1 June</dc:description>
  <dc:language>en-US</dc:language>
  <cp:lastModifiedBy>Paul D. Berner</cp:lastModifiedBy>
  <cp:lastPrinted>2004-02-04T14:36:41Z</cp:lastPrinted>
  <dcterms:modified xsi:type="dcterms:W3CDTF">2006-06-01T18:23:06Z</dcterms:modified>
  <cp:revision>529</cp:revision>
  <dc:subject>Meeting 22 Prague June 2006</dc:subject>
  <dc:title>SRM Editor's report</dc:title>
</cp:coreProperties>
</file>