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8B8-62ED-45FE-A421-C3ECC9B6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3440" y="4074840"/>
            <a:ext cx="773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430-5CEA-486B-9FAD-AA42DC46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344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70B-FC6D-41E7-945E-08B06935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9560" y="144792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5680" y="144792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03440" y="407484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9560" y="407484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5680" y="407484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B66-809D-4E7D-B29E-2AC4AD49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02D9-1AB5-4817-99A1-290DAB92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3561-7459-467F-8529-47E971C8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3E38-99D0-4734-89B6-D06BFAC4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6883-C22F-41D1-9C58-C276E5A0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F39-D6BA-4E5E-BAFB-4237182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47640" y="609120"/>
            <a:ext cx="729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CA3-C5E0-4AA5-8CF5-3349B78C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344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D777-0B28-4916-AFB1-EAC886B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4BF-4551-48C1-96BD-D6090AD6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12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0E20-D332-4CB7-B8EE-E3F4B4A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3440" y="4074840"/>
            <a:ext cx="773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21D6-E938-4999-BC6E-C420AEF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3440" y="4074840"/>
            <a:ext cx="773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337-8825-4D09-B2D6-93247406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344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12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828D-44E4-4296-BB3A-4337006D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9560" y="144792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5680" y="144792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3440" y="407484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9560" y="407484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5680" y="4074840"/>
            <a:ext cx="249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290C-E463-4315-A3D4-4D67819E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0AA-017A-41BA-88D6-17696BA3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F48-BB8F-4902-B3CA-3995568E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119-A039-42EC-8CE2-E3B98438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640" y="609120"/>
            <a:ext cx="729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0B7-6A8F-423C-944D-2E7CE7D6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0344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D4D-9869-48BA-A9C4-96ADE14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407484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D40-F87A-487B-989E-6C06C894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640" y="608040"/>
            <a:ext cx="729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47920"/>
            <a:ext cx="377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3440" y="4074840"/>
            <a:ext cx="773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64D-6C6F-436C-AC03-B4FEC19F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126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480" y="151920"/>
            <a:ext cx="281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9760" y="6553080"/>
            <a:ext cx="98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8C99-0B0F-43CE-BC8B-5690152DE2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DGIWG_geospatial_logo" descr=""/>
          <p:cNvPicPr/>
          <p:nvPr/>
        </p:nvPicPr>
        <p:blipFill>
          <a:blip r:embed="rId2"/>
          <a:stretch/>
        </p:blipFill>
        <p:spPr>
          <a:xfrm>
            <a:off x="0" y="0"/>
            <a:ext cx="1386000" cy="13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097-BBC8-430A-93E5-D24188B5FF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DGIWG_geospatial_logo" descr=""/>
          <p:cNvPicPr/>
          <p:nvPr/>
        </p:nvPicPr>
        <p:blipFill>
          <a:blip r:embed="rId2"/>
          <a:stretch/>
        </p:blipFill>
        <p:spPr>
          <a:xfrm>
            <a:off x="3635280" y="260280"/>
            <a:ext cx="1602000" cy="160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38224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DGIW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onference</a:t>
            </a:r>
            <a:br>
              <a:rPr sz="4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4-26 April 06 - Amsterdam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uture Meeting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880" y="563868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eil Hadden, Secretary DGIW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291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uture Host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3440" y="1447920"/>
            <a:ext cx="7737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85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onference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including PTSG and Technical Meeting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07 – German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08 – Ital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09 – New Zealan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10 – 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echnical Meetin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06 – Ital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07 – Norwa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-857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2008 – 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CLASSIFI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7F0-DCE0-45CA-A65C-2EE5BB77C4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Apr 04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9:09:29Z</dcterms:created>
  <dc:creator>S/DGIWG</dc:creator>
  <dc:description/>
  <dc:language>en-US</dc:language>
  <cp:lastModifiedBy>haddenn754</cp:lastModifiedBy>
  <cp:lastPrinted>2003-10-22T10:06:17Z</cp:lastPrinted>
  <dcterms:modified xsi:type="dcterms:W3CDTF">2006-04-11T10:53:03Z</dcterms:modified>
  <cp:revision>70</cp:revision>
  <dc:subject/>
  <dc:title>Digital Geographic Information Working Group Presentation to GCWG Meeting 5 November 03</dc:title>
</cp:coreProperties>
</file>