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43000" y="37497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168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62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430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62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94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168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37497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168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162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162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89400" y="37497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1680" y="37497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1680" y="16002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7497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700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4080" indent="-190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700"/>
              </a:spcBef>
              <a:buClr>
                <a:srgbClr val="000000"/>
              </a:buClr>
              <a:buFont typeface="R Frutiger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25720" indent="-228600">
              <a:spcBef>
                <a:spcPts val="700"/>
              </a:spcBef>
              <a:buClr>
                <a:srgbClr val="000000"/>
              </a:buClr>
              <a:buFont typeface="R Frutiger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25720" indent="-228600">
              <a:spcBef>
                <a:spcPts val="700"/>
              </a:spcBef>
              <a:buClr>
                <a:srgbClr val="000000"/>
              </a:buClr>
              <a:buFont typeface="R Frutiger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25720" indent="-228600">
              <a:spcBef>
                <a:spcPts val="700"/>
              </a:spcBef>
              <a:buClr>
                <a:srgbClr val="000000"/>
              </a:buClr>
              <a:buFont typeface="R Frutiger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1b8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1430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3500000">
            <a:off x="609480" y="304560"/>
            <a:ext cx="457200" cy="457200"/>
          </a:xfrm>
          <a:prstGeom prst="rtTriangl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6377040"/>
            <a:ext cx="3124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0297c"/>
                </a:solidFill>
                <a:latin typeface="Arial"/>
              </a:rPr>
              <a:t>DGA/DET/SCET/CEP/ASC/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6608880"/>
            <a:ext cx="7010280" cy="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14800" y="6377040"/>
            <a:ext cx="1981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24/0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095880" y="6400800"/>
            <a:ext cx="0" cy="20808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377040"/>
            <a:ext cx="2133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Diapositive N°</a:t>
            </a:r>
            <a:fld id="{FCAB1922-F37E-456F-AA28-7B6AB2D86E51}" type="slidenum">
              <a:rPr b="0" lang="fr-FR" sz="1200" spc="-1" strike="noStrike">
                <a:solidFill>
                  <a:srgbClr val="0e1b8d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 /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3080" y="6502320"/>
            <a:ext cx="1066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imes New Roman"/>
              </a:rPr>
              <a:t>MINISTÈRE DE LA DÉFEN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372520" y="5967360"/>
            <a:ext cx="641160" cy="6508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76120" y="6024600"/>
            <a:ext cx="704880" cy="4474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flipV="1">
            <a:off x="4114800" y="6400800"/>
            <a:ext cx="0" cy="20808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738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1b8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6377040"/>
            <a:ext cx="3124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0297c"/>
                </a:solidFill>
                <a:latin typeface="Arial"/>
              </a:rPr>
              <a:t>DGA/DET/SCET/CEP/ASC/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6608880"/>
            <a:ext cx="7010280" cy="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6377040"/>
            <a:ext cx="1981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24/0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095880" y="6400800"/>
            <a:ext cx="0" cy="20808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6377040"/>
            <a:ext cx="2133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Diapositive N°</a:t>
            </a:r>
            <a:fld id="{4936542C-0033-4153-9FF5-D8F1BCBF3201}" type="slidenum">
              <a:rPr b="0" lang="fr-FR" sz="1200" spc="-1" strike="noStrike">
                <a:solidFill>
                  <a:srgbClr val="0e1b8d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0e1b8d"/>
                </a:solidFill>
                <a:latin typeface="Arial"/>
              </a:rPr>
              <a:t> /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080" y="6502320"/>
            <a:ext cx="1066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imes New Roman"/>
              </a:rPr>
              <a:t>MINISTÈRE DE LA DÉFEN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72520" y="5967360"/>
            <a:ext cx="641160" cy="65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76120" y="6024600"/>
            <a:ext cx="704880" cy="44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4114800" y="6400800"/>
            <a:ext cx="0" cy="208080"/>
          </a:xfrm>
          <a:prstGeom prst="line">
            <a:avLst/>
          </a:prstGeom>
          <a:ln w="9360">
            <a:solidFill>
              <a:srgbClr val="0e1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738000" cy="731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8080" algn="ctr">
              <a:spcBef>
                <a:spcPts val="499"/>
              </a:spcBef>
              <a:buClr>
                <a:srgbClr val="000000"/>
              </a:buClr>
              <a:buFont typeface="R Frutiger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 Frutiger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 Frutiger Roman"/>
            </a:endParaRPr>
          </a:p>
          <a:p>
            <a:pPr lvl="4" marL="1797120" algn="ctr">
              <a:spcBef>
                <a:spcPts val="499"/>
              </a:spcBef>
              <a:buClr>
                <a:srgbClr val="000000"/>
              </a:buClr>
              <a:buFont typeface="R Frutiger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 Frutiger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 Frutiger Roman"/>
            </a:endParaRPr>
          </a:p>
          <a:p>
            <a:pPr lvl="5" marL="1797120">
              <a:spcBef>
                <a:spcPts val="499"/>
              </a:spcBef>
              <a:buClr>
                <a:srgbClr val="000000"/>
              </a:buClr>
              <a:buFont typeface="R Frutiger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 Frutiger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 Frutiger Roman"/>
            </a:endParaRPr>
          </a:p>
          <a:p>
            <a:pPr lvl="6" marL="1797120">
              <a:spcBef>
                <a:spcPts val="499"/>
              </a:spcBef>
              <a:buClr>
                <a:srgbClr val="000000"/>
              </a:buClr>
              <a:buFont typeface="R Frutiger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 Frutiger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 Frutiger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2849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0297c"/>
                </a:solidFill>
                <a:latin typeface="Arial"/>
              </a:rPr>
              <a:t>DGIWG support to MGCP 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581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0297c"/>
                </a:solidFill>
                <a:latin typeface="Arial"/>
              </a:rPr>
              <a:t>DGIWG Conferenc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24620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1b8d"/>
                </a:solidFill>
                <a:latin typeface="Arial"/>
              </a:rPr>
              <a:t>MGCP Technical work Status</a:t>
            </a: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700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Referenc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174960">
              <a:lnSpc>
                <a:spcPct val="80000"/>
              </a:lnSpc>
              <a:spcBef>
                <a:spcPts val="60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November 05 with editorial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ublication 2006-01-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174960">
              <a:lnSpc>
                <a:spcPct val="80000"/>
              </a:lnSpc>
              <a:spcBef>
                <a:spcPts val="60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management to be ini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management structure agreed in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7800" indent="-21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R Frutiger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 Frutiger Roman"/>
              </a:rPr>
              <a:t>Aims at handling errors/ question raised during implementation phase</a:t>
            </a:r>
            <a:endParaRPr b="0" lang="en-US" sz="1800" spc="-1" strike="noStrike">
              <a:solidFill>
                <a:srgbClr val="000000"/>
              </a:solidFill>
              <a:latin typeface="R Frutiger Roman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et of c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figuration management documents being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174960">
              <a:lnSpc>
                <a:spcPct val="80000"/>
              </a:lnSpc>
              <a:spcBef>
                <a:spcPts val="60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work on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lement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ry Bench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480" indent="-17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relate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1b8d"/>
                </a:solidFill>
                <a:latin typeface="Arial"/>
              </a:rPr>
              <a:t>DGIWG involvement in MGCP</a:t>
            </a: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700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9040" indent="-169200">
              <a:lnSpc>
                <a:spcPct val="9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CP Feature and attribute catalogue is compliant with DFDD BL 2005-2 but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169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ttribute (ATN) and one attribute value (TRS=14) cancelled from BL-2005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169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ttribute value (CUS=2) cancelled from D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16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use of combinations of attribute and values which may not be theoretically correct with DFDD e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lnSpc>
                <a:spcPct val="90000"/>
              </a:lnSpc>
              <a:spcBef>
                <a:spcPts val="700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mplementation of ISO19110 provided by DGIWG used for documenting MGCP Feature and Attribute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>
              <a:lnSpc>
                <a:spcPct val="90000"/>
              </a:lnSpc>
              <a:spcBef>
                <a:spcPts val="601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CP metadata profile provided by DGIWG metadata 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1b8d"/>
                </a:solidFill>
                <a:latin typeface="Arial"/>
              </a:rPr>
              <a:t>Feedback from last two years cooperation</a:t>
            </a:r>
            <a:endParaRPr b="1" lang="en-US" sz="28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ry good support provided, based on dialog between the two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correlating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5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rel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5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ap still exists between the two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5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P TG folks more concerned with implementation and having to take care of legacy (process, product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5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IWG / standardisation folks aiming at technical soun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feasibility and performance need to be taken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are proactively contacting MGCP when expertise lays in DGIWG’s br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51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put from DGIWG expert to industry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e1b8d"/>
                </a:solidFill>
                <a:latin typeface="Arial"/>
              </a:rPr>
              <a:t>MGCP still needs DGIWG support</a:t>
            </a:r>
            <a:endParaRPr b="1" lang="en-US" sz="3200" spc="-1" strike="noStrike">
              <a:solidFill>
                <a:srgbClr val="0e1b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45160" indent="-245160">
              <a:lnSpc>
                <a:spcPct val="80000"/>
              </a:lnSpc>
              <a:spcBef>
                <a:spcPts val="601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non protected access to TRD1 and supporting resources such as XSD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vide implementation support for metadata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240" indent="-15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xercise to be set up and involve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5240" indent="-15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 much exploitation tools as you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resolving legacy issues between FACC and DF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2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forward and backward compatibility in DFD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91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R Frutiger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 Frutiger Roman"/>
              </a:rPr>
              <a:t>Assess impact of changes beyond BL 2005-2</a:t>
            </a:r>
            <a:endParaRPr b="0" lang="en-US" sz="1600" spc="-1" strike="noStrike">
              <a:solidFill>
                <a:srgbClr val="000000"/>
              </a:solidFill>
              <a:latin typeface="R Frutiger Roman"/>
            </a:endParaRPr>
          </a:p>
          <a:p>
            <a:pPr marL="245160" indent="-245160">
              <a:lnSpc>
                <a:spcPct val="80000"/>
              </a:lnSpc>
              <a:spcBef>
                <a:spcPts val="601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 term… GML transition if deemed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assessing use of G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240" indent="-15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MGCP data to be provided to enable asse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GML specifications for MG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601"/>
              </a:spcBef>
              <a:buClr>
                <a:srgbClr val="ef2b2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59840">
              <a:lnSpc>
                <a:spcPct val="80000"/>
              </a:lnSpc>
              <a:spcBef>
                <a:spcPts val="499"/>
              </a:spcBef>
              <a:buClr>
                <a:srgbClr val="0e1b8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ssessment  and process if not restricted to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7:00:49Z</dcterms:created>
  <dc:creator>SCLAFER M-N</dc:creator>
  <dc:description/>
  <dc:language>en-US</dc:language>
  <cp:lastModifiedBy>SCLAFER M-N</cp:lastModifiedBy>
  <cp:lastPrinted>2001-09-27T09:54:14Z</cp:lastPrinted>
  <dcterms:modified xsi:type="dcterms:W3CDTF">2006-04-24T09:42:30Z</dcterms:modified>
  <cp:revision>4</cp:revision>
  <dc:subject/>
  <dc:title>Diapositive 1</dc:title>
</cp:coreProperties>
</file>