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B355-67D6-461A-8A74-EDC15B64A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E8AD-AADB-420B-B73B-091F450EA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5D7C-60C5-4550-93EB-A33B4BF87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9A23-5E1B-4A4C-A671-942A8C586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6A03-F4FF-4BDB-9706-65B66F478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57F5-8611-4D95-91C2-AC9A9F8B6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857B-DFD6-47DA-93C4-02EC45682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597F-333E-438D-9A0A-F7649C4E2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E1D1-F913-464B-B91B-78FBA28D0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1C61-BE09-4E62-8643-563E48E1E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CA89-038F-4479-8048-B2E7CAB24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4E9B-A354-4BE8-838C-6E4B81886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ABAB-771F-4557-B7D6-460B2C84A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924680" y="5638680"/>
          <a:ext cx="1057320" cy="105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5638680"/>
                    <a:ext cx="10573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76320" y="76320"/>
          <a:ext cx="538200" cy="542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76320"/>
                    <a:ext cx="5382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3616200" y="633888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admap for imagery and gridd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GIWG Conference 2006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terdam - 2006/04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dmap for imagery and grid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olas.lesage@ign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5972-28BF-4BBA-B3CC-7803D8D3CD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GIW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71440" y="5105520"/>
            <a:ext cx="3829320" cy="1285920"/>
            <a:chOff x="1171440" y="5105520"/>
            <a:chExt cx="3829320" cy="1285920"/>
          </a:xfrm>
        </p:grpSpPr>
        <p:sp>
          <p:nvSpPr>
            <p:cNvPr id="48" name=""/>
            <p:cNvSpPr/>
            <p:nvPr/>
          </p:nvSpPr>
          <p:spPr>
            <a:xfrm>
              <a:off x="3095640" y="5105520"/>
              <a:ext cx="0" cy="2667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54240" y="5505480"/>
              <a:ext cx="1720800" cy="745920"/>
            </a:xfrm>
            <a:prstGeom prst="rect">
              <a:avLst/>
            </a:prstGeom>
            <a:solidFill>
              <a:srgbClr val="b7d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JTC1 SC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13000" y="5511960"/>
              <a:ext cx="1702080" cy="736560"/>
            </a:xfrm>
            <a:prstGeom prst="rect">
              <a:avLst/>
            </a:prstGeom>
            <a:solidFill>
              <a:srgbClr val="b7d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JTC1 SC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1440" y="5353200"/>
              <a:ext cx="3829320" cy="103824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57280" y="2457360"/>
            <a:ext cx="2905200" cy="2629080"/>
            <a:chOff x="1457280" y="2457360"/>
            <a:chExt cx="2905200" cy="2629080"/>
          </a:xfrm>
        </p:grpSpPr>
        <p:sp>
          <p:nvSpPr>
            <p:cNvPr id="53" name=""/>
            <p:cNvSpPr/>
            <p:nvPr/>
          </p:nvSpPr>
          <p:spPr>
            <a:xfrm flipH="1">
              <a:off x="3124080" y="2457360"/>
              <a:ext cx="819360" cy="819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20960" y="3502080"/>
              <a:ext cx="2298600" cy="444600"/>
            </a:xfrm>
            <a:prstGeom prst="rect">
              <a:avLst/>
            </a:prstGeom>
            <a:solidFill>
              <a:srgbClr val="2e9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ISO/TC 2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11240" y="4349880"/>
              <a:ext cx="2292480" cy="44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OG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62200" y="3276720"/>
              <a:ext cx="2600280" cy="180972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7280" y="2486160"/>
              <a:ext cx="21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pts to military 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991040" y="2209680"/>
            <a:ext cx="2838600" cy="3800520"/>
            <a:chOff x="4991040" y="2209680"/>
            <a:chExt cx="2838600" cy="3800520"/>
          </a:xfrm>
        </p:grpSpPr>
        <p:sp>
          <p:nvSpPr>
            <p:cNvPr id="59" name=""/>
            <p:cNvSpPr/>
            <p:nvPr/>
          </p:nvSpPr>
          <p:spPr>
            <a:xfrm>
              <a:off x="4991040" y="2457360"/>
              <a:ext cx="1104840" cy="10954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3280" y="3454560"/>
              <a:ext cx="1257120" cy="647640"/>
            </a:xfrm>
            <a:prstGeom prst="rect">
              <a:avLst/>
            </a:prstGeom>
            <a:solidFill>
              <a:srgbClr val="2e9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AG I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56520" y="4397400"/>
              <a:ext cx="1263600" cy="555480"/>
            </a:xfrm>
            <a:prstGeom prst="rect">
              <a:avLst/>
            </a:prstGeom>
            <a:solidFill>
              <a:srgbClr val="b7d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I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05600" y="3314880"/>
              <a:ext cx="1724040" cy="269532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67320" y="2695680"/>
              <a:ext cx="15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-ordin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6520" y="5207040"/>
              <a:ext cx="1263600" cy="555480"/>
            </a:xfrm>
            <a:prstGeom prst="rect">
              <a:avLst/>
            </a:prstGeom>
            <a:solidFill>
              <a:srgbClr val="b7d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ICA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46920" y="2209680"/>
              <a:ext cx="444600" cy="124488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616200" y="1450800"/>
            <a:ext cx="1955880" cy="1025640"/>
          </a:xfrm>
          <a:prstGeom prst="rect">
            <a:avLst/>
          </a:prstGeom>
          <a:solidFill>
            <a:srgbClr val="0038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GI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9800" y="1298520"/>
            <a:ext cx="7711920" cy="939960"/>
            <a:chOff x="739800" y="1298520"/>
            <a:chExt cx="7711920" cy="939960"/>
          </a:xfrm>
        </p:grpSpPr>
        <p:grpSp>
          <p:nvGrpSpPr>
            <p:cNvPr id="68" name=""/>
            <p:cNvGrpSpPr/>
            <p:nvPr/>
          </p:nvGrpSpPr>
          <p:grpSpPr>
            <a:xfrm>
              <a:off x="5553000" y="1324080"/>
              <a:ext cx="2898720" cy="914400"/>
              <a:chOff x="5553000" y="1324080"/>
              <a:chExt cx="2898720" cy="914400"/>
            </a:xfrm>
          </p:grpSpPr>
          <p:sp>
            <p:nvSpPr>
              <p:cNvPr id="69" name=""/>
              <p:cNvSpPr/>
              <p:nvPr/>
            </p:nvSpPr>
            <p:spPr>
              <a:xfrm>
                <a:off x="6337440" y="1324080"/>
                <a:ext cx="2114280" cy="914400"/>
              </a:xfrm>
              <a:prstGeom prst="ellipse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562440" y="1343160"/>
                <a:ext cx="1721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Arial"/>
                  </a:rPr>
                  <a:t>N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5581800" y="1809360"/>
                <a:ext cx="752400" cy="1429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553000" y="1504800"/>
                <a:ext cx="158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739800" y="1298520"/>
              <a:ext cx="2114640" cy="91440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907200" y="1317600"/>
              <a:ext cx="172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857680" y="1784520"/>
              <a:ext cx="752400" cy="142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844720" y="1467000"/>
              <a:ext cx="15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A52A-5E26-4615-8700-45452FC73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magery part of the DGIWG Busin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GIWG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e capable of expanding to cov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ew user demands, such as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imagery based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geo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New co-production initiatives are imagery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Terrain elev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2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NewRoman,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NewRoman,Bold"/>
              </a:rPr>
              <a:t>High resolution terrain elevation models (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2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NewRoman,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NewRoman,Bold"/>
              </a:rPr>
              <a:t>NATO Variable resolution grid (initiated by 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Expressed need for recommendations related to the use of imagery encoding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NewRoman,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NewRoman,Bold"/>
              </a:rPr>
              <a:t>DGIWG has much to provide to AG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At least, geo-referencing is a DGIWG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New technologies emerge from OGC, ISO/TC 2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6E46-787B-4B40-89B3-5F363420F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magery part of the DGIWG Busin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05372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’t we just wait for civilian standards?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,Bold"/>
              </a:rPr>
              <a:t>Need to ensure that the Military Reqs are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,Bold"/>
              </a:rPr>
              <a:t>Military experts have much to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ISO/TC 211 lacks of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NewRoman,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,Bold"/>
              </a:rPr>
              <a:t>Much consequence on the co-ordination with AG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NewRoman,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NewRoman,Bold"/>
              </a:rPr>
              <a:t>What is the role of DGIW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intain requirements for interoperability</a:t>
            </a:r>
            <a:r>
              <a:rPr b="0" lang="en-US" sz="2400" spc="-1" strike="noStrike">
                <a:solidFill>
                  <a:srgbClr val="ff9933"/>
                </a:solidFill>
                <a:latin typeface="TimesNewRoman,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NewRoman,Bold"/>
              </a:rPr>
              <a:t>Influence the civilian activity (ISO/TC 211, </a:t>
            </a:r>
            <a:r>
              <a:rPr b="0" lang="en-US" sz="2400" spc="-1" strike="noStrike">
                <a:solidFill>
                  <a:srgbClr val="ff0000"/>
                </a:solidFill>
                <a:latin typeface="TimesNewRoman,Bold"/>
              </a:rPr>
              <a:t>OGC</a:t>
            </a:r>
            <a:r>
              <a:rPr b="0" lang="en-US" sz="2400" spc="-1" strike="noStrike">
                <a:solidFill>
                  <a:srgbClr val="ff9933"/>
                </a:solidFill>
                <a:latin typeface="TimesNewRoman,Bold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NewRoman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NewRoman,Bold"/>
              </a:rPr>
              <a:t>Establish recommendations related to the use of the civilian standards (GeoTIFF, JPEG 2000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vestigate the operational use of the exist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-ordinate with other standardizatio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002E-C154-494B-9B6F-B7B6518A3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real endorsement by DGIWG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ndate of the IG&amp;D thematic co-ordinator to be ren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ed more stabl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resources are needed for the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ed a NATO and user oriented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ed an expert involved in the OGC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or 2 more experts in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eed to influence the ISO/TC 211 and OGC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 to have a roadmap ready for next conference with a first draft for next Technical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0CFE-CF1B-4431-A884-C795C8A71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go forw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30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focus meeting on the “Future of Imagery in DGIWG” planned this thur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the main issue remains the lack of resources involved in the establishment of a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8116-6BF3-4976-8190-710B6A3E0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2:08:25Z</dcterms:created>
  <dc:creator>Lesage N</dc:creator>
  <dc:description/>
  <dc:language>en-US</dc:language>
  <cp:lastModifiedBy>CDO'Brien</cp:lastModifiedBy>
  <cp:lastPrinted>2004-06-03T18:19:54Z</cp:lastPrinted>
  <dcterms:modified xsi:type="dcterms:W3CDTF">2006-04-24T10:48:37Z</dcterms:modified>
  <cp:revision>87</cp:revision>
  <dc:subject/>
  <dc:title>Framework (fig.2)</dc:title>
</cp:coreProperties>
</file>