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997700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8B1EEF-EE2C-41AB-ABAA-E17A784BD3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99840" y="76212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815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33520" y="4140720"/>
            <a:ext cx="815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F27F6C-4F20-4488-97FB-BF6FC00C06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99840" y="76212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11680" y="175248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33520" y="414072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11680" y="414072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78FED5-E20E-412C-A2DD-48562E889B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99840" y="76212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90400" y="175248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46920" y="175248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33520" y="414072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90400" y="414072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46920" y="414072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AF6BDE-365A-49D4-9377-46E00B3848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4226F-EFFF-4403-93F7-CB58E1451E0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99840" y="76212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33520" y="175248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DBCF7-E599-45A3-A1DD-6A18AA335C1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99840" y="76212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89B13-0CA7-408C-AAD8-9CA351B2FF1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99840" y="76212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397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1680" y="1752480"/>
            <a:ext cx="397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4E595-C8BD-4FD4-9127-38DB8C6781C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99840" y="76212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20A51-9CF9-4F50-A99A-D6FCA9A2A3E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99840" y="762120"/>
            <a:ext cx="70102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E38F1-7D66-46E0-A846-538D81E335A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99840" y="76212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1680" y="1752480"/>
            <a:ext cx="397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520" y="414072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6E0F6-2E71-4407-B38A-578804095E2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212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533520" y="175248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755CC2-CA8D-4419-BBFA-50A490FA12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99840" y="76212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397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1680" y="175248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1680" y="414072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C8274-25B2-42DD-874C-2FCA3AE79C4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99840" y="76212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1680" y="175248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4140720"/>
            <a:ext cx="815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29DF6-0236-4965-8DAB-E25F2CB9EA0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212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815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33520" y="4140720"/>
            <a:ext cx="815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BB118-EE88-4EEA-9063-44FA5B962DD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99840" y="76212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1680" y="175248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33520" y="414072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1680" y="414072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82354-AC0C-4CF1-BBA5-99E31596621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99840" y="76212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90400" y="175248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46920" y="175248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33520" y="414072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90400" y="414072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46920" y="414072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70A5B-8268-431A-924C-4184C164939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212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04CD0D-89C5-42D7-ADE7-CC974CF3C8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99840" y="76212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397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11680" y="1752480"/>
            <a:ext cx="397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6A686E-BDEF-4022-A455-0D37168D27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212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39EED1-E4C2-4086-93CD-F9DEBEFE41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599840" y="762120"/>
            <a:ext cx="70102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F04C90-4A64-4A9C-BA48-30BA9EDD3C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99840" y="76212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11680" y="1752480"/>
            <a:ext cx="397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33520" y="414072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01033D-C881-40D4-B776-0CAEEA8A63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99840" y="76212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397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11680" y="175248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711680" y="414072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90C41D-1508-40D0-B621-209ECF6B5A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99840" y="76212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11680" y="175248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33520" y="4140720"/>
            <a:ext cx="815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CF62BC-36B2-4979-B6E2-0E2711C0BD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99840" y="76212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8153280" y="6400800"/>
            <a:ext cx="990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FF482-37E0-40C3-BC90-E8B6E86613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3733920" y="4419720"/>
            <a:ext cx="2857320" cy="2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457200" y="1676520"/>
            <a:ext cx="8077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533520" y="175248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124080" y="6400800"/>
            <a:ext cx="2895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UNCLASSIFI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124080" y="0"/>
            <a:ext cx="2895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UNCLASSIFI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600200" y="228600"/>
            <a:ext cx="7010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808080"/>
                </a:solidFill>
                <a:latin typeface="Arial"/>
              </a:rPr>
              <a:t>Digital Geospatial Information Working Group (DGIWG)</a:t>
            </a:r>
            <a:br>
              <a:rPr sz="1600"/>
            </a:br>
            <a:r>
              <a:rPr b="0" i="1" lang="en-GB" sz="1600" spc="-1" strike="noStrike">
                <a:solidFill>
                  <a:srgbClr val="808080"/>
                </a:solidFill>
                <a:latin typeface="Arial"/>
              </a:rPr>
              <a:t>Technical pres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5638680" y="0"/>
            <a:ext cx="3429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" name="DGIWG_geospatial_logo" descr=""/>
          <p:cNvPicPr/>
          <p:nvPr/>
        </p:nvPicPr>
        <p:blipFill>
          <a:blip r:embed="rId2"/>
          <a:stretch/>
        </p:blipFill>
        <p:spPr>
          <a:xfrm>
            <a:off x="0" y="0"/>
            <a:ext cx="1601640" cy="1601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ftr" idx="2"/>
          </p:nvPr>
        </p:nvSpPr>
        <p:spPr>
          <a:xfrm>
            <a:off x="3124080" y="6400440"/>
            <a:ext cx="2895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NCLASSIFI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B5DB2-584C-45A4-9EF2-2437260538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733920" y="4419720"/>
            <a:ext cx="2857320" cy="2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124080" y="152280"/>
            <a:ext cx="2895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UNCLASSIFI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486400" y="0"/>
            <a:ext cx="3581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DGIWG_geospatial_logo" descr=""/>
          <p:cNvPicPr/>
          <p:nvPr/>
        </p:nvPicPr>
        <p:blipFill>
          <a:blip r:embed="rId2"/>
          <a:stretch/>
        </p:blipFill>
        <p:spPr>
          <a:xfrm>
            <a:off x="1908000" y="692280"/>
            <a:ext cx="5131080" cy="513072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4.jpeg"/><Relationship Id="rId13" Type="http://schemas.openxmlformats.org/officeDocument/2006/relationships/image" Target="../media/image5.jpeg"/><Relationship Id="rId1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E7AA0-5B95-4654-BA01-7EBFE8A756B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3124080" y="6400440"/>
            <a:ext cx="2895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UNCLASSIFI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562720" y="0"/>
            <a:ext cx="3504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Digital Geospatial Information Working Group (DGIWG)</a:t>
            </a:r>
            <a:br>
              <a:rPr sz="3600"/>
            </a:b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Technical Presentations</a:t>
            </a:r>
            <a:br>
              <a:rPr sz="2800"/>
            </a:br>
            <a:br>
              <a:rPr sz="2800"/>
            </a:b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Leif Sundgren</a:t>
            </a:r>
            <a:br>
              <a:rPr sz="2400"/>
            </a:b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Technical Coordinator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br>
              <a:rPr sz="2800"/>
            </a:br>
            <a:br>
              <a:rPr sz="2800"/>
            </a:b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24-28 April, 2006</a:t>
            </a:r>
            <a:br>
              <a:rPr sz="1600"/>
            </a:b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DGIWG Plenary</a:t>
            </a:r>
            <a:br>
              <a:rPr sz="1600"/>
            </a:b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Amsterdam, Netherlands</a:t>
            </a:r>
            <a:br>
              <a:rPr sz="1600"/>
            </a:b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endParaRPr b="1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99840" y="76212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In short</a:t>
            </a:r>
            <a:endParaRPr b="1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GIWG will endeavour 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mote international military co-operation in the field of geospatial information exchange and us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vide the foundation for military interoperability in the geospatial doma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ke abstract geospatial standards implement-able in a military contex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cure that military user requirements are taken into consideration by other standardisation bodi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ase work on civilian base standards, foremost on ISO /TC211 (19xxx series) and secondly other ISO bodies, OGC, IHO, ICAO, EU, WMO et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0F58BC-08DB-4C1B-AFE5-4AE4203BD3B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99840" y="76212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Connections</a:t>
            </a:r>
            <a:endParaRPr b="1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iv and mil Standards and partnersh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19000" indent="-285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SO/TC211 and others such as the SC24 and SC2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19000" indent="-285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HO, WMO and oth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19000" indent="-285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G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19000" indent="-285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W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19000" indent="-285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EN/TC287 and INSPI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19000" indent="-285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CAO and Eurocontr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19000" indent="-285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ATO (NSA – IGeoWG and JISRC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quirements from custom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19000" indent="-285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ational requirements of member n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19000" indent="-285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ATO (NGC, NC3A and NATO Core GI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19000" indent="-285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GC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B63077-84B1-4ECD-B060-D5EAE018C20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99840" y="76212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What we do?</a:t>
            </a:r>
            <a:endParaRPr b="1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hemas and profi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atures and attrib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age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coding &amp; data ex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rtray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vices (We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652360" y="2852640"/>
            <a:ext cx="23479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For and 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he military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geospat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ommun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0278E0-6EC3-49D6-AA98-5DD28F05E60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fefe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4660920" y="317520"/>
            <a:ext cx="1866960" cy="723960"/>
            <a:chOff x="4660920" y="317520"/>
            <a:chExt cx="1866960" cy="723960"/>
          </a:xfrm>
        </p:grpSpPr>
        <p:sp>
          <p:nvSpPr>
            <p:cNvPr id="103" name=""/>
            <p:cNvSpPr/>
            <p:nvPr/>
          </p:nvSpPr>
          <p:spPr>
            <a:xfrm>
              <a:off x="4660920" y="317520"/>
              <a:ext cx="1866960" cy="7239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fa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066280" y="393840"/>
              <a:ext cx="103248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8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aff00"/>
                  </a:solidFill>
                  <a:latin typeface="Arial"/>
                  <a:ea typeface="Futura"/>
                </a:rPr>
                <a:t>Plena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f00"/>
                  </a:solidFill>
                  <a:latin typeface="Arial"/>
                  <a:ea typeface="Futura"/>
                </a:rPr>
                <a:t>DGIW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76320" y="2246400"/>
            <a:ext cx="1866960" cy="723960"/>
            <a:chOff x="76320" y="2246400"/>
            <a:chExt cx="1866960" cy="723960"/>
          </a:xfrm>
        </p:grpSpPr>
        <p:sp>
          <p:nvSpPr>
            <p:cNvPr id="106" name=""/>
            <p:cNvSpPr/>
            <p:nvPr/>
          </p:nvSpPr>
          <p:spPr>
            <a:xfrm>
              <a:off x="76320" y="2246400"/>
              <a:ext cx="1866960" cy="7239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fa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47600" y="2381760"/>
              <a:ext cx="1736640" cy="42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78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f00"/>
                  </a:solidFill>
                  <a:latin typeface="Arial"/>
                  <a:ea typeface="Futura"/>
                </a:rPr>
                <a:t>Policy&amp;Technic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78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f00"/>
                  </a:solidFill>
                  <a:latin typeface="Arial"/>
                  <a:ea typeface="Futura"/>
                </a:rPr>
                <a:t>Strategy grou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543040" y="2246400"/>
            <a:ext cx="1866960" cy="723960"/>
            <a:chOff x="2543040" y="2246400"/>
            <a:chExt cx="1866960" cy="723960"/>
          </a:xfrm>
        </p:grpSpPr>
        <p:sp>
          <p:nvSpPr>
            <p:cNvPr id="109" name=""/>
            <p:cNvSpPr/>
            <p:nvPr/>
          </p:nvSpPr>
          <p:spPr>
            <a:xfrm>
              <a:off x="2543040" y="2246400"/>
              <a:ext cx="1866960" cy="7239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fa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732760" y="2322720"/>
              <a:ext cx="147456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8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aff00"/>
                  </a:solidFill>
                  <a:latin typeface="Arial"/>
                  <a:ea typeface="Futura"/>
                </a:rPr>
                <a:t>Secretaria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f00"/>
                  </a:solidFill>
                  <a:latin typeface="Arial"/>
                  <a:ea typeface="Futura"/>
                </a:rPr>
                <a:t>DGIW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1193760" y="1027080"/>
            <a:ext cx="1866960" cy="723960"/>
            <a:chOff x="1193760" y="1027080"/>
            <a:chExt cx="1866960" cy="723960"/>
          </a:xfrm>
        </p:grpSpPr>
        <p:sp>
          <p:nvSpPr>
            <p:cNvPr id="112" name=""/>
            <p:cNvSpPr/>
            <p:nvPr/>
          </p:nvSpPr>
          <p:spPr>
            <a:xfrm>
              <a:off x="1193760" y="1027080"/>
              <a:ext cx="1866960" cy="7239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25560">
              <a:solidFill>
                <a:srgbClr val="fa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87240" y="1103400"/>
              <a:ext cx="106740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8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aff00"/>
                  </a:solidFill>
                  <a:latin typeface="Arial"/>
                  <a:ea typeface="Futura"/>
                </a:rPr>
                <a:t>Directo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f00"/>
                  </a:solidFill>
                  <a:latin typeface="Arial"/>
                  <a:ea typeface="Futura"/>
                </a:rPr>
                <a:t>DGIW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76320" y="3274920"/>
            <a:ext cx="1866960" cy="723960"/>
            <a:chOff x="76320" y="3274920"/>
            <a:chExt cx="1866960" cy="723960"/>
          </a:xfrm>
        </p:grpSpPr>
        <p:sp>
          <p:nvSpPr>
            <p:cNvPr id="115" name=""/>
            <p:cNvSpPr/>
            <p:nvPr/>
          </p:nvSpPr>
          <p:spPr>
            <a:xfrm>
              <a:off x="76320" y="3274920"/>
              <a:ext cx="1866960" cy="72396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25560">
              <a:solidFill>
                <a:srgbClr val="fa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43720" y="3409920"/>
              <a:ext cx="1533960" cy="42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78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f00"/>
                  </a:solidFill>
                  <a:latin typeface="Arial"/>
                  <a:ea typeface="Futura"/>
                </a:rPr>
                <a:t>Requirement&amp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78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f00"/>
                  </a:solidFill>
                  <a:latin typeface="Arial"/>
                  <a:ea typeface="Futura"/>
                </a:rPr>
                <a:t>outreach grou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4495680" y="4902120"/>
            <a:ext cx="2197080" cy="723960"/>
            <a:chOff x="4495680" y="4902120"/>
            <a:chExt cx="2197080" cy="723960"/>
          </a:xfrm>
        </p:grpSpPr>
        <p:sp>
          <p:nvSpPr>
            <p:cNvPr id="118" name=""/>
            <p:cNvSpPr/>
            <p:nvPr/>
          </p:nvSpPr>
          <p:spPr>
            <a:xfrm>
              <a:off x="4495680" y="4902120"/>
              <a:ext cx="2197080" cy="7239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25560">
              <a:solidFill>
                <a:srgbClr val="fa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566600" y="5037480"/>
              <a:ext cx="2030760" cy="42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78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f00"/>
                  </a:solidFill>
                  <a:latin typeface="Arial"/>
                  <a:ea typeface="Futura"/>
                </a:rPr>
                <a:t>Services&amp;Interfac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78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f00"/>
                  </a:solidFill>
                  <a:latin typeface="Arial"/>
                  <a:ea typeface="Futura"/>
                </a:rPr>
                <a:t>Technical Pane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2171880" y="4902120"/>
            <a:ext cx="2197080" cy="723960"/>
            <a:chOff x="2171880" y="4902120"/>
            <a:chExt cx="2197080" cy="723960"/>
          </a:xfrm>
        </p:grpSpPr>
        <p:sp>
          <p:nvSpPr>
            <p:cNvPr id="121" name=""/>
            <p:cNvSpPr/>
            <p:nvPr/>
          </p:nvSpPr>
          <p:spPr>
            <a:xfrm>
              <a:off x="2171880" y="4902120"/>
              <a:ext cx="2197080" cy="72396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25560">
              <a:solidFill>
                <a:srgbClr val="fa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445840" y="5037480"/>
              <a:ext cx="1622160" cy="42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78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f00"/>
                  </a:solidFill>
                  <a:latin typeface="Arial"/>
                  <a:ea typeface="Futura"/>
                </a:rPr>
                <a:t>Data structur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78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f00"/>
                  </a:solidFill>
                  <a:latin typeface="Arial"/>
                  <a:ea typeface="Futura"/>
                </a:rPr>
                <a:t>Technical Pane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6819840" y="4902120"/>
            <a:ext cx="2197080" cy="723960"/>
            <a:chOff x="6819840" y="4902120"/>
            <a:chExt cx="2197080" cy="723960"/>
          </a:xfrm>
        </p:grpSpPr>
        <p:sp>
          <p:nvSpPr>
            <p:cNvPr id="124" name=""/>
            <p:cNvSpPr/>
            <p:nvPr/>
          </p:nvSpPr>
          <p:spPr>
            <a:xfrm>
              <a:off x="6819840" y="4902120"/>
              <a:ext cx="2197080" cy="72396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25560">
              <a:solidFill>
                <a:srgbClr val="fa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093800" y="5037480"/>
              <a:ext cx="1622160" cy="42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78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f00"/>
                  </a:solidFill>
                  <a:latin typeface="Arial"/>
                  <a:ea typeface="Futura"/>
                </a:rPr>
                <a:t>Data acces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78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f00"/>
                  </a:solidFill>
                  <a:latin typeface="Arial"/>
                  <a:ea typeface="Futura"/>
                </a:rPr>
                <a:t>Technical Pane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2171880" y="5956200"/>
            <a:ext cx="2197080" cy="723960"/>
            <a:chOff x="2171880" y="5956200"/>
            <a:chExt cx="2197080" cy="723960"/>
          </a:xfrm>
        </p:grpSpPr>
        <p:sp>
          <p:nvSpPr>
            <p:cNvPr id="127" name=""/>
            <p:cNvSpPr/>
            <p:nvPr/>
          </p:nvSpPr>
          <p:spPr>
            <a:xfrm>
              <a:off x="2171880" y="5956200"/>
              <a:ext cx="2197080" cy="72396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25560">
              <a:solidFill>
                <a:srgbClr val="fa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521080" y="6191280"/>
              <a:ext cx="147276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78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f00"/>
                  </a:solidFill>
                  <a:latin typeface="Arial"/>
                  <a:ea typeface="Futura"/>
                </a:rPr>
                <a:t>Project Tea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4495680" y="5956200"/>
            <a:ext cx="2197080" cy="723960"/>
            <a:chOff x="4495680" y="5956200"/>
            <a:chExt cx="2197080" cy="723960"/>
          </a:xfrm>
        </p:grpSpPr>
        <p:sp>
          <p:nvSpPr>
            <p:cNvPr id="130" name=""/>
            <p:cNvSpPr/>
            <p:nvPr/>
          </p:nvSpPr>
          <p:spPr>
            <a:xfrm>
              <a:off x="4495680" y="5956200"/>
              <a:ext cx="2197080" cy="723960"/>
            </a:xfrm>
            <a:prstGeom prst="rect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25560">
              <a:solidFill>
                <a:srgbClr val="fa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844880" y="6191280"/>
              <a:ext cx="147276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78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f00"/>
                  </a:solidFill>
                  <a:latin typeface="Arial"/>
                  <a:ea typeface="Futura"/>
                </a:rPr>
                <a:t>Project Tea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6819840" y="5956200"/>
            <a:ext cx="2197080" cy="723960"/>
            <a:chOff x="6819840" y="5956200"/>
            <a:chExt cx="2197080" cy="723960"/>
          </a:xfrm>
        </p:grpSpPr>
        <p:sp>
          <p:nvSpPr>
            <p:cNvPr id="133" name=""/>
            <p:cNvSpPr/>
            <p:nvPr/>
          </p:nvSpPr>
          <p:spPr>
            <a:xfrm>
              <a:off x="6819840" y="5956200"/>
              <a:ext cx="2197080" cy="723960"/>
            </a:xfrm>
            <a:prstGeom prst="rect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25560">
              <a:solidFill>
                <a:srgbClr val="fa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169400" y="6191280"/>
              <a:ext cx="147276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78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f00"/>
                  </a:solidFill>
                  <a:latin typeface="Arial"/>
                  <a:ea typeface="Futura"/>
                </a:rPr>
                <a:t>Project Tea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2543040" y="3274920"/>
            <a:ext cx="1866960" cy="723960"/>
            <a:chOff x="2543040" y="3274920"/>
            <a:chExt cx="1866960" cy="723960"/>
          </a:xfrm>
        </p:grpSpPr>
        <p:sp>
          <p:nvSpPr>
            <p:cNvPr id="136" name=""/>
            <p:cNvSpPr/>
            <p:nvPr/>
          </p:nvSpPr>
          <p:spPr>
            <a:xfrm>
              <a:off x="2543040" y="3274920"/>
              <a:ext cx="1866960" cy="723960"/>
            </a:xfrm>
            <a:prstGeom prst="rect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25560">
              <a:solidFill>
                <a:srgbClr val="fa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849040" y="3409920"/>
              <a:ext cx="1267200" cy="42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78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f00"/>
                  </a:solidFill>
                  <a:latin typeface="Arial"/>
                  <a:ea typeface="Futura"/>
                </a:rPr>
                <a:t>Technic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78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f00"/>
                  </a:solidFill>
                  <a:latin typeface="Arial"/>
                  <a:ea typeface="Futura"/>
                </a:rPr>
                <a:t>Co-ordina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453600" y="304920"/>
            <a:ext cx="38412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Futura"/>
              </a:rPr>
              <a:t>Organisational 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600880" y="1028880"/>
            <a:ext cx="0" cy="3859200"/>
          </a:xfrm>
          <a:prstGeom prst="line">
            <a:avLst/>
          </a:prstGeom>
          <a:ln w="38160">
            <a:solidFill>
              <a:srgbClr val="f1d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3268800" y="4621320"/>
            <a:ext cx="4682880" cy="0"/>
          </a:xfrm>
          <a:prstGeom prst="line">
            <a:avLst/>
          </a:prstGeom>
          <a:ln w="38160">
            <a:solidFill>
              <a:srgbClr val="f1d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276720" y="4635360"/>
            <a:ext cx="0" cy="265320"/>
          </a:xfrm>
          <a:prstGeom prst="line">
            <a:avLst/>
          </a:prstGeom>
          <a:ln w="38160">
            <a:solidFill>
              <a:srgbClr val="f1d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924680" y="4622760"/>
            <a:ext cx="0" cy="265320"/>
          </a:xfrm>
          <a:prstGeom prst="line">
            <a:avLst/>
          </a:prstGeom>
          <a:ln w="38160">
            <a:solidFill>
              <a:srgbClr val="f1d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276720" y="5626080"/>
            <a:ext cx="0" cy="328680"/>
          </a:xfrm>
          <a:prstGeom prst="line">
            <a:avLst/>
          </a:prstGeom>
          <a:ln w="38160">
            <a:solidFill>
              <a:srgbClr val="f1d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600880" y="5626080"/>
            <a:ext cx="0" cy="328680"/>
          </a:xfrm>
          <a:prstGeom prst="line">
            <a:avLst/>
          </a:prstGeom>
          <a:ln w="38160">
            <a:solidFill>
              <a:srgbClr val="f1d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924680" y="5626080"/>
            <a:ext cx="0" cy="328680"/>
          </a:xfrm>
          <a:prstGeom prst="line">
            <a:avLst/>
          </a:prstGeom>
          <a:ln w="38160">
            <a:solidFill>
              <a:srgbClr val="f1d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015920" y="2957400"/>
            <a:ext cx="0" cy="328680"/>
          </a:xfrm>
          <a:prstGeom prst="line">
            <a:avLst/>
          </a:prstGeom>
          <a:ln w="38160">
            <a:solidFill>
              <a:srgbClr val="f1d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483000" y="2957400"/>
            <a:ext cx="0" cy="328680"/>
          </a:xfrm>
          <a:prstGeom prst="line">
            <a:avLst/>
          </a:prstGeom>
          <a:ln w="38160">
            <a:solidFill>
              <a:srgbClr val="f1d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3022560" y="1380960"/>
            <a:ext cx="2565360" cy="0"/>
          </a:xfrm>
          <a:prstGeom prst="line">
            <a:avLst/>
          </a:prstGeom>
          <a:ln w="38160">
            <a:solidFill>
              <a:srgbClr val="f1d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1003320" y="1978200"/>
            <a:ext cx="2502000" cy="0"/>
          </a:xfrm>
          <a:prstGeom prst="line">
            <a:avLst/>
          </a:prstGeom>
          <a:ln w="38160">
            <a:solidFill>
              <a:srgbClr val="f1d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505320" y="1992240"/>
            <a:ext cx="0" cy="265320"/>
          </a:xfrm>
          <a:prstGeom prst="line">
            <a:avLst/>
          </a:prstGeom>
          <a:ln w="38160">
            <a:solidFill>
              <a:srgbClr val="f1d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015920" y="1979640"/>
            <a:ext cx="0" cy="264960"/>
          </a:xfrm>
          <a:prstGeom prst="line">
            <a:avLst/>
          </a:prstGeom>
          <a:ln w="38160">
            <a:solidFill>
              <a:srgbClr val="f1d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108160" y="1738440"/>
            <a:ext cx="0" cy="264960"/>
          </a:xfrm>
          <a:prstGeom prst="line">
            <a:avLst/>
          </a:prstGeom>
          <a:ln w="38160">
            <a:solidFill>
              <a:srgbClr val="f1d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3505320" y="4267080"/>
            <a:ext cx="4843440" cy="0"/>
          </a:xfrm>
          <a:prstGeom prst="line">
            <a:avLst/>
          </a:prstGeom>
          <a:ln w="38160">
            <a:solidFill>
              <a:srgbClr val="f1dc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8344080" y="4267080"/>
            <a:ext cx="0" cy="635040"/>
          </a:xfrm>
          <a:prstGeom prst="line">
            <a:avLst/>
          </a:prstGeom>
          <a:ln w="38160">
            <a:solidFill>
              <a:srgbClr val="f1dc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058080" y="4267080"/>
            <a:ext cx="0" cy="635040"/>
          </a:xfrm>
          <a:prstGeom prst="line">
            <a:avLst/>
          </a:prstGeom>
          <a:ln w="38160">
            <a:solidFill>
              <a:srgbClr val="f1dc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013280" y="4267080"/>
            <a:ext cx="0" cy="635040"/>
          </a:xfrm>
          <a:prstGeom prst="line">
            <a:avLst/>
          </a:prstGeom>
          <a:ln w="38160">
            <a:solidFill>
              <a:srgbClr val="f1dc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089160" y="990360"/>
            <a:ext cx="247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Futura"/>
              </a:rPr>
              <a:t>U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476600" y="2222280"/>
            <a:ext cx="247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Futura"/>
              </a:rPr>
              <a:t>U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101680" y="4662000"/>
            <a:ext cx="735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Futur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Futura"/>
              </a:rPr>
              <a:t>US chai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487040" y="3238200"/>
            <a:ext cx="238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Futura"/>
              </a:rPr>
              <a:t>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39880" y="4649400"/>
            <a:ext cx="735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Futur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Futura"/>
              </a:rPr>
              <a:t>UK chai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757560" y="4649400"/>
            <a:ext cx="745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Futur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Futura"/>
              </a:rPr>
              <a:t>GE chai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177840" y="5423040"/>
            <a:ext cx="1641600" cy="723600"/>
            <a:chOff x="177840" y="5423040"/>
            <a:chExt cx="1641600" cy="723600"/>
          </a:xfrm>
        </p:grpSpPr>
        <p:sp>
          <p:nvSpPr>
            <p:cNvPr id="164" name=""/>
            <p:cNvSpPr/>
            <p:nvPr/>
          </p:nvSpPr>
          <p:spPr>
            <a:xfrm>
              <a:off x="177840" y="5423040"/>
              <a:ext cx="1641600" cy="723600"/>
            </a:xfrm>
            <a:prstGeom prst="rect">
              <a:avLst/>
            </a:prstGeom>
            <a:blipFill rotWithShape="0">
              <a:blip r:embed="rId13"/>
              <a:srcRect/>
              <a:tile tx="0" ty="0" sx="100000" sy="100000" algn="ctr"/>
            </a:blipFill>
            <a:ln w="25560">
              <a:solidFill>
                <a:srgbClr val="fa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07800" y="5558040"/>
              <a:ext cx="1381320" cy="42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78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f00"/>
                  </a:solidFill>
                  <a:latin typeface="Arial"/>
                  <a:ea typeface="Futura"/>
                </a:rPr>
                <a:t>Themati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78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f00"/>
                  </a:solidFill>
                  <a:latin typeface="Arial"/>
                  <a:ea typeface="Futura"/>
                </a:rPr>
                <a:t>Co-ordinator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6" name=""/>
          <p:cNvSpPr/>
          <p:nvPr/>
        </p:nvSpPr>
        <p:spPr>
          <a:xfrm flipH="1">
            <a:off x="1815840" y="5789520"/>
            <a:ext cx="6530760" cy="0"/>
          </a:xfrm>
          <a:prstGeom prst="line">
            <a:avLst/>
          </a:prstGeom>
          <a:ln w="38160">
            <a:solidFill>
              <a:srgbClr val="f1dc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44080" y="5781600"/>
            <a:ext cx="0" cy="192240"/>
          </a:xfrm>
          <a:prstGeom prst="line">
            <a:avLst/>
          </a:prstGeom>
          <a:ln w="38160">
            <a:solidFill>
              <a:srgbClr val="f1dc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058080" y="5781600"/>
            <a:ext cx="0" cy="192240"/>
          </a:xfrm>
          <a:prstGeom prst="line">
            <a:avLst/>
          </a:prstGeom>
          <a:ln w="38160">
            <a:solidFill>
              <a:srgbClr val="f1dc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013280" y="5781600"/>
            <a:ext cx="0" cy="192240"/>
          </a:xfrm>
          <a:prstGeom prst="line">
            <a:avLst/>
          </a:prstGeom>
          <a:ln w="38160">
            <a:solidFill>
              <a:srgbClr val="f1dc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879560" y="5373360"/>
            <a:ext cx="236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Futura"/>
              </a:rPr>
              <a:t>F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505320" y="4038480"/>
            <a:ext cx="0" cy="228600"/>
          </a:xfrm>
          <a:prstGeom prst="line">
            <a:avLst/>
          </a:prstGeom>
          <a:ln w="38160">
            <a:solidFill>
              <a:srgbClr val="f1dc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873080" y="5957640"/>
            <a:ext cx="247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Futura"/>
              </a:rPr>
              <a:t>D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968120" y="2016000"/>
            <a:ext cx="267480" cy="17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Futura"/>
              </a:rPr>
              <a:t>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Futura"/>
              </a:rPr>
              <a:t>F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Futura"/>
              </a:rPr>
              <a:t>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Futura"/>
              </a:rPr>
              <a:t>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Futura"/>
              </a:rPr>
              <a:t>N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Futura"/>
              </a:rPr>
              <a:t>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Futura"/>
              </a:rPr>
              <a:t>U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Futura"/>
              </a:rPr>
              <a:t>U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0EF224-B90B-4EE5-ADDF-DD47CEB8699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4:39:32Z</dcterms:created>
  <dc:creator/>
  <dc:description/>
  <cp:keywords>DGIWG NGC NPfPGC 2003 Presentation Report</cp:keywords>
  <dc:language>en-US</dc:language>
  <cp:lastModifiedBy>CDO'Brien</cp:lastModifiedBy>
  <cp:lastPrinted>2004-06-11T12:32:46Z</cp:lastPrinted>
  <dcterms:modified xsi:type="dcterms:W3CDTF">2006-04-24T09:13:56Z</dcterms:modified>
  <cp:revision>233</cp:revision>
  <dc:subject/>
  <dc:title>DGIWG Presentation to NATO &amp; Partnership for Peace Geographic Conference 2003 - Item 13</dc:title>
</cp:coreProperties>
</file>