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2C7-C53E-4B32-97CF-F496952C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3FB-6A7C-47E1-A036-59F597F1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899-5547-45B7-AA9A-24AC96D4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726-F3EC-4FD5-BA06-558FCAA4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A15E-5F1E-4D43-897F-2A15E690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1975-1986-442F-82C7-6BE94A43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C3A6-51B9-4DD6-8992-FF8F03EE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CE25-71B3-465C-86A9-45A03969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633F-CB80-4C9D-BFDF-F55E7DB2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03440" y="2285640"/>
            <a:ext cx="773712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49BF-6A77-4704-85CA-481856EB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AA42-FC07-4DDA-9DAD-3221D1E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8F9-C7A0-45EA-A755-52BDC507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0D04-14AD-4DEF-9600-DBEAA56B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4ECA-04A0-436D-948E-59E0038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C775-62F7-47D6-BBB7-0872D005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4DF3-6D5C-4277-8EE3-E402A878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7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7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6F13-2A18-414E-885F-E5B9D9B1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8BB-2FF2-4EEA-AF2F-8AEC9264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40B-17A1-4663-9D4D-C5CC1F2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23E-F616-4859-B1DE-9DFC9325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3440" y="2285640"/>
            <a:ext cx="773712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BA4-4F09-4C16-9F1F-F1708302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50C-F006-4F93-BFEE-905BB8B0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6ED-08A3-4B45-9403-F0A96D8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79A-A34B-4D8E-91AE-EFC6BE5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291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3080"/>
            <a:ext cx="126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5480" y="151920"/>
            <a:ext cx="281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9760" y="6553080"/>
            <a:ext cx="98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615C-609A-4939-928D-EE98D98429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DGIWG_geospatial_logo" descr=""/>
          <p:cNvPicPr/>
          <p:nvPr/>
        </p:nvPicPr>
        <p:blipFill>
          <a:blip r:embed="rId2"/>
          <a:stretch/>
        </p:blipFill>
        <p:spPr>
          <a:xfrm>
            <a:off x="108000" y="0"/>
            <a:ext cx="1386000" cy="138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829-2038-4558-8BAB-E292ACB50B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DGIWG_geospatial_logo" descr=""/>
          <p:cNvPicPr/>
          <p:nvPr/>
        </p:nvPicPr>
        <p:blipFill>
          <a:blip r:embed="rId2"/>
          <a:stretch/>
        </p:blipFill>
        <p:spPr>
          <a:xfrm>
            <a:off x="3780000" y="404640"/>
            <a:ext cx="1601640" cy="160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38224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DGIW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 Conference</a:t>
            </a:r>
            <a:br>
              <a:rPr sz="48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24-26 April 06 - Amsterdam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Review of Actions from 2005 DGIWG Conferen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880" y="563868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eil Hadden, Secretary DGIW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291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tion Plenary-A1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808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ess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enar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Item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Confirm names of heads or delegation and technical re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ll nations to confirm to S/DGIWG names of heads of delegation and technical representatives for use and maintenance by Web Presence Project Tea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Allocated to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ll Na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ue Date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6 May 0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Note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Reminder sent by S/DGIWG 24 May. Further reminder sent 22 Mar 06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tatu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CLASSIFI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EF3-6BB0-4EA3-8524-76FB2FC9D8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Feb 05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291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tion Plenary-A1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ess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enar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Item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Comment on Version 1 of Websit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ll nations to provide comment to S/DGIWG on Version 1 of Websit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Allocated to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ll Na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ue Date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6 May 0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Note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Reminder sent by S/DGIWG 24 May. Further reminder sent 22 Mar 06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tatu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CLASSIFI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F2C-90DE-47C6-9354-356295283D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Feb 05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291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tion Plenary-A1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ess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enar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Item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Volunteer resources to meet gaps identified in new PO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ll nations to volunteer resources to meet gaps identified in new POW arising from Plenary-A1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Allocated to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ll Na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ue Date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9 Jul 0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Note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terative process to Plenary-A15 &amp; A16 agreed at Madrid PTSG. Further discussed at Washington PTSG, and call to nations made 22 Mar 06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tatu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CLASSIFI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91B-50BB-4184-8E0C-DE58AD6BC8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Feb 05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291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tion PTSG-07-A0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808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ess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TS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Item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Report on collaborative tools stud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US to report on collaborative tools study when it is complet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Allocated to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ue Date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BC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Note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Report expected in Amsterda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tatu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CLASSIFI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8D5-DC75-4709-B41E-1B3DD522ED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Feb 05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291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tion PTSG-07-A0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808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ess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TS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Item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velop an MOU with Eurocontro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ecretariat to develop an MOU with Eurocontrol for future collabor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Allocated to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ecretaria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ue Date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30 Dec 0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Note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Exploratory meeting held 6 Sep. Draft MOU in discussion with Eurocontro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808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Status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CLASSIFI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7B7-055A-4538-88DC-2E95E0AC3E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Feb 05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3440" y="281916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nd of Action Revie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9:09:29Z</dcterms:created>
  <dc:creator>S/DGIWG</dc:creator>
  <dc:description/>
  <dc:language>en-US</dc:language>
  <cp:lastModifiedBy>Mike Power</cp:lastModifiedBy>
  <cp:lastPrinted>2003-10-22T10:06:17Z</cp:lastPrinted>
  <dcterms:modified xsi:type="dcterms:W3CDTF">2006-04-16T13:44:58Z</dcterms:modified>
  <cp:revision>91</cp:revision>
  <dc:subject/>
  <dc:title>Digital Geographic Information Working Group Presentation to GCWG Meeting 5 November 03</dc:title>
</cp:coreProperties>
</file>