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37373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A45EB4-AA47-4245-A592-DDF85FFFB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5BBEDC-63F5-498D-B3E7-BF16628B5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2600" y="118440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1680" y="4797360"/>
            <a:ext cx="512892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1AA7-4FA8-4305-B5E8-2C101DCBAF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77724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019400"/>
            <a:ext cx="77724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F89B-4F1E-4140-B756-241BA721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1940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01940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9D0C-933A-4CFB-8C7E-9D304904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74924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74924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01940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01940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01940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317E-DDCE-47CA-A863-2715650FCA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749240"/>
            <a:ext cx="77724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77724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1940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749240"/>
            <a:ext cx="77724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C148-5EF3-4338-B5CB-B763888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01940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19400"/>
            <a:ext cx="77724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77724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019400"/>
            <a:ext cx="77724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01940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01940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74924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74924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01940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01940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019400"/>
            <a:ext cx="250236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77724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E37A-EBD3-46BC-BA82-DC31DDF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0DD8-BFCA-490A-AA47-B6CACBDC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1582-D57D-4772-9595-B29FB342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1E8E-C6E2-4EF4-B32E-D563BE05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40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DCFE-044F-40A6-A6FD-1D9AFFEB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01940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9A90-331D-4525-9610-5AE300D4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49240"/>
            <a:ext cx="37926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19400"/>
            <a:ext cx="7772400" cy="20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A7A6-2B92-46FD-96F1-423D287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49240"/>
            <a:ext cx="777240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3737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73737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73737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126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3737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3737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3737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8F0B-8C06-42D6-BA0E-2F87B15E120B}" type="slidenum">
              <a:rPr b="0" lang="en-US" sz="1400" spc="-1" strike="noStrike">
                <a:solidFill>
                  <a:srgbClr val="73737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topbann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" name="bottombanner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7761240" y="15480"/>
            <a:ext cx="101520" cy="83520"/>
            <a:chOff x="7761240" y="15480"/>
            <a:chExt cx="101520" cy="83520"/>
          </a:xfrm>
        </p:grpSpPr>
        <p:sp>
          <p:nvSpPr>
            <p:cNvPr id="7" name=""/>
            <p:cNvSpPr/>
            <p:nvPr/>
          </p:nvSpPr>
          <p:spPr>
            <a:xfrm flipH="1" rot="10800000">
              <a:off x="7761240" y="15480"/>
              <a:ext cx="101520" cy="42840"/>
            </a:xfrm>
            <a:prstGeom prst="parallelogram">
              <a:avLst>
                <a:gd name="adj" fmla="val 592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73737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 rot="10800000">
              <a:off x="7761240" y="55800"/>
              <a:ext cx="101520" cy="42840"/>
            </a:xfrm>
            <a:prstGeom prst="parallelogram">
              <a:avLst>
                <a:gd name="adj" fmla="val 592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737373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59720" y="15480"/>
            <a:ext cx="101520" cy="83520"/>
            <a:chOff x="7659720" y="15480"/>
            <a:chExt cx="101520" cy="83520"/>
          </a:xfrm>
        </p:grpSpPr>
        <p:sp>
          <p:nvSpPr>
            <p:cNvPr id="10" name=""/>
            <p:cNvSpPr/>
            <p:nvPr/>
          </p:nvSpPr>
          <p:spPr>
            <a:xfrm flipH="1" rot="10800000">
              <a:off x="7659720" y="15480"/>
              <a:ext cx="101520" cy="42840"/>
            </a:xfrm>
            <a:prstGeom prst="parallelogram">
              <a:avLst>
                <a:gd name="adj" fmla="val 592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73737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 rot="10800000">
              <a:off x="7659720" y="55800"/>
              <a:ext cx="101520" cy="42840"/>
            </a:xfrm>
            <a:prstGeom prst="parallelogram">
              <a:avLst>
                <a:gd name="adj" fmla="val 592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737373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8993880" y="18720"/>
            <a:ext cx="101880" cy="83520"/>
            <a:chOff x="8993880" y="18720"/>
            <a:chExt cx="101880" cy="83520"/>
          </a:xfrm>
        </p:grpSpPr>
        <p:sp>
          <p:nvSpPr>
            <p:cNvPr id="13" name=""/>
            <p:cNvSpPr/>
            <p:nvPr/>
          </p:nvSpPr>
          <p:spPr>
            <a:xfrm flipH="1" rot="10800000">
              <a:off x="8993520" y="18720"/>
              <a:ext cx="101880" cy="42840"/>
            </a:xfrm>
            <a:prstGeom prst="parallelogram">
              <a:avLst>
                <a:gd name="adj" fmla="val 594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73737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 rot="10800000">
              <a:off x="8993520" y="59040"/>
              <a:ext cx="101880" cy="42840"/>
            </a:xfrm>
            <a:prstGeom prst="parallelogram">
              <a:avLst>
                <a:gd name="adj" fmla="val 594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737373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 rot="5400000">
            <a:off x="245520" y="477720"/>
            <a:ext cx="277920" cy="258840"/>
          </a:xfrm>
          <a:prstGeom prst="triangle">
            <a:avLst>
              <a:gd name="adj" fmla="val 50000"/>
            </a:avLst>
          </a:prstGeom>
          <a:solidFill>
            <a:srgbClr val="737373"/>
          </a:solidFill>
          <a:ln w="936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737373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53080" y="57240"/>
            <a:ext cx="429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daeb0"/>
                </a:solidFill>
                <a:latin typeface="Arial"/>
              </a:rPr>
              <a:t>NATIONAL GEOSPATIAL-INTELLIGENCE AGENCY</a:t>
            </a:r>
            <a:endParaRPr b="0" lang="en-US" sz="1400" spc="-1" strike="noStrike">
              <a:solidFill>
                <a:srgbClr val="737373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279480" y="6418440"/>
            <a:ext cx="28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Know the Earth…Show the Way</a:t>
            </a:r>
            <a:endParaRPr b="0" lang="en-US" sz="1400" spc="-1" strike="noStrike">
              <a:solidFill>
                <a:srgbClr val="73737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66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61360" y="642960"/>
            <a:ext cx="28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Know the Earth…Show the Way</a:t>
            </a:r>
            <a:endParaRPr b="0" lang="en-US" sz="1400" spc="-1" strike="noStrike">
              <a:solidFill>
                <a:srgbClr val="737373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59920" y="6553080"/>
            <a:ext cx="429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daeb0"/>
                </a:solidFill>
                <a:latin typeface="Arial"/>
              </a:rPr>
              <a:t>NATIONAL GEOSPATIAL-INTELLIGENCE AGENCY</a:t>
            </a:r>
            <a:endParaRPr b="0" lang="en-US" sz="1400" spc="-1" strike="noStrike">
              <a:solidFill>
                <a:srgbClr val="737373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06400" y="311040"/>
            <a:ext cx="1204920" cy="1204920"/>
            <a:chOff x="806400" y="311040"/>
            <a:chExt cx="1204920" cy="1204920"/>
          </a:xfrm>
        </p:grpSpPr>
        <p:sp>
          <p:nvSpPr>
            <p:cNvPr id="58" name=""/>
            <p:cNvSpPr/>
            <p:nvPr/>
          </p:nvSpPr>
          <p:spPr>
            <a:xfrm>
              <a:off x="811080" y="318960"/>
              <a:ext cx="1197000" cy="119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37373"/>
                </a:solidFill>
                <a:latin typeface="Times New Roman"/>
              </a:endParaRPr>
            </a:p>
          </p:txBody>
        </p:sp>
        <p:pic>
          <p:nvPicPr>
            <p:cNvPr id="59" name="nga_seal_small" descr=""/>
            <p:cNvPicPr/>
            <p:nvPr/>
          </p:nvPicPr>
          <p:blipFill>
            <a:blip r:embed="rId3"/>
            <a:stretch/>
          </p:blipFill>
          <p:spPr>
            <a:xfrm>
              <a:off x="806400" y="311040"/>
              <a:ext cx="1204920" cy="12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MGCPTG2DGIWG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0440" y="2606760"/>
            <a:ext cx="8217000" cy="18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GCP </a:t>
            </a: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tatus</a:t>
            </a:r>
            <a:br>
              <a:rPr sz="6600"/>
            </a:br>
            <a:endParaRPr b="0" lang="en-US" sz="6000" spc="-1" strike="noStrike">
              <a:solidFill>
                <a:srgbClr val="73737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2760" y="4816440"/>
            <a:ext cx="912168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73737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DGIWG</a:t>
            </a:r>
            <a:endParaRPr b="0" lang="en-US" sz="1800" spc="-1" strike="noStrike">
              <a:solidFill>
                <a:srgbClr val="73737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Policy meeting</a:t>
            </a:r>
            <a:endParaRPr b="0" lang="en-US" sz="1800" spc="-1" strike="noStrike">
              <a:solidFill>
                <a:srgbClr val="73737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Amsterdam, Netherlands</a:t>
            </a:r>
            <a:endParaRPr b="0" lang="en-US" sz="1800" spc="-1" strike="noStrike">
              <a:solidFill>
                <a:srgbClr val="73737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25 April, 2006</a:t>
            </a: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bd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737373"/>
              </a:solidFill>
              <a:latin typeface="Times New Roman"/>
            </a:endParaRPr>
          </a:p>
        </p:txBody>
      </p:sp>
      <p:pic>
        <p:nvPicPr>
          <p:cNvPr id="106" name="Flatten%20Logo" descr=""/>
          <p:cNvPicPr/>
          <p:nvPr/>
        </p:nvPicPr>
        <p:blipFill>
          <a:blip r:embed="rId2"/>
          <a:stretch/>
        </p:blipFill>
        <p:spPr>
          <a:xfrm>
            <a:off x="7607160" y="957240"/>
            <a:ext cx="13399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Technical I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422360"/>
            <a:ext cx="80373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480" y="1484280"/>
            <a:ext cx="89913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AGERY BENCHMARKING PROCESS: </a:t>
            </a:r>
            <a:endParaRPr b="0" lang="en-US" sz="2800" spc="-1" strike="noStrike">
              <a:solidFill>
                <a:srgbClr val="73737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process implemented by the MGCP to ensure that member nations can generate acceptable ortho-rectified commercial imagery with sufficient accuracy to support subsequent extraction of data for MGCP population.</a:t>
            </a:r>
            <a:endParaRPr b="0" lang="en-US" sz="2800" spc="-1" strike="noStrike">
              <a:solidFill>
                <a:srgbClr val="73737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2EEE-D526-497D-986C-E6DA9F64E1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Need for Imagery Benchmar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75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l nations must achieve MGCP Ortho Certification.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Imagery is assumed to be the primary source for feature extraction.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importance of high quality elevation data.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end-goal of 25 meter absolute accuracy for MGCP feature data.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GA assumes primary responsibility for ortho-rectified imagery evaluation process.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08C5-FC10-4D22-8580-E08B23B3AC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MGCP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9040" y="1177560"/>
            <a:ext cx="91440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MGCP sample cell 99 provided by the              United Stat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Version 3 contains XML updates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MGCP data over Cape Verde produced by Portugal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For NATO LIVEX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MGCP data by Canada, Germany, Czech R.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F2C5-17B5-4E07-A180-FFAEF6892817}" type="slidenum">
              <a:t>12</a:t>
            </a:fld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Possible uses of MGCP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040" y="1177560"/>
            <a:ext cx="91440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MGCP data is not considered a “finished product”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Foundation layer of featur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MGCP data will be used as a source to support national military systems.  High resolution vector data can be integrated into command and control, surveillance, reconnaissance or weapons systems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MGCP data for NGA will be an input to the Geospatial Knowledge Base F (GKB).                                                    GKB is the enterprise solution to NGA’s dat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26B9-FF67-4AB4-891D-5E38DD74C03C}" type="slidenum">
              <a:t>13</a:t>
            </a:fld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9800" y="47160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International Geospatial </a:t>
            </a:r>
            <a:br>
              <a:rPr sz="3200"/>
            </a:b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Warehouse (IG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582560"/>
            <a:ext cx="8578800" cy="47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A Initiative 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d to by MGCP Nation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ed in Canad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ments worked with Technical Group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CP Website established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PKI section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ocument shar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KI section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GCP planning and management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al access for data uploads and download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 File exchanges, e.g.  Arc Shape Fil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34" name="company_logo" descr=""/>
          <p:cNvPicPr/>
          <p:nvPr/>
        </p:nvPicPr>
        <p:blipFill>
          <a:blip r:embed="rId1"/>
          <a:stretch/>
        </p:blipFill>
        <p:spPr>
          <a:xfrm>
            <a:off x="5904000" y="200160"/>
            <a:ext cx="2790720" cy="4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1368-0A52-4C64-A564-CB2E03F16E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41000" y="1639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EE JSR 168 Portal Environment.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Geospatial Consortium (OGC) specifications – Catalogue (CSW), WMS, Gazetteer, Style Layer Descriptor (SLD), etc.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9115 metadata standard to capture high-level metadata about the files themselves.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Infrastructure (PKI).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36" name="company_logo" descr=""/>
          <p:cNvPicPr/>
          <p:nvPr/>
        </p:nvPicPr>
        <p:blipFill>
          <a:blip r:embed="rId1"/>
          <a:stretch/>
        </p:blipFill>
        <p:spPr>
          <a:xfrm>
            <a:off x="5904000" y="200160"/>
            <a:ext cx="2790720" cy="438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26760" y="310680"/>
            <a:ext cx="5499000" cy="5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Portal Stand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MGCP Benef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7680" y="1055520"/>
            <a:ext cx="8186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39760" indent="-239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ted operations at its bes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767880" indent="-2397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 example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lvl="1" marL="767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marL="239760" indent="-239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turn On Investment (ROI) for all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39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39760" indent="-239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lined and open data release among participant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39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39760" indent="-239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, accurate, supplemental GEOINT  data coverag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76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6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6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009C-2D15-4484-A651-9EF3758E6C6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6880" y="430200"/>
            <a:ext cx="343368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720" y="650520"/>
            <a:ext cx="754056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nary Group Items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ering Group Items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Group Items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thorectification Benchmarking Proces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Geospatial Warehouse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3C7E-9235-4837-B72F-1961B707496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66880" y="430200"/>
            <a:ext cx="46339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MGCP Particip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240" y="1412640"/>
            <a:ext cx="905508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lg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zech Republi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on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nlan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ee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tv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do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herland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. Zealand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wa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man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vak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ede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urke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1530-5EB5-4A59-A1BF-C166F8BD55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6880" y="430200"/>
            <a:ext cx="343368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Program Obj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9760" y="1126800"/>
            <a:ext cx="712764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rdinate high resolution  digital vector production over high interest regions world-wide</a:t>
            </a:r>
            <a:endParaRPr b="0" lang="en-US" sz="3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NLY VECTORS</a:t>
            </a:r>
            <a:endParaRPr b="0" lang="en-US" sz="3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D144-79AA-4D78-A29F-A8EB003748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Plenary Item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479600"/>
            <a:ext cx="80373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Program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count = 3017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t 50:000 density = 1250 (41%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is 90% finalized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1 country to finalize AO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dozen countries to finalize density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half a dozen countries to finalize year of production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4469-C4B5-4C62-82C6-D7C9A06AC6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Plenary Item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479600"/>
            <a:ext cx="80373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duration = 5 Years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tabilize 2007-2011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Assurance plan in place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Lead nations perform QA for 28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7F70-8619-46FE-822A-6852BA0E11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Steering I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22360"/>
            <a:ext cx="80373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andum of Understanding 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14 issued after SG meeting in Feb 06.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received from 17 nations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howstoppers so f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make every effort to begin the signature process by June 200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0822-C5CC-4F2C-86E9-05F3645F4B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2"/>
                </a:solidFill>
                <a:latin typeface="Arial"/>
              </a:rPr>
              <a:t>Steering I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22360"/>
            <a:ext cx="80373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Operating Procedures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 N. 1, Sources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 N. 2, Quality Assuranc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 N. 3, Production Planning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 N. 4, Frequently Asked Question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B657-BBB4-4CB6-B72B-29BAD1A1A0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20000"/>
                </a:solidFill>
                <a:uFillTx/>
                <a:latin typeface="Arial"/>
                <a:hlinkClick r:id="rId1"/>
              </a:rPr>
              <a:t>Technical I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422360"/>
            <a:ext cx="80373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D1 has been issued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 TRD2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associated with DGIWG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XML Metadat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DFDD evolu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lvl="1" marL="9144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L transition plan  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BF59-F0FA-4597-9404-4E014C473EA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9:00:40Z</dcterms:created>
  <dc:creator>AyersMS</dc:creator>
  <dc:description/>
  <dc:language>en-US</dc:language>
  <cp:lastModifiedBy>CDO'Brien</cp:lastModifiedBy>
  <dcterms:modified xsi:type="dcterms:W3CDTF">2006-04-25T06:25:00Z</dcterms:modified>
  <cp:revision>102</cp:revision>
  <dc:subject/>
  <dc:title>PowerPoint Presentation</dc:title>
</cp:coreProperties>
</file>