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45980-EDD4-4C1E-9FD4-0CF9860A23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54BF1-E6CB-476E-8B46-269BE60627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F5823-95AC-4943-BC18-0E6D75330A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6187F-0379-42DC-9A6C-C4C38DF395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58F66-C441-4F73-9BB3-CFC67FAFE7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FE52A-570C-4AB7-97AA-4C8A6E96FD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930E5-41B8-4A2B-BE55-8D94086C10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859FC-FBDD-4C5A-83AB-A8514E59CF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4BD61-F2AD-4DAB-9A70-B19B8264F8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4EFDD-ABEB-4C44-AB7D-AC329B0862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95845-6D96-4D3E-A8BD-07A9F0C8A8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1B841-DFF7-4525-BBAB-77D3E52DF5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238880" y="64004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0BEA-5878-4D10-BAC9-B2676650F5FA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09560" y="563400"/>
            <a:ext cx="5967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GIWG Conference Amsterdam, NL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24 – 25 April 2006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60200" y="130320"/>
            <a:ext cx="125100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76320" y="1512720"/>
            <a:ext cx="89978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56320" y="0"/>
            <a:ext cx="14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UNCLASSIFIED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6320" y="6553080"/>
            <a:ext cx="14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UNCLASSIFIED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311920" y="284040"/>
            <a:ext cx="456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333399"/>
                </a:solidFill>
                <a:latin typeface="Arial"/>
              </a:rPr>
              <a:t>Digital Geospatial Information Working Group (DGIWG)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333399"/>
                </a:solidFill>
                <a:latin typeface="Arial"/>
              </a:rPr>
              <a:t>Services and Interfaces Technical Panel (SITP)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26960" y="4294080"/>
            <a:ext cx="290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DGIWG Conferenc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Amsterdam, N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24 - 25 April 2005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55800" y="2430360"/>
            <a:ext cx="7264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rvices &amp; Interfaces Technical Panel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SITP) Repor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5C1D9-678A-47AC-B2AB-007929F837F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498680" y="2433240"/>
            <a:ext cx="6570720" cy="34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Still need to engage Defence Information Systems Agency (Phil Hammond) to assist with testing of web based services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Possibility of engaging OGC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Possibility of engaging America, Britain, Canada, Australia Armies Standardisation Programme (ABCA).   NZ Lt Col Bruce Crisp is defining Geospatial requirements (Army based – not a joint requirement) for the Capability Group Sense.  ABCA could be used as an independent test bed. 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Authority and further discussion needed before ABCA is approached.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Approved at the Madrid Plenary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Call for resources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09680" y="1822320"/>
            <a:ext cx="5778360" cy="38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12 Web Services Compliance Testing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BDB55-002D-408D-8A81-5530170E4F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301120" y="2367000"/>
            <a:ext cx="460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QUESTIONS?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Contact Karpal Chan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C/SIP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Head Standards Branch DGI HQ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+44 (0) 208 818 2333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dgi-standardshdc1@dgi.mod.uk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FBD52-6E44-4AC3-B8DE-3FF560BE23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20480" y="1815840"/>
            <a:ext cx="443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Active SITP Project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33560" y="2421000"/>
            <a:ext cx="657072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01 Portrayal Service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03 Request For Information (RFI) Service Pla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04 Service Architecture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05 Web Data Service Access Pla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07 Catalogue Servic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09 Gazetteer Servic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11 Change Management Servic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S12 Web Services Compliance Testing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20164-C769-4EA1-A5BE-F696F1CE49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498320" y="2382480"/>
            <a:ext cx="5762520" cy="18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roject Sheet revised by Portrayal Thematic ‘Team’ in conjunction with other DGIWG Portrayal Project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roject Lead to be confirmed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raft Schedule prepared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1833480"/>
            <a:ext cx="32335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01 Portrayal Servic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DE895-1D07-4226-B2C0-EEE4882A3A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515600" y="2134800"/>
            <a:ext cx="6829560" cy="34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Published on Sitescape after the Madrid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Conference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Version 6.1 of draft specification issued for  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comment March 06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The NZDF (JGSF) has offered a member to joi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6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S03 by providing assistance via email, web-cast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6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and VTC etc to progress this work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Awaiting feedback from NATO on their RFI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Management  System development to see if there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are any impacts to the RFI Spec. 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Vote to resolution to draft standard pending </a:t>
            </a: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editorial correction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6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19040" y="1827360"/>
            <a:ext cx="70041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03 Request For Information (RFI) Service Pla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B7ED7-AC08-472B-8E00-3647CD7909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498680" y="2244240"/>
            <a:ext cx="6570720" cy="34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Expect to publish a draft version of the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document in September 06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Letter ballot to follow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17600" y="1827360"/>
            <a:ext cx="68659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04 Service Architectur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(Creating a structure and roadmap for SITP projects)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B9E2F-768C-4750-B76E-8AA2819298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496880" y="2445840"/>
            <a:ext cx="6570720" cy="34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mportant to begin this project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Seeking project team lead and additional team members to join the project.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tential resources;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BR has SMEs and can assign some resources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The NZ has offered a member to join the project team by providing assistance via email, web-casts and VTC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Norway has indicated that they would like to attend the kick off meeting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12920" y="1832040"/>
            <a:ext cx="5608440" cy="38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05 Web Data Service Access Pla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DB108-17C5-4A85-9581-7B20105976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519200" y="2373480"/>
            <a:ext cx="657072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The S07 project team meeting will focus on finalizing the profile (OGC)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Project is progressing well with the objective to have a Draft Standard ready by summer 06 for consideration by DGIWG members.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Completion dependant on receipt of information from D19 Metadata Project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Identified as highest priority in DGIWG survey 2002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Requires implementation and testing by Fall 06.  Needs linking to existing National Projects – at least two Nation participation plus NATO (Phase 3 Core GIS)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1833480"/>
            <a:ext cx="763884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07 Catalogue Servic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Publish and Find Metadata on Geospatial Resources)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1B6C9-B520-4893-BF8D-CAAAAA4D67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504440" y="2090880"/>
            <a:ext cx="749484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Initial meeting held in Spindleruv in Nov 05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Follow on meeting held London Jan 06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Identified reference documents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Reviewed GBR’s Concept of Operations for a Gazetteer document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Reviewed OGC’s Gazetteer Service Profile of th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Web Feature Service Implementation Specification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Another year’s effort is required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35240" y="1820880"/>
            <a:ext cx="3979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09 Gazetteer Web Servic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4626B-76A1-40AB-A3BA-CF8719CC2F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498680" y="2563560"/>
            <a:ext cx="6570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ittle progress to date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Alignment with IHO and OGC required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22280" y="1820880"/>
            <a:ext cx="654372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11 Change Management Servic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Updating of distributed data sets)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CEA8D-069F-4D0F-8D40-CF8A0166B4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08:57:07Z</dcterms:created>
  <dc:creator>ISPENCER</dc:creator>
  <dc:description/>
  <dc:language>en-US</dc:language>
  <cp:lastModifiedBy>standards</cp:lastModifiedBy>
  <dcterms:modified xsi:type="dcterms:W3CDTF">2006-04-24T17:02:15Z</dcterms:modified>
  <cp:revision>84</cp:revision>
  <dc:subject/>
  <dc:title>No Slide Title</dc:title>
</cp:coreProperties>
</file>