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B1CD-30EB-43DC-AC78-445FB7E2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D699-7D8F-4460-B4F4-7D32CDFC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AA41-0EBE-4205-92A2-8858170D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86A0-DA85-4B37-A0F5-AE2378C6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01117-9695-4FCD-B68F-5AC51A35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72B05-22B7-4836-A107-1EE487C2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8A4AD-028F-46FF-99C9-23972A1F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2AFEA-33F8-4668-A4A5-64C4F8CC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B461A-FC35-41F6-B5B9-4A0D24A3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4AFF5-5915-4B29-81F3-72D8CAC7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FE92C-3B44-4217-A95A-674885AF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62EF-33AE-4131-A398-4CDF1A16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A57F4-5168-4D33-AD13-ACCD94A0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01B41-D0F7-4C27-BA40-BA55A0C9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8EEA1-411F-437E-8863-7C8546AC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39262-0B77-4346-888A-6ACA86A6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E6AAE-76C1-4203-B06B-937F69D5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B720-0A73-4E8E-BC58-0DD6B876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CFFC-B273-452E-9C1A-6F02F8BD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F06F-BE59-4C92-A30D-B37AAA4A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5878-35A4-41AE-B224-891B58CF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1908-3C54-4D7F-A179-2B77ED60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9A73-18ED-4125-B55D-0593A7FE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2DCC-7C1A-4B73-A369-B23316E2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AAB0-928B-4F1E-894F-39077607F7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3083-A8AA-412A-BD36-6D52543DA5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996920"/>
            <a:ext cx="8642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International Hydrographic Organis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4941720"/>
            <a:ext cx="64008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rrie Greenslade UK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564000" y="476280"/>
            <a:ext cx="1152360" cy="1512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40000" y="3716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aison Rep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 standards harmonis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eature Data Dictionaries (19126/1913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5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FDD contains S-100 Hydro Features/Attribut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1-2D Spatial Pro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3D (in progres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ydrographic Meta Discovery Pro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5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riven by HIHW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039160" y="5516640"/>
            <a:ext cx="780840" cy="10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ssu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85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-100 replaces S-57 Edition 4.0 tit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duct Specs – S-101 (ENC), S-102 (Bathy), S-103………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GIWG/IHO Cooperation Agre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O Copyr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101080" y="5516640"/>
            <a:ext cx="780840" cy="10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4T09:45:23Z</dcterms:created>
  <dc:creator>Barrie Greenslade</dc:creator>
  <dc:description/>
  <dc:language>en-US</dc:language>
  <cp:lastModifiedBy>Barrie Greenslade</cp:lastModifiedBy>
  <dcterms:modified xsi:type="dcterms:W3CDTF">2006-04-23T16:28:50Z</dcterms:modified>
  <cp:revision>16</cp:revision>
  <dc:subject/>
  <dc:title>Slide 1</dc:title>
</cp:coreProperties>
</file>