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4687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AA287-7F11-4495-B08A-BD05A8181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2"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D2845A2-1F6A-4560-B645-5C3B1B96A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5"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ABFDEC1B-AA63-47B0-909B-978DECF0F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0"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442E48EC-483E-4671-BFFD-759E097B2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48C71-4111-43DB-8B88-9C5129C262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56A9-7B09-41CE-A073-E92094655F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4A38E-CFA9-49C3-A3F2-7A2116DE55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9"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19C0-3BA3-411A-A1B1-6CD68417ED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D29AC-9D36-4482-9302-DB77CFB42E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5752-4EE1-4066-BBCB-4C6552D19F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4"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B6EE-7327-493F-A04A-BF419F3B07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28A9ECD-F734-42FE-93BC-08F720613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8"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B31C-A3BE-48F3-B618-C63C348A1E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2"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47F6-167A-461E-B947-106FC7F2D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6"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5A230-1322-46D5-AE0B-A1CBAED88F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9"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E72B3-E8C6-4453-9104-2287449746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84"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727D3-21C4-4928-A007-27CC997EC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AD84D5C-BB2B-4D97-9D97-CD1FE2BF31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93FE003E-79C4-44DA-AF26-67F3608A2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sldNum" idx="1"/>
          </p:nvPr>
        </p:nvSpPr>
        <p:spPr/>
        <p:txBody>
          <a:bodyPr/>
          <a:p>
            <a:fld id="{8464325A-007D-444D-8BCB-95CF04FD1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3EF31D4-8822-4FF6-812D-140E0F3EE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0"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994C870-DBCF-418B-9BA5-523D9283F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4"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55F503E-C457-4AC7-8243-9A57BCB568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8"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2714260-862E-44D6-AAEA-AF90F3AE6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sldNum" idx="1"/>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6583-1DA9-45F7-B170-07F743FFE8F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16765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
          <p:cNvSpPr/>
          <p:nvPr/>
        </p:nvSpPr>
        <p:spPr>
          <a:xfrm>
            <a:off x="3124080" y="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 name=""/>
          <p:cNvSpPr/>
          <p:nvPr/>
        </p:nvSpPr>
        <p:spPr>
          <a:xfrm>
            <a:off x="1600200" y="228600"/>
            <a:ext cx="701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808080"/>
                </a:solidFill>
                <a:latin typeface="Arial"/>
              </a:rPr>
              <a:t>Digital Geospatial Information Working Group</a:t>
            </a:r>
            <a:br>
              <a:rPr sz="1600"/>
            </a:br>
            <a:r>
              <a:rPr b="0" i="1" lang="en-GB" sz="1600" spc="-1" strike="noStrike">
                <a:solidFill>
                  <a:srgbClr val="808080"/>
                </a:solidFill>
                <a:latin typeface="Arial"/>
              </a:rPr>
              <a:t>DGIWG Conference 2006 Amsterdam</a:t>
            </a:r>
            <a:endParaRPr b="0" lang="en-US" sz="1600" spc="-1" strike="noStrike">
              <a:solidFill>
                <a:srgbClr val="000000"/>
              </a:solidFill>
              <a:latin typeface="Times New Roman"/>
            </a:endParaRPr>
          </a:p>
        </p:txBody>
      </p:sp>
      <p:sp>
        <p:nvSpPr>
          <p:cNvPr id="8" name=""/>
          <p:cNvSpPr/>
          <p:nvPr/>
        </p:nvSpPr>
        <p:spPr>
          <a:xfrm>
            <a:off x="5638680" y="0"/>
            <a:ext cx="3429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DGIWG_geospatial_logo" descr=""/>
          <p:cNvPicPr/>
          <p:nvPr/>
        </p:nvPicPr>
        <p:blipFill>
          <a:blip r:embed="rId2"/>
          <a:stretch/>
        </p:blipFill>
        <p:spPr>
          <a:xfrm>
            <a:off x="0" y="0"/>
            <a:ext cx="1601640" cy="160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47" name="PlaceHolder 2"/>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r>
              <a:rPr b="1" lang="en-US"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704F-B25B-4F6D-9E8D-2B947B088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124080" y="15228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51" name=""/>
          <p:cNvSpPr/>
          <p:nvPr/>
        </p:nvSpPr>
        <p:spPr>
          <a:xfrm>
            <a:off x="5486400" y="0"/>
            <a:ext cx="358128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DGIWG_geospatial_logo" descr=""/>
          <p:cNvPicPr/>
          <p:nvPr/>
        </p:nvPicPr>
        <p:blipFill>
          <a:blip r:embed="rId2"/>
          <a:stretch/>
        </p:blipFill>
        <p:spPr>
          <a:xfrm>
            <a:off x="1908000" y="692280"/>
            <a:ext cx="5131080" cy="513072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708660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0AD0-A2E6-4B2F-9DD4-F5A07DDFDD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 name=""/>
          <p:cNvSpPr txBox="1"/>
          <p:nvPr/>
        </p:nvSpPr>
        <p:spPr>
          <a:xfrm>
            <a:off x="3124080" y="6400440"/>
            <a:ext cx="2895840" cy="3049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UNCLASSIFIED</a:t>
            </a:r>
            <a:endParaRPr b="0" lang="en-US" sz="1400" spc="-1" strike="noStrike">
              <a:solidFill>
                <a:srgbClr val="000000"/>
              </a:solidFill>
              <a:latin typeface="Times New Roman"/>
            </a:endParaRPr>
          </a:p>
        </p:txBody>
      </p:sp>
      <p:sp>
        <p:nvSpPr>
          <p:cNvPr id="92" name=""/>
          <p:cNvSpPr/>
          <p:nvPr/>
        </p:nvSpPr>
        <p:spPr>
          <a:xfrm>
            <a:off x="5562720" y="0"/>
            <a:ext cx="35049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106668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Support to NATO Core GIS </a:t>
            </a:r>
            <a:br>
              <a:rPr sz="4400"/>
            </a:br>
            <a:br>
              <a:rPr sz="4400"/>
            </a:br>
            <a:r>
              <a:rPr b="1" lang="en-US" sz="2400" spc="-1" strike="noStrike">
                <a:solidFill>
                  <a:srgbClr val="0000ff"/>
                </a:solidFill>
                <a:latin typeface="Arial"/>
              </a:rPr>
              <a:t>Agenda Item 3.8    24 April 06</a:t>
            </a:r>
            <a:r>
              <a:rPr b="1" lang="en-US" sz="2400" spc="-1" strike="noStrike">
                <a:solidFill>
                  <a:srgbClr val="0000ff"/>
                </a:solidFill>
                <a:latin typeface="Times New Roman"/>
              </a:rPr>
              <a:t> </a:t>
            </a:r>
            <a:br>
              <a:rPr sz="2400"/>
            </a:br>
            <a:r>
              <a:rPr b="1" lang="en-US" sz="2400" spc="-1" strike="noStrike">
                <a:solidFill>
                  <a:srgbClr val="0000ff"/>
                </a:solidFill>
                <a:latin typeface="Arial"/>
              </a:rPr>
              <a:t>DGIWG Conference 2006</a:t>
            </a:r>
            <a:br>
              <a:rPr sz="2400"/>
            </a:br>
            <a:r>
              <a:rPr b="1" lang="en-US" sz="2400" spc="-1" strike="noStrike">
                <a:solidFill>
                  <a:srgbClr val="0000ff"/>
                </a:solidFill>
                <a:latin typeface="Arial"/>
              </a:rPr>
              <a:t>Amsterdam</a:t>
            </a:r>
            <a:br>
              <a:rPr sz="2400"/>
            </a:br>
            <a:br>
              <a:rPr sz="3200"/>
            </a:br>
            <a:br>
              <a:rPr sz="3200"/>
            </a:br>
            <a:r>
              <a:rPr b="1" lang="en-US" sz="2800" spc="-1" strike="noStrike">
                <a:solidFill>
                  <a:srgbClr val="0000ff"/>
                </a:solidFill>
                <a:latin typeface="Arial"/>
              </a:rPr>
              <a:t>D. O’Brien &amp; M. Power, IDON</a:t>
            </a:r>
            <a:endParaRPr b="1" lang="en-US" sz="28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New Features</a:t>
            </a:r>
            <a:endParaRPr b="1" lang="en-US" sz="3200" spc="-1" strike="noStrike">
              <a:solidFill>
                <a:srgbClr val="3333cc"/>
              </a:solidFill>
              <a:latin typeface="Times New Roman"/>
            </a:endParaRPr>
          </a:p>
        </p:txBody>
      </p:sp>
      <p:sp>
        <p:nvSpPr>
          <p:cNvPr id="111"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e GIS will make use of the DGIWG DFDD as the base feature data dictionary.</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dditional features generated to address any new feature types required to support the commercial sources. These may be considered as NATO "national" features or may be suitable for inclusion in the general DGIWG DFDD.</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GIWG and NATO must cooperate on the maintenance of the DFD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E228157-EE5F-4A0A-B61D-3ED4E9AAA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eatures Ontologies</a:t>
            </a:r>
            <a:endParaRPr b="1" lang="en-US" sz="3200" spc="-1" strike="noStrike">
              <a:solidFill>
                <a:srgbClr val="3333cc"/>
              </a:solidFill>
              <a:latin typeface="Times New Roman"/>
            </a:endParaRPr>
          </a:p>
        </p:txBody>
      </p:sp>
      <p:sp>
        <p:nvSpPr>
          <p:cNvPr id="1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acquisition from commercial sources will result in conversion to the DFDD features (by the contractor).</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ature mappings are of great value to both NATO and DGIWG and need to be documented and maintained with the data dictionary.</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Ontologies will be needed to relate different uses of features in catalogues and across data dictionaries.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Catalogues will need to be established for each data product identifying the features and attributes (from the DFDD) used in that product.</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is needed between DGIWG and NATO on Feature Ontologies, mappings and catalogu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CEBDB40-D36F-4D65-AF6E-AA393CCEBA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etadata</a:t>
            </a:r>
            <a:endParaRPr b="1" lang="en-US" sz="3200" spc="-1" strike="noStrike">
              <a:solidFill>
                <a:srgbClr val="3333cc"/>
              </a:solidFill>
              <a:latin typeface="Times New Roman"/>
            </a:endParaRPr>
          </a:p>
        </p:txBody>
      </p:sp>
      <p:sp>
        <p:nvSpPr>
          <p:cNvPr id="115"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O Core GIS will make use of the metadata identified by DGIWG.</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ata product will not use all of the metadata elements so metadata catalogues are required for each product.</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adata register is required especially for code lists.</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ization/coherence with other communities (AG4)</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14E6A70-F87B-444A-B94F-B5EDCDB92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ortrayal</a:t>
            </a:r>
            <a:endParaRPr b="1" lang="en-US" sz="3200" spc="-1" strike="noStrike">
              <a:solidFill>
                <a:srgbClr val="3333cc"/>
              </a:solidFill>
              <a:latin typeface="Times New Roman"/>
            </a:endParaRPr>
          </a:p>
        </p:txBody>
      </p:sp>
      <p:sp>
        <p:nvSpPr>
          <p:cNvPr id="117" name="PlaceHolder 2"/>
          <p:cNvSpPr>
            <a:spLocks noGrp="1"/>
          </p:cNvSpPr>
          <p:nvPr>
            <p:ph/>
          </p:nvPr>
        </p:nvSpPr>
        <p:spPr>
          <a:xfrm>
            <a:off x="533160" y="1752480"/>
            <a:ext cx="83818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e GIS services require a common portrayal mechanism and wishes to work with DGIW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interim NC3A building upon the existing SVG version of GEOSYM (both symbols and rule sets), with the intent of evolving to the subsequent DGIWG standa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IS contractor has been requested to create/integrate a Symbology Registry based on GeoSym, APP6, S-52, IHO INT-1, and MilSt 2525.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NATO and DGIWG cooperate on the coordination of symbology registers and to not duplicate work within the time frame of the Core GIS projec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B34A0B-E04D-4B14-9101-73A07A2ED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patial Schema</a:t>
            </a:r>
            <a:endParaRPr b="1" lang="en-US" sz="3200" spc="-1" strike="noStrike">
              <a:solidFill>
                <a:srgbClr val="3333cc"/>
              </a:solidFill>
              <a:latin typeface="Times New Roman"/>
            </a:endParaRPr>
          </a:p>
        </p:txBody>
      </p:sp>
      <p:sp>
        <p:nvSpPr>
          <p:cNvPr id="119" name="PlaceHolder 2"/>
          <p:cNvSpPr>
            <a:spLocks noGrp="1"/>
          </p:cNvSpPr>
          <p:nvPr>
            <p:ph/>
          </p:nvPr>
        </p:nvSpPr>
        <p:spPr>
          <a:xfrm>
            <a:off x="533160" y="1752480"/>
            <a:ext cx="83818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NATO needs have been addressed by the DGIWG 2D vector Data Spatial Sche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uture, a 3D Spatial Schema will be of interest. This is currently a DGIWG 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patial Schemas will be needed in the future such as gridded data and TIN data (Coverag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F4D6E51-83D6-4ACF-A3C7-FFF71A46D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ervice Architecture</a:t>
            </a:r>
            <a:endParaRPr b="1" lang="en-US" sz="3200" spc="-1" strike="noStrike">
              <a:solidFill>
                <a:srgbClr val="3333cc"/>
              </a:solidFill>
              <a:latin typeface="Times New Roman"/>
            </a:endParaRPr>
          </a:p>
        </p:txBody>
      </p:sp>
      <p:sp>
        <p:nvSpPr>
          <p:cNvPr id="121"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phase of the Core GIS will be service based.</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ue Service</a:t>
            </a:r>
            <a:endParaRPr b="0" lang="en-US" sz="2800" spc="-1" strike="noStrike">
              <a:solidFill>
                <a:srgbClr val="000000"/>
              </a:solidFill>
              <a:latin typeface="Times New Roman"/>
            </a:endParaRPr>
          </a:p>
          <a:p>
            <a:pPr lvl="2" marL="1143000" indent="-228600">
              <a:lnSpc>
                <a:spcPct val="85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e GIS will be based on ebRIM, serviced through the Web Registry Service WRS</a:t>
            </a:r>
            <a:endParaRPr b="0" lang="en-US" sz="2800" spc="-1" strike="noStrike">
              <a:solidFill>
                <a:srgbClr val="000000"/>
              </a:solidFill>
              <a:latin typeface="Times New Roman"/>
            </a:endParaRPr>
          </a:p>
          <a:p>
            <a:pPr lvl="2" marL="1143000" indent="-228600">
              <a:lnSpc>
                <a:spcPct val="85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coordinate with the S07 project work</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of the DGIWG SITP complements that of NATO and the NATO Core GIS contractor, but there needs to be coordina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5D6EC73-078F-4EA5-BFF1-8BBCF4D2A4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oduct Specifications</a:t>
            </a:r>
            <a:endParaRPr b="1" lang="en-US" sz="3200" spc="-1" strike="noStrike">
              <a:solidFill>
                <a:srgbClr val="3333cc"/>
              </a:solidFill>
              <a:latin typeface="Times New Roman"/>
            </a:endParaRPr>
          </a:p>
        </p:txBody>
      </p:sp>
      <p:sp>
        <p:nvSpPr>
          <p:cNvPr id="12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products currently exist from DGIWG and NATO member nations and other sources. These range from raster products to vector products old and new from VMap, and DNC to MGCP and many other sources.</a:t>
            </a:r>
            <a:endParaRPr b="0" lang="en-US" sz="2400" spc="-1" strike="noStrike">
              <a:solidFill>
                <a:srgbClr val="000000"/>
              </a:solidFill>
              <a:latin typeface="Times New Roman"/>
            </a:endParaRPr>
          </a:p>
          <a:p>
            <a:pPr marL="332640" indent="-33264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oduct needs a product specification and mapped to the current DFDD, metadata and other DGIWG specifications. </a:t>
            </a:r>
            <a:endParaRPr b="0" lang="en-US" sz="2400" spc="-1" strike="noStrike">
              <a:solidFill>
                <a:srgbClr val="000000"/>
              </a:solidFill>
              <a:latin typeface="Times New Roman"/>
            </a:endParaRPr>
          </a:p>
          <a:p>
            <a:pPr marL="332640" indent="-33264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important so that the data can continue to be used, and used compatibly in the Core GIS and other integrated systems.</a:t>
            </a:r>
            <a:endParaRPr b="0" lang="en-US" sz="2400" spc="-1" strike="noStrike">
              <a:solidFill>
                <a:srgbClr val="000000"/>
              </a:solidFill>
              <a:latin typeface="Times New Roman"/>
            </a:endParaRPr>
          </a:p>
          <a:p>
            <a:pPr marL="332640" indent="-332640">
              <a:lnSpc>
                <a:spcPct val="85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O and DGIWG need to cooperate on the establishment and documentation of product specifications for the products of concern to the Core GI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F3395DB-82B2-4E49-A8AD-665BB1592E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mpliance Testing</a:t>
            </a:r>
            <a:endParaRPr b="1" lang="en-US" sz="3200" spc="-1" strike="noStrike">
              <a:solidFill>
                <a:srgbClr val="3333cc"/>
              </a:solidFill>
              <a:latin typeface="Times New Roman"/>
            </a:endParaRPr>
          </a:p>
        </p:txBody>
      </p:sp>
      <p:sp>
        <p:nvSpPr>
          <p:cNvPr id="125" name="PlaceHolder 2"/>
          <p:cNvSpPr>
            <a:spLocks noGrp="1"/>
          </p:cNvSpPr>
          <p:nvPr>
            <p:ph/>
          </p:nvPr>
        </p:nvSpPr>
        <p:spPr>
          <a:xfrm>
            <a:off x="533520" y="1600200"/>
            <a:ext cx="8153280" cy="4572000"/>
          </a:xfrm>
          <a:prstGeom prst="rect">
            <a:avLst/>
          </a:prstGeom>
          <a:noFill/>
          <a:ln w="0">
            <a:noFill/>
          </a:ln>
        </p:spPr>
        <p:txBody>
          <a:bodyPr lIns="90000" rIns="90000" tIns="46800" bIns="46800" anchor="t">
            <a:normAutofit/>
          </a:bodyPr>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to the specifications is of great importance and NC3A is interested in the results of the work of the DATP in the area of model based testin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2CAD890-8B5A-442F-AE5D-2AF6A8F7B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762120"/>
            <a:ext cx="7010280" cy="93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GML and Legacy Encodings</a:t>
            </a:r>
            <a:endParaRPr b="1" lang="en-US" sz="3200" spc="-1" strike="noStrike">
              <a:solidFill>
                <a:srgbClr val="3333cc"/>
              </a:solidFill>
              <a:latin typeface="Times New Roman"/>
            </a:endParaRPr>
          </a:p>
        </p:txBody>
      </p:sp>
      <p:sp>
        <p:nvSpPr>
          <p:cNvPr id="127" name="PlaceHolder 2"/>
          <p:cNvSpPr>
            <a:spLocks noGrp="1"/>
          </p:cNvSpPr>
          <p:nvPr>
            <p:ph/>
          </p:nvPr>
        </p:nvSpPr>
        <p:spPr>
          <a:xfrm>
            <a:off x="533520" y="1916280"/>
            <a:ext cx="8153280" cy="425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ust also be encoded for exchange. The data conversion project will convert data into XML based encodings (as appropriate). NC3A is interested in the results of the work of DGIWG on GML and the handling of legacy encodings.</a:t>
            </a:r>
            <a:endParaRPr b="0" lang="en-US" sz="2800" spc="-1" strike="noStrike">
              <a:solidFill>
                <a:srgbClr val="000000"/>
              </a:solidFill>
              <a:latin typeface="Times New Roman"/>
            </a:endParaRPr>
          </a:p>
          <a:p>
            <a:pPr marL="343080" indent="-343080">
              <a:lnSpc>
                <a:spcPct val="85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chanism for coordination needs to be established.</a:t>
            </a:r>
            <a:endParaRPr b="0"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C769E46-69A8-4E98-BC73-AE29381EB9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lan for cooperation</a:t>
            </a:r>
            <a:endParaRPr b="1" lang="en-US" sz="3200" spc="-1" strike="noStrike">
              <a:solidFill>
                <a:srgbClr val="3333cc"/>
              </a:solidFill>
              <a:latin typeface="Times New Roman"/>
            </a:endParaRPr>
          </a:p>
        </p:txBody>
      </p:sp>
      <p:sp>
        <p:nvSpPr>
          <p:cNvPr id="129"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briefing during DGIWG Technical Meeting (Prague – Nov 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Roadmap for DGIWG’s Support during DGIWG PTSG (Washington – Feb 0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relationship with IGeoW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Life Cycle process mode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GIWG to discuss approach to further cooperation (Amsterdam – April 06)</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D03372E-0854-417D-BED9-1E7D9EBFD6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ATO Core Service</a:t>
            </a:r>
            <a:endParaRPr b="1" lang="en-US" sz="3600" spc="-1" strike="noStrike">
              <a:solidFill>
                <a:srgbClr val="3333cc"/>
              </a:solidFill>
              <a:latin typeface="Times New Roman"/>
            </a:endParaRPr>
          </a:p>
        </p:txBody>
      </p:sp>
      <p:sp>
        <p:nvSpPr>
          <p:cNvPr id="95"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O is establishing GIS as a Core service in support of coalition operations.</a:t>
            </a:r>
            <a:endParaRPr b="0" lang="en-US" sz="28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this core service is being done through a series of phased procurement contracts.</a:t>
            </a:r>
            <a:endParaRPr b="0" lang="en-US" sz="28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is standards based to maintain the highest level of interoperability.</a:t>
            </a:r>
            <a:endParaRPr b="0" lang="en-US" sz="28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has been done with DGIWG over the past year, and future coordination is requir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98C4EB1-0906-42BA-99EC-16F191961D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ATO Core GIS Phases</a:t>
            </a:r>
            <a:endParaRPr b="1" lang="en-US" sz="3600" spc="-1" strike="noStrike">
              <a:solidFill>
                <a:srgbClr val="3333cc"/>
              </a:solidFill>
              <a:latin typeface="Times New Roman"/>
            </a:endParaRPr>
          </a:p>
        </p:txBody>
      </p:sp>
      <p:sp>
        <p:nvSpPr>
          <p:cNvPr id="9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cquisition – National and commercial procur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eparation – Data conversion into a number of DGIWG and other profiles. Main product is E/R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S Capability – Content model / application schema to be proven during this phas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EA42788-8E75-48DD-A313-5F99475971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GIWG-NC3A Liaison on NATO Core GIS</a:t>
            </a:r>
            <a:endParaRPr b="1" lang="en-US" sz="3200" spc="-1" strike="noStrike">
              <a:solidFill>
                <a:srgbClr val="3333cc"/>
              </a:solidFill>
              <a:latin typeface="Times New Roman"/>
            </a:endParaRPr>
          </a:p>
        </p:txBody>
      </p:sp>
      <p:sp>
        <p:nvSpPr>
          <p:cNvPr id="9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ON co-ordinated the response to NATO Core GIS 2nd Priority request, by consultation with DGIWG TP Chairs, Project Leaders and TC/DGIW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coordination of GML development between DGIWG, NC3A and MGCP.</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8402115-CE82-4808-8358-2C66E658B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econd Group of Priority Profiles Requested by NC3A After Madrid</a:t>
            </a:r>
            <a:endParaRPr b="1" lang="en-US" sz="3200" spc="-1" strike="noStrike">
              <a:solidFill>
                <a:srgbClr val="3333cc"/>
              </a:solidFill>
              <a:latin typeface="Times New Roman"/>
            </a:endParaRPr>
          </a:p>
        </p:txBody>
      </p:sp>
      <p:sp>
        <p:nvSpPr>
          <p:cNvPr id="101"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Catalogue Table – Explained DGIWG’s intention to provide a future capability to record feature catalogues in a register.</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 data dictionary and associated UML models – Recommended to use 19115 directly. Updates on progress of DGIWG work on dictionary.</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 cataloguing – No DGIWG work in this area yet.</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 harmonization – HIHWG report will be available April 06. Use UK/US sponsored work in the meantim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5 registry service standard – Recommend use of 19135. DGIWG FADD is based on 19135 and was already given to NC3A.</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5-2 imagery profile – Through DGIWG participation with ISO, working papers will be provided to NC3A.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9 – Response pending</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ry, gridded and coverage data – Will provide Imagery and Gridded Road Map when ready.</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L profiling – DGIWG starting work on GML encoding. GML discussion paper sent to NC3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C79468C-CD9D-4795-B295-9A0A994C13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2005 Actions to DGIWG for Support to NC3A since Madrid (1)</a:t>
            </a:r>
            <a:endParaRPr b="1" lang="en-US" sz="3200" spc="-1" strike="noStrike">
              <a:solidFill>
                <a:srgbClr val="3333cc"/>
              </a:solidFill>
              <a:latin typeface="Times New Roman"/>
            </a:endParaRPr>
          </a:p>
        </p:txBody>
      </p:sp>
      <p:sp>
        <p:nvSpPr>
          <p:cNvPr id="10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mbology for raster dat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IWG metadata profile encod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IWG schema for 19139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IWG metadata schem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rayal requirements that can be submitted to Portrayal Thematic Coordinat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3A access to DGIWG internal docum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3A access to work from HIHW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of Project A02 test schemas work and NC3A access to this work.</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DGIWG to release a Feature Data Dictionary specification that is compatible with 19126.</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AD97630-DF47-461E-9619-043223E7E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2005 Actions to DGIWG for Support to NC3A since Madrid (2)</a:t>
            </a:r>
            <a:endParaRPr b="1" lang="en-US" sz="3200" spc="-1" strike="noStrike">
              <a:solidFill>
                <a:srgbClr val="3333cc"/>
              </a:solidFill>
              <a:latin typeface="Times New Roman"/>
            </a:endParaRPr>
          </a:p>
        </p:txBody>
      </p:sp>
      <p:sp>
        <p:nvSpPr>
          <p:cNvPr id="105" name="PlaceHolder 2"/>
          <p:cNvSpPr>
            <a:spLocks noGrp="1"/>
          </p:cNvSpPr>
          <p:nvPr>
            <p:ph/>
          </p:nvPr>
        </p:nvSpPr>
        <p:spPr>
          <a:xfrm>
            <a:off x="533520" y="1752480"/>
            <a:ext cx="8153280" cy="4772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to DGIWG to convert feature catalogue XML schema into tabl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DFDD life cycle managemen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metadata profile UML model, metadata schema and metadata encoding schem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IWG work contribution to 19125 and 19126.</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 of NC3A comments on DGIWG 19126 work to DGIW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of DGIWG spatial schema profile of 19107 and making it publicly available on DGIWG Web si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new procedures for release of various standards documents (i.e. metadata UML model, 19115 Part 2, 19107 profile) through DGIWG prior to ISO publicatio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116FE33-5D3B-4E46-A2EB-133A2EC53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NC3A Requests to DGIWG – Early 2006</a:t>
            </a:r>
            <a:endParaRPr b="1" lang="en-US" sz="3200" spc="-1" strike="noStrike">
              <a:solidFill>
                <a:srgbClr val="3333cc"/>
              </a:solidFill>
              <a:latin typeface="Times New Roman"/>
            </a:endParaRPr>
          </a:p>
        </p:txBody>
      </p:sp>
      <p:sp>
        <p:nvSpPr>
          <p:cNvPr id="10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ATO-produced DFD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Ontolog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register and catalogues for each Core GIS produc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symbology regist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spatial schem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ing on S07 catalogue work and related ebRIM ide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ving discovery service profi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nd/or documenting products spec of concern to Core GI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and evaluation capa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L and handling of legacy encoding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7BD6E9-EE73-4A03-BAC2-3CF971D4A2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 to NATO Core GIS On-going and Up-coming Tasks</a:t>
            </a:r>
            <a:endParaRPr b="1" lang="en-US" sz="3200" spc="-1" strike="noStrike">
              <a:solidFill>
                <a:srgbClr val="3333cc"/>
              </a:solidFill>
              <a:latin typeface="Times New Roman"/>
            </a:endParaRPr>
          </a:p>
        </p:txBody>
      </p:sp>
      <p:sp>
        <p:nvSpPr>
          <p:cNvPr id="109"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NC3A requests by planning and resourcing DGIWG project activ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esting, evaluation and quality control checking at NC3A The Hague by IDON (Summer 2006).</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A39F9BF-0CF4-4C4E-B80E-673C4CDE6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4:39:32Z</dcterms:created>
  <dc:creator/>
  <dc:description/>
  <cp:keywords>DGIWG NGC NPfPGC 2003 Presentation Report</cp:keywords>
  <dc:language>en-US</dc:language>
  <cp:lastModifiedBy>Mike Power</cp:lastModifiedBy>
  <cp:lastPrinted>2006-04-19T15:06:40Z</cp:lastPrinted>
  <dcterms:modified xsi:type="dcterms:W3CDTF">2006-04-19T16:48:42Z</dcterms:modified>
  <cp:revision>146</cp:revision>
  <dc:subject/>
  <dc:title>DGIWG Presentation to NATO &amp; Partnership for Peace Geographic Conference 2003 - Item 13</dc:title>
</cp:coreProperties>
</file>