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048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11760" y="-36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61016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92e5c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20880" y="4379400"/>
            <a:ext cx="5062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75952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11760" y="875952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421D29C-C4D3-4075-8033-8EDF2B7E66D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911760" y="875952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8B0CC17-FF0E-401A-9BD7-116A450BAC5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875952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-36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11760" y="-36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0480" y="4379400"/>
            <a:ext cx="55231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hings are especially important when considering who belongs to the consort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net and web are international resources, and the web infrastructure for geospatial information must also be an international re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olog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us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lay a uniquely important role in OGC. Their specific requirements drive specification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911760" y="875952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8D2667F-84F5-4576-A7D0-21683C5EFB9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875952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-36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11760" y="-36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76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90480" y="4379400"/>
            <a:ext cx="55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1B553-0871-465C-977C-A8638C8B9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74FEB-BB38-42F1-B588-D9A754F56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C9D56-8E81-4C13-ACFB-366858583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8C56-2FA0-4BBF-A48A-BE08A9060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D12AE-5378-4A68-968F-9EE8646A2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B0FDC-C289-4607-93B3-AC79614D7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2F21-AC68-4640-A724-88D518F1C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0D48B-7574-402E-90B2-48568ACA0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EA011-EFA3-4A2C-8819-C21151909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EA19B-F4B9-4951-97D8-ADB9A781D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FE2F6-E2A5-4AEE-B918-1F4B55AB2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0ED87-7F02-4C21-999B-A784AAA70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65040" y="776160"/>
            <a:ext cx="8454960" cy="490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3240" y="655272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1539720" y="30592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89616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2054-C13A-4AE0-AD55-B9F2942115F7}" type="slidenum">
              <a:rPr b="0" lang="en-US" sz="900" spc="-1" strike="noStrike">
                <a:solidFill>
                  <a:srgbClr val="092e5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34080" y="6219720"/>
            <a:ext cx="1155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2e5c"/>
                </a:solidFill>
                <a:latin typeface="Times New Roman"/>
              </a:rPr>
              <a:t>OG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98680" y="6270480"/>
            <a:ext cx="9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2e5c"/>
                </a:solidFill>
                <a:latin typeface="Arial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760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ftr" idx="3"/>
          </p:nvPr>
        </p:nvSpPr>
        <p:spPr>
          <a:xfrm>
            <a:off x="300996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8739000" y="214200"/>
            <a:ext cx="7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1" marL="34776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2" marL="684360" algn="ctr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3" marL="1027080" algn="ctr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lvl="4" marL="1370160" algn="ctr">
              <a:spcBef>
                <a:spcPts val="400"/>
              </a:spcBef>
              <a:buClr>
                <a:srgbClr val="092e5c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lvl="5" marL="1370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lvl="6" marL="1370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bacharach@opengeospatial.org" TargetMode="External"/><Relationship Id="rId2" Type="http://schemas.openxmlformats.org/officeDocument/2006/relationships/hyperlink" Target="http://www.opengeospatial.org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pengeospatial.org/specs/?page=specs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pengeospatial.org/resources/?page=product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473200"/>
            <a:ext cx="77724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e5c"/>
                </a:solidFill>
                <a:latin typeface="Arial Black"/>
              </a:rPr>
              <a:t>DGIWG 2006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426708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am A. Bachar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Executive Director Outr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sbacharach@opengeospatial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+1 703-353-39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://www.opengeospatial.org</a:t>
            </a: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2006 Open Geospatial Consortium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8760" y="5956200"/>
            <a:ext cx="16700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Where does OGC fit in the ‘standards’ world?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324480" y="1066680"/>
            <a:ext cx="2666880" cy="3703680"/>
            <a:chOff x="6324480" y="1066680"/>
            <a:chExt cx="2666880" cy="3703680"/>
          </a:xfrm>
        </p:grpSpPr>
        <p:sp>
          <p:nvSpPr>
            <p:cNvPr id="124" name=""/>
            <p:cNvSpPr/>
            <p:nvPr/>
          </p:nvSpPr>
          <p:spPr>
            <a:xfrm>
              <a:off x="6324480" y="1066680"/>
              <a:ext cx="2666880" cy="370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24480" y="2111400"/>
              <a:ext cx="2514600" cy="15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G Times"/>
                </a:rPr>
                <a:t>IETF / W3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G Times"/>
                </a:rPr>
                <a:t>Infrastructure: WSDL, UDDI, SOAP, X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93760" y="3006720"/>
            <a:ext cx="2666880" cy="3703680"/>
            <a:chOff x="293760" y="3006720"/>
            <a:chExt cx="2666880" cy="3703680"/>
          </a:xfrm>
        </p:grpSpPr>
        <p:sp>
          <p:nvSpPr>
            <p:cNvPr id="127" name=""/>
            <p:cNvSpPr/>
            <p:nvPr/>
          </p:nvSpPr>
          <p:spPr>
            <a:xfrm>
              <a:off x="293760" y="3006720"/>
              <a:ext cx="2666880" cy="370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4880" y="3403440"/>
              <a:ext cx="2349720" cy="25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G Times"/>
                </a:rPr>
                <a:t>IS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G Times"/>
                </a:rPr>
                <a:t>C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G Times"/>
                </a:rPr>
                <a:t>Domains: Object / Abstract Models, Content, Vocabul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 rot="3283800">
            <a:off x="3303000" y="1835280"/>
            <a:ext cx="2666880" cy="3809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2819520"/>
            <a:ext cx="274140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OG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G Times"/>
              </a:rPr>
              <a:t>Software Interfaces: Instantiate Domain and Dejure into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-2120760" y="3700080"/>
            <a:ext cx="5203800" cy="387360"/>
          </a:xfrm>
          <a:prstGeom prst="leftRightArrow">
            <a:avLst>
              <a:gd name="adj1" fmla="val 50000"/>
              <a:gd name="adj2" fmla="val 267436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-114840" y="20984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CG Times"/>
              </a:rPr>
              <a:t>De Fa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-27360" y="53719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CG Times"/>
              </a:rPr>
              <a:t>De J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0880" y="5892840"/>
            <a:ext cx="8080200" cy="485640"/>
          </a:xfrm>
          <a:prstGeom prst="leftRightArrow">
            <a:avLst>
              <a:gd name="adj1" fmla="val 50000"/>
              <a:gd name="adj2" fmla="val 331224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86360" y="593568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CG Times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48760" y="595620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CG Times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Open Geospatial Consortiu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5F62F-52C4-4301-A1DC-E41323B0B6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 Black"/>
              </a:rPr>
              <a:t>What have we done since Madrid?</a:t>
            </a:r>
            <a:endParaRPr b="0" lang="en-US" sz="3200" spc="-1" strike="noStrike">
              <a:solidFill>
                <a:srgbClr val="092e5c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47920" y="4114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2006 Open Geospatial Consortium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Approved Specifications - 1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92e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  <a:ea typeface="Arial"/>
              </a:rPr>
              <a:t>OpenGIS</a:t>
            </a:r>
            <a:r>
              <a:rPr b="0" lang="en-US" sz="2400" spc="-1" strike="noStrike" baseline="30000">
                <a:solidFill>
                  <a:srgbClr val="092e5c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092e5c"/>
                </a:solidFill>
                <a:latin typeface="Arial"/>
                <a:ea typeface="Arial"/>
              </a:rPr>
              <a:t> Simple Features Specification (three) SQL 1.1 (IS 19125: 2003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GML profile in work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92e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OpenGI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Catalog Services Implementation Specification 2.0.1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2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Web-based interface to discover data and services 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92e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  <a:ea typeface="Arial"/>
              </a:rPr>
              <a:t>OpenGIS</a:t>
            </a:r>
            <a:r>
              <a:rPr b="0" lang="en-US" sz="2400" spc="-1" strike="noStrike" baseline="30000">
                <a:solidFill>
                  <a:srgbClr val="092e5c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092e5c"/>
                </a:solidFill>
                <a:latin typeface="Arial"/>
                <a:ea typeface="Arial"/>
              </a:rPr>
              <a:t> Grid Coverages Implementation Specification 1.0 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2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Web-based interface to request images and elevation dat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92e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OpenGI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Coordinate Transformation Services Implementation Specification 1.1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2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Web-based interface to request projection and datum transformations 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  <a:ea typeface="Arial"/>
              </a:rPr>
              <a:t>OpenGIS</a:t>
            </a:r>
            <a:r>
              <a:rPr b="0" lang="en-US" sz="2400" spc="-1" strike="noStrike" baseline="30000">
                <a:solidFill>
                  <a:srgbClr val="092e5c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092e5c"/>
                </a:solidFill>
                <a:latin typeface="Arial"/>
                <a:ea typeface="Arial"/>
              </a:rPr>
              <a:t> Web Map Service Interfaces Implementation Specification 1.3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now IS 19128:2005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2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Web-based interface to request and receive  map (gif, png, jpg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Open Geospatial Consortiu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CFC17-02E9-4EFF-8EEF-E897B2EDEB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Approved Specifications - 2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2720" y="1294920"/>
            <a:ext cx="8458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OpenGI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Geography Markup Language (GML) Implementation Specification 3.1</a:t>
            </a:r>
            <a:r>
              <a:rPr b="0" lang="en-US" sz="2400" spc="-1" strike="noStrike">
                <a:solidFill>
                  <a:srgbClr val="092e5c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3.1 advancing along with ISO 19136 going to DIS this spring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2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XML encoding instructions for geographic data and service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  <a:ea typeface="Arial"/>
              </a:rPr>
              <a:t>OpenGIS</a:t>
            </a:r>
            <a:r>
              <a:rPr b="0" lang="en-US" sz="2400" spc="-1" strike="noStrike" baseline="30000">
                <a:solidFill>
                  <a:srgbClr val="092e5c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092e5c"/>
                </a:solidFill>
                <a:latin typeface="Arial"/>
                <a:ea typeface="Arial"/>
              </a:rPr>
              <a:t> Web Feature Service Implementation Specification 1.1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now ISO 19142 at CD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2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Web-based interface to request and receive features 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  <a:ea typeface="Arial"/>
              </a:rPr>
              <a:t>OpenGIS</a:t>
            </a:r>
            <a:r>
              <a:rPr b="0" lang="en-US" sz="2400" spc="-1" strike="noStrike" baseline="30000">
                <a:solidFill>
                  <a:srgbClr val="092e5c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092e5c"/>
                </a:solidFill>
                <a:latin typeface="Arial"/>
                <a:ea typeface="Arial"/>
              </a:rPr>
              <a:t> Filter Encoding Implementation Specification 1.1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now ISO 19143 at CD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2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Web-based interface to select by class name or attribute valu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  <a:ea typeface="Arial"/>
              </a:rPr>
              <a:t>OpenGIS</a:t>
            </a:r>
            <a:r>
              <a:rPr b="0" lang="en-US" sz="2400" spc="-1" strike="noStrike" baseline="30000">
                <a:solidFill>
                  <a:srgbClr val="092e5c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092e5c"/>
                </a:solidFill>
                <a:latin typeface="Arial"/>
                <a:ea typeface="Arial"/>
              </a:rPr>
              <a:t> Styled Layer Descriptor Implementation Specification 1.0 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2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Web-based interface to specify or modify display symbology 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Open Geospatial Consortiu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9FEB-EBFF-4846-94F7-594441CDD0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Approved Specifications - 3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Open GIS ® Web Map Context 1.0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28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Web-based interface to ‘save and send’ a session to other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Open GIS ® Web Coverage Service 1.0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28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Web-based interface to request and receive raw or processed imagery and gridded dat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en GIS ® Location Services, Core Services 1.1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28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eb-based interfaces to provide core services for mobile location technology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eb Services Common 1.0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28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Defines the elements common to all OpenGIS ® web spec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Open Geospatial Consortiu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04F7-DA5D-414D-888B-8D0D6E813B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Approved Specifications - 4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eb Map Context 1.1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28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Provides mechanism to store a session to reopen or share 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Geospatial Objects –1 1.0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28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Provides UML model derived from existing specifications and a JAVA definition of the interfaces for them (.net also possible, but supported at this time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16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ML in JPEG 2000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vides method to store geographic information in XML box (uses GML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5240" y="4849920"/>
            <a:ext cx="7581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all adopted specifications can be found 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www.opengeospatial.org/specs/?page=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the newest updates and specs may not be posted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Open Geospatial Consortiu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E7D0A-12EC-4536-98EE-5921A47447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OGC Web </a:t>
            </a: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Services </a:t>
            </a: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Testbed 3.0 (OWS 3)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1600" y="1395000"/>
            <a:ext cx="79722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"/>
              </a:rPr>
              <a:t>Continued work on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nsor Web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four specs out for public review now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Open Location Servic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v 1.1 resulted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Multi-source Integration</a:t>
            </a: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Decision Suppor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ymbol Management Service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Digital Rights Managemen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"/>
              </a:rPr>
              <a:t>Produced specification updates listed earlier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"/>
              </a:rPr>
              <a:t>Set stage for OWS 4.0 that is out for RFP at this time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Open Geospatial Consortiu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7ED3D-7C37-448C-9E8C-C8D44C5A3A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OGC Web </a:t>
            </a: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Services Testbed</a:t>
            </a: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 4.0 (OWS 4)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31480" y="1279080"/>
            <a:ext cx="868356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Proposals due May 5th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Kickoff scheduled 12-16 June 2006 in Reston, VA, US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Work Item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Times New Roman"/>
              </a:rPr>
              <a:t>Sensor Web Enablement (SWE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Times New Roman"/>
              </a:rPr>
              <a:t>Geo Processing Workflow (GPW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Times New Roman"/>
              </a:rPr>
              <a:t>Geo Decision Support (GeoDSS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Times New Roman"/>
              </a:rPr>
              <a:t>Geo-Digital Rights Management (GeoDRM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Times New Roman"/>
              </a:rPr>
              <a:t>Computer Aided Design/Geospatial/Building Information Model integration (CAD/GIS/BIM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Times New Roman"/>
              </a:rPr>
              <a:t>OGC Location Services (OpenLS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Times New Roman"/>
              </a:rPr>
              <a:t>Compliance Testing (CITE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omplete in October with demonstration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Documentation output to be considered at Winter OGC TC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Open Geospatial Consortiu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B8EC2-B3A6-4F4D-BC3D-82AC9B1FBD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Other Item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Project with Commonwealth (State) of Kentucky is further developing OGC Gazetteer specification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Would love to have feedback from DGIWG on current state and input as the specification moves through OGC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Updating and expanding our online compliance testing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oving to open source test engin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Open to cooperation with DGIWG on this capability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Open Geospatial Consortiu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48FE1-2917-402B-830F-D81B3AC673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ooperation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Leif Sundgren represents DGIWG to OGC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am Bacharach represents OGC to DGIWG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echnical Interaction has begun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Nicholas Lesage is working in concert with ISO TC 211 and OGC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am Bacharach attended portrayal meeting in Washington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Open Geospatial Consortiu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3A7E-F258-41E6-9C96-B5F0D09951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What is the OGC?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1040" y="1278000"/>
            <a:ext cx="833112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2e5c"/>
                </a:solidFill>
                <a:latin typeface="Arial"/>
              </a:rPr>
              <a:t>Open Geospatial Consortium (OGC)</a:t>
            </a: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Not-for-profit, international voluntary consensus standards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10+</a:t>
            </a: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up from 270 last year)</a:t>
            </a: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 industry, government, and university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nded in 1994, Incorporated in US, UK,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3968640"/>
            <a:ext cx="7586640" cy="23799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OGC 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ead in the development, promotion and harmonization of open spatial standards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upport their effective implementation and ICT infrastructure architectures worldwide, and to advance the formation of new market opportunities for spatial information and processing services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Open Geospatial Consortiu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1C605-A628-4A51-879A-C188FE1F79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OGC Meeting Location / Date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Edinburgh, Scotland, UK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June 26-30, 2006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yson’s Corner, VA, US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October 2-6 2006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Open Geospatial Consortiu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2B31D-51D6-4EEF-921B-6D3C46A0B9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In Closing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6160" y="1279080"/>
            <a:ext cx="7135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Thank you for hospitality and the opportunity to strengthen the relationship between DGIWG and OGC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"/>
              </a:rPr>
              <a:t>Expert user groups such as yours are a key part of our world and we could not survive without you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Open Geospatial Consortiu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19039-DC89-4414-926B-1B61A7524B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The OGC Vision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677960"/>
            <a:ext cx="449604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"/>
                <a:ea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 world in which all people and institutions benefit from spatial informatio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ources and suppor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services.</a:t>
            </a:r>
            <a:r>
              <a:rPr b="1" lang="en-US" sz="2800" spc="-1" strike="noStrike">
                <a:solidFill>
                  <a:srgbClr val="092e5c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9760" y="1438200"/>
            <a:ext cx="4154400" cy="44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Open Geospatial Consortiu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8ED6-F2C0-47A8-89E6-0C7D108B34F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5600" y="1360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The Growth of OGC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879768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Over 310 members worldwide – 31 countries &amp; 5 continent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lnSpc>
                <a:spcPct val="90000"/>
              </a:lnSpc>
              <a:spcBef>
                <a:spcPts val="45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130+ European members - 19 countries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lnSpc>
                <a:spcPct val="90000"/>
              </a:lnSpc>
              <a:spcBef>
                <a:spcPts val="45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35+ Asia-Pacific members - Japan, Republic of Korea, Australia, China, and Thailand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ighteen</a:t>
            </a: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 (up from 17 last year) approved, publicly available Implementation Specification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+ several updates posted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Broad participation with other industry and international standards organizations 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30+ candidate Implementation Specifications in work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OGC Reference Model defines interoperable geo architecture 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Rapidly growing list of vendor implementation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www.opengeospatial.org/resources/?page=products</a:t>
            </a:r>
            <a:r>
              <a:rPr b="0" lang="en-US" sz="2000" spc="-1" strike="noStrike" u="sng">
                <a:solidFill>
                  <a:srgbClr val="092e5c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Open Geospatial Consortiu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3EEB8-A6CC-4D37-B5C9-90DCB1C5C563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5486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OGC Partner Organization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922320" cy="554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1258920" cy="358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1549440" cy="671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1028880"/>
            <a:ext cx="78487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3520" indent="-26676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World Wide Web Consortium (W3C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33520" indent="-26676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Digital Geospatial Information Working Group (DGIWG) 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33520" indent="-26676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International Organization for Standards (ISO) TC 211 / 204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33520" indent="-26676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CEN TC 287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33520" indent="-26676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OASI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33520" indent="-26676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Object Management Group (OMG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33520" indent="-26676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Open Mobile Alliance (OMA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33520" indent="-26676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Web3D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33520" indent="-26676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Simulation Interoperability Standards Organization (SISO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33520" indent="-26676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International Alliance for Interoperability (IAI) 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33520" indent="-26676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IEEE Technical Committee 9 (Sensor Web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28600" y="4724280"/>
            <a:ext cx="690480" cy="752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52280" y="3962520"/>
            <a:ext cx="1371600" cy="542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380880" y="5638680"/>
            <a:ext cx="1476360" cy="381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rcRect l="0" t="3614" r="67709" b="0"/>
          <a:stretch/>
        </p:blipFill>
        <p:spPr>
          <a:xfrm>
            <a:off x="2209680" y="5562720"/>
            <a:ext cx="1752840" cy="498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rcRect l="0" t="0" r="53957" b="0"/>
          <a:stretch/>
        </p:blipFill>
        <p:spPr>
          <a:xfrm>
            <a:off x="4114800" y="5562720"/>
            <a:ext cx="1319040" cy="615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rcRect l="0" t="0" r="67068" b="17989"/>
          <a:stretch/>
        </p:blipFill>
        <p:spPr>
          <a:xfrm>
            <a:off x="6095880" y="5562720"/>
            <a:ext cx="1524240" cy="50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Open Geospatial Consortiu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6D311-1FDA-4143-9DC3-1B2BCCB4887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28520" y="151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What Partnership Means?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e rely on ISO TC 211 for a foundation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What’s a feature? A spatial reference system?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e rely on W3C for: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The framework of web services, Semantic language (OWL-S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e rely on OASIS for: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ommon Alert Protocol (CAP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ecurity Assertion Markup Language (SAML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e rely on CEN TC 287 and DGIWG for: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Resources and sophisticated user understanding and requirement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e assist our other partner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IAI – NIBS on Building Information Model, CAD/CAM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IEEE 1451 for Sensor standar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ISO TC 204 for telematic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Open Geospatial Consortiu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0B414-BEC4-467D-8845-876AFFCDED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What do we mean by “Open”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0960" y="1641600"/>
            <a:ext cx="710388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"/>
              </a:rPr>
              <a:t>Freely and publicly available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"/>
              </a:rPr>
              <a:t>Non discriminatory (nobody denied)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"/>
              </a:rPr>
              <a:t>No license fees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"/>
              </a:rPr>
              <a:t>Vendor neutral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"/>
              </a:rPr>
              <a:t>Data neutral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"/>
              </a:rPr>
              <a:t>Agreed to by a formal, member based consensus process!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Open Geospatial Consortiu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806A6-3753-44EF-9837-9DFD93DF613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What do we mean by interoperability?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15760" y="1278000"/>
            <a:ext cx="704844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"capability to communicate, execute programs, or transfer data among various functional units in a manner that requires the user to have little or no knowledge of the unique characteristics of those units“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"/>
              </a:rPr>
              <a:t>Source: OGC Abstract Specification Topic 12: Services. Derived from ISO 2382-1.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Open Geospatial Consortiu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9C08B-F428-42DA-B21E-3B3C52E786B6}" type="slidenum">
              <a:t>8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Why do you care?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26164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"/>
              </a:rPr>
              <a:t>Nobody saw the value of metadata five years ago and Interoperability is a new idea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e data and processing you need just in time, on time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"/>
              </a:rPr>
              <a:t>You care because interoperability will drive your costs down and your productivity up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How many hours does it take to transform, translate and understand that “free” data you downloaded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Are you even certain it is “fresh” after all that processing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6 Open Geospatial Consortiu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3BCA1-7301-4AB9-A4A1-E6D34981321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2:14:27Z</dcterms:created>
  <dc:creator>Sam A. Bacharach</dc:creator>
  <dc:description/>
  <dc:language>en-US</dc:language>
  <cp:lastModifiedBy>CDO'Brien</cp:lastModifiedBy>
  <cp:lastPrinted>2003-02-03T21:59:32Z</cp:lastPrinted>
  <dcterms:modified xsi:type="dcterms:W3CDTF">2006-04-25T08:38:21Z</dcterms:modified>
  <cp:revision>11</cp:revision>
  <dc:subject>mpp</dc:subject>
  <dc:title>PowerPoint Presentation</dc:title>
</cp:coreProperties>
</file>