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47280" y="754200"/>
            <a:ext cx="5375880" cy="37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67080" y="4714200"/>
            <a:ext cx="53362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wel, in Maart gepubliceer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value of CEN standards = all CEN members are obliged to implement the CEN standards as national standards, no conflicting national standards are allowed. For TS and TR these rules don't appl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et deze sheet er wel in? ISO weet toch wat er gebeu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9000" y="4940280"/>
            <a:ext cx="43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et deze sheet er wel 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weet toch wat er gebeu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620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have 29 members: 25 EU countries and 4 EFTA n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bania, Bulgaria, Croatia, The Former Yugoslav Republic of Macedonia and Turkey are 'affiliates' and are expected to apply for full membership in the coming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F14-5F38-4F6A-84C1-4BB76457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47552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ED8-650B-46BA-9CCC-9E2E1C4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D6E-29BF-4FB6-BE44-3EB2B0FF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70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72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70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72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271-18E9-4A1D-978A-70BC5F86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7C5-72AA-411F-9DE5-28208BF5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286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E08-2894-4680-A061-0B61FEAF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A86-622E-4E0D-A85E-573A26D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296A-0DA6-4F06-987B-93CE606D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A87-58E8-4AB3-BEE6-ED7AB193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EE7D-7DB6-4857-BE6F-E99D85E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F309-5C11-4ADF-BD81-4FD5FC1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286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4C7-82FC-4296-A5F0-9F67555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405-E6BA-40D7-B5AF-16DF3AD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049B-13F5-4A49-8424-0EB7A61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47552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6F2-3193-42C5-99FC-572F746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0FEE-9934-4E64-A908-6D59A747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70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37240" y="228600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70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37240" y="4475520"/>
            <a:ext cx="2895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CAE8-28EF-4DC5-8BD0-A5F10324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AD0-35A5-47DF-80EC-80E3B282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DBA-7E07-4128-A4CA-564E5AD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A70-543A-4DDB-852E-8BC740BC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28F-3CC6-4CB0-BDCA-BC71DAE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AB9-965E-46C7-8EAB-B924CDD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447552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5DD-51EF-4E31-A8FB-B6AE4B8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2286000"/>
            <a:ext cx="43876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475520"/>
            <a:ext cx="8991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CB9-B650-45A1-8EAA-A51310FA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86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04680" y="6629040"/>
            <a:ext cx="44960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560" y="6630480"/>
            <a:ext cx="31370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GIWG conference, Amsterdam, April 24/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2840" y="6629040"/>
            <a:ext cx="20638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332B-8AFB-4083-BF15-00163D5116B3}" type="slidenum">
              <a:rPr b="1" lang="en-US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90432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3360" y="220680"/>
            <a:ext cx="1490760" cy="115236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630480"/>
            <a:ext cx="20638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352680" y="6630480"/>
            <a:ext cx="31370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314840" y="6630480"/>
            <a:ext cx="20638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BE0-C275-4373-9726-E5EA9727B223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904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mailto:.J.G.L.Aalders@TUDelft.nl" TargetMode="External"/><Relationship Id="rId4" Type="http://schemas.openxmlformats.org/officeDocument/2006/relationships/hyperlink" Target="mailto:Annet.vanderHorn@nen.nl" TargetMode="External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tc287.org/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71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"/>
              </a:rPr>
              <a:t>CEN/TC 287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5560" y="2286000"/>
            <a:ext cx="806292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port t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GIWG Conference 2006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spcAft>
                <a:spcPts val="2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msterdam, May 25/26 2006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828800"/>
            <a:ext cx="83818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2933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3440" y="5624640"/>
            <a:ext cx="29239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37"/>
              </a:spcBef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.j.g.l.aalders@tudelft.nl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GIWG_geospatial_logo" descr=""/>
          <p:cNvPicPr/>
          <p:nvPr/>
        </p:nvPicPr>
        <p:blipFill>
          <a:blip r:embed="rId2"/>
          <a:stretch/>
        </p:blipFill>
        <p:spPr>
          <a:xfrm>
            <a:off x="8290080" y="5037120"/>
            <a:ext cx="13302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E29-840F-4A95-B9B0-0D6BA298AA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74800" y="2011320"/>
            <a:ext cx="8874000" cy="32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ublication 2006-03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19106 Profil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N ISO 19116 Positioning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19125-1 Simple feature access –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art 1: Common architectu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N ISO 19125-2 Simple feature access –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art 2: SQL optio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080" y="5129280"/>
            <a:ext cx="917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61160" y="4368960"/>
            <a:ext cx="1587600" cy="214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ewly Publish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558-3666-4B31-A2BC-D4F0CD4045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82720" y="1962000"/>
            <a:ext cx="8835840" cy="37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tart 2005-11-17, deadline: 2006-04-17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N ISO 19119 Servic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tart 2005-12-15, deadline: 2006-05-15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prEN ISO 19109 Rules for application schema</a:t>
            </a: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N ISO 19110 Methodology for feature catalogu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N ISO 19117 Portraya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N ISO 19118 Encod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43480" y="4662360"/>
            <a:ext cx="2835360" cy="1791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UAP in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CD6-865F-4A63-9089-51C78740C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82720" y="2025360"/>
            <a:ext cx="883584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tart 2007-03-08, deadline: 2007-08-08 (forecast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prEN IS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 19123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Schema for coverage </a:t>
            </a: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geometry and func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prEN ISO 19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133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Location-based services – </a:t>
            </a: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Tracking and navig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prEN ISO 19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135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Procedures for item regist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end to CMC 2006-02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O 19128 Web Map server interfa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UAP in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599-7323-41E8-BF4A-1F385B614D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66880" y="1978200"/>
            <a:ext cx="596736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published ISO/TR or ISO/TS not in UAP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878040" indent="-420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reason: no added valu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 / 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DFB-FE13-4919-B1DF-FC9B83C09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736040" y="4484520"/>
            <a:ext cx="1830240" cy="1830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4800" y="2004840"/>
            <a:ext cx="8835840" cy="457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SO/DIS 19111 Spatial referencing by coordina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Start enquiry 2005-11-03, deadline  2006-04-03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SO lead, accep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 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prCEN/TR 15449 Standards, specifications, technical reports and guidelines, required to implement Spatial Data Infrastructu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Start TC Approval: 2006-02-23,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deadline 2006-05-23 (forecast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qui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40C-C73A-4758-AFC9-CD369B263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64720" y="1968120"/>
            <a:ext cx="887436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mplementation of Web Map Server in 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European Spatial Data Infrastructu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first working draft to TC: 2005-12-20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Discussed in WG 5 mee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European core metadata for discove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Circulation of first working draft to TC: 2005-12-20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Discussed in WG 5 mee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166240" y="4540320"/>
            <a:ext cx="142848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Times New Roman"/>
              </a:rPr>
              <a:t>New Work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BD7-BCE7-4935-8AFA-69FF756BB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25600" y="2026800"/>
            <a:ext cx="887400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prEN-ISO 19142 Web Feature Service</a:t>
            </a: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Start enquiry: 2006-09 (forecast)</a:t>
            </a: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SO-lea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348240" y="3249720"/>
            <a:ext cx="2938680" cy="301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Times New Roman"/>
              </a:rPr>
              <a:t>New Work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AF3-7E25-49AC-B572-4E469EAEAD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91640" y="2619360"/>
            <a:ext cx="8991720" cy="25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Amendment to ISO 19113:200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Quality principles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SO lea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Amendment to ISO 19115:2003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Metadata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 Unicode MS"/>
              </a:rPr>
              <a:t>ISO lea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1290" t="0" r="0" b="0"/>
          <a:stretch/>
        </p:blipFill>
        <p:spPr>
          <a:xfrm>
            <a:off x="6985080" y="4346640"/>
            <a:ext cx="1955880" cy="2000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01800" y="793800"/>
            <a:ext cx="6678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-Addition of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otential new work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C03-52C0-491F-A7E9-18E8F5D962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37640" y="495936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55320" y="2044800"/>
            <a:ext cx="90932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2760" y="3429000"/>
            <a:ext cx="50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S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2720" y="2025720"/>
            <a:ext cx="88358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Arial"/>
              </a:rPr>
              <a:t>Letter of Olaf Østensen to INS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Concerns of implement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EN ISO standards within INSPI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now that Drafting Teams for Implementation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in INSPIRE are 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B20-0106-46D5-8F6B-5FD92699B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937640" y="495936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55320" y="2044800"/>
            <a:ext cx="90932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2760" y="3429000"/>
            <a:ext cx="50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S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82720" y="2025720"/>
            <a:ext cx="88358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Arial"/>
              </a:rPr>
              <a:t>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Arial"/>
              </a:rPr>
              <a:t>between CEN/TC and EU Consolidation Tea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Arial"/>
              </a:rPr>
              <a:t>incorporation of EN ISO standards in INS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(to be approved by CEN/TC 287 and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940-471A-4370-A24E-818183BD7D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2880" y="58068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"/>
              </a:rPr>
              <a:t>Content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0400" y="1757160"/>
            <a:ext cx="4006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EN matt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memb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Standard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ublish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UAP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R/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Enqui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work ite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040" y="2011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5400" y="1920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4320" y="3235320"/>
            <a:ext cx="40071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-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/TC 287 W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DSI C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ew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E9C-8F0B-4147-A446-5AB9F5341C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H="1" flipV="1">
            <a:off x="3422520" y="0"/>
            <a:ext cx="12960" cy="6548400"/>
          </a:xfrm>
          <a:prstGeom prst="line">
            <a:avLst/>
          </a:prstGeom>
          <a:ln w="12600">
            <a:solidFill>
              <a:srgbClr val="9900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221160" y="0"/>
            <a:ext cx="12600" cy="6548400"/>
          </a:xfrm>
          <a:prstGeom prst="line">
            <a:avLst/>
          </a:prstGeom>
          <a:ln w="12600">
            <a:solidFill>
              <a:srgbClr val="9900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37640" y="495936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5320" y="2044800"/>
            <a:ext cx="90932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2760" y="3429000"/>
            <a:ext cx="50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81720" y="47703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94120" y="583416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91004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67040" y="3289320"/>
            <a:ext cx="2043360" cy="6192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/TC 287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O/TC 2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NWIP if required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ecision on 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70160" y="201600"/>
            <a:ext cx="128520" cy="1303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89040" y="216000"/>
            <a:ext cx="17067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(incl. revision of existing IR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5160" y="6227640"/>
            <a:ext cx="173160" cy="173160"/>
          </a:xfrm>
          <a:prstGeom prst="ellipse">
            <a:avLst/>
          </a:prstGeom>
          <a:solidFill>
            <a:srgbClr val="fcf2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880" y="6264360"/>
            <a:ext cx="98280" cy="982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78240" y="40608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8160" y="3973680"/>
            <a:ext cx="39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O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99320" y="4254480"/>
            <a:ext cx="66204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vo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work Item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 and I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03560" y="5605560"/>
            <a:ext cx="505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[CEN criteria met]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2520" y="485640"/>
            <a:ext cx="1423800" cy="5097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NSPIRE in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 about  draft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35320" y="3096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1520" y="1073160"/>
            <a:ext cx="1638360" cy="1181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/TC 287 susp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tempor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ubmits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 as INS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71880" y="70344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02320" y="703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2560680"/>
            <a:ext cx="1424160" cy="3096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  drafts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46480" y="1913040"/>
            <a:ext cx="15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5320" y="191304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21200" y="2505240"/>
            <a:ext cx="1423800" cy="404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 as SD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s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049560" y="2711520"/>
            <a:ext cx="96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4600" y="3382920"/>
            <a:ext cx="1423800" cy="4287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  sub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to CEN/TC 2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28840" y="287352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1640" y="3600360"/>
            <a:ext cx="73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46960" y="3363840"/>
            <a:ext cx="1423800" cy="43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/TC 2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s NW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18320" y="360828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91240" y="390996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57960" y="381492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73960" y="4514760"/>
            <a:ext cx="1423800" cy="43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/TC 211 P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, DIS, F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4440" y="467028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74960" y="4421160"/>
            <a:ext cx="2043360" cy="6192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/TC 287 WG dragfts W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 for enquiry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EN for formal v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823000" y="4776840"/>
            <a:ext cx="74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2520" y="4524480"/>
            <a:ext cx="1423800" cy="428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  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as 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560" y="4751280"/>
            <a:ext cx="72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67040" y="5421240"/>
            <a:ext cx="2043360" cy="6192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 publishes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EN-I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y successful parallel v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5468760"/>
            <a:ext cx="1424160" cy="438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publish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06440" y="520236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 criteria 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6200" y="5165640"/>
            <a:ext cx="75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O criteria 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2800" y="5987880"/>
            <a:ext cx="1424160" cy="6145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  cons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in fu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ons of 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63640" y="6310440"/>
            <a:ext cx="74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7400" y="618984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042720" y="633564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89640" y="5911920"/>
            <a:ext cx="180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21680" y="2633760"/>
            <a:ext cx="1193760" cy="4190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63000" y="2629080"/>
            <a:ext cx="126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WP may conc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 or amend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 existing stand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05360" y="3052800"/>
            <a:ext cx="1514520" cy="372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573960" y="1906560"/>
            <a:ext cx="1193760" cy="4190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13480" y="190188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concern standard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, TR, workshop 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83400" y="2322360"/>
            <a:ext cx="792000" cy="973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37440" y="110340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NS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7480" y="1951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EN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BE4-4848-4324-A8A5-0E998ED76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926480" y="5167440"/>
            <a:ext cx="1547640" cy="1323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801800" y="692280"/>
            <a:ext cx="61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ork assigned to WG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82720" y="2025720"/>
            <a:ext cx="883584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olution 5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ication of standards and their profiles to be used for creating SDI in Europ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uidelines for implementers of SDI in Europ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formance testing and registers for SDI in Europ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aking into account the following priori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. Web Map Service (WM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. Metadata profile of ISO 191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. GI metadata catalogue ser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.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A6D-2180-4F8A-9608-12E385714C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01800" y="692280"/>
            <a:ext cx="61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ork assigned to WG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2720" y="2025720"/>
            <a:ext cx="883584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00287030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eographic information - Standards,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pecifications, technical reports and guidelines,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quired to implement Spatial Data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00287032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eographic information - Implementation of Web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ap Server in a European Spatial Dat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00287033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eographic information - European core metadat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or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D6-1E39-48C8-87C3-76DEF72D56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937640" y="495936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5320" y="2044800"/>
            <a:ext cx="90932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2760" y="3429000"/>
            <a:ext cx="50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82720" y="2025720"/>
            <a:ext cx="883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PIRE aspects for WG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040" indent="-416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SPIRE Drafting Team on Network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Draft TR on SDI (</a:t>
            </a:r>
            <a:r>
              <a:rPr b="0" lang="en-GB" sz="1900" spc="-1" strike="noStrike">
                <a:solidFill>
                  <a:srgbClr val="3333cc"/>
                </a:solidFill>
                <a:latin typeface="Arial"/>
              </a:rPr>
              <a:t>00287030) and draft WMS profile (00287032) regarded as reference mate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040" indent="-416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SPIRE Drafting Team on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Arial"/>
              </a:rPr>
              <a:t>Draft metadata profile (00287033) included in part in current (internal) version of INSPIRE draft IR for 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040" indent="-416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Tim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Work of INSPIRE DTs may or may not take draf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ENs into accou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8520" indent="-226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dealing with different approaches through agre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1800" y="692280"/>
            <a:ext cx="61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ork assigned to WG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F64-EA79-444A-8D1E-BF038D558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1800" y="692280"/>
            <a:ext cx="711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ments on CEN/T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2720" y="2025720"/>
            <a:ext cx="883584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 S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itive feedback from many organizations and institutions that welcome the TR as a useful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-date, no negative comments have been received by the Conv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 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ence of multi-lingual and multi-cultural elements must be fed back to ISO and OGC (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ayed for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± 3 months due to agreement between CEN/TC 287 and EU INPS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174-7CE4-45F9-A10B-66342D122D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801800" y="692280"/>
            <a:ext cx="61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SDI CSL  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82720" y="2025720"/>
            <a:ext cx="883584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3-14 October 2005, JRC, Is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0-odd experts from industry, academia, government,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ML is to be used in accordance with ISO 191xx (see approaches CH, DE, IT, NO) with additional tailoring (rules in GML standard good starting 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on model as simple and as high leve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st and it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velop guidelines for harmonizing these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courage system vendors for CSL too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 CIRC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0" t="25085" r="21437" b="15887"/>
          <a:stretch/>
        </p:blipFill>
        <p:spPr>
          <a:xfrm>
            <a:off x="7723080" y="5311800"/>
            <a:ext cx="2183040" cy="123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060-DF92-4899-B3AB-F7115CF450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55320" y="2044800"/>
            <a:ext cx="90932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2760" y="3429000"/>
            <a:ext cx="50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01800" y="70812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w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82720" y="2025720"/>
            <a:ext cx="8835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enri Aalders is available until November 11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77760" y="3311640"/>
            <a:ext cx="8325000" cy="3236760"/>
            <a:chOff x="977760" y="3311640"/>
            <a:chExt cx="8325000" cy="323676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6622920" y="3757680"/>
              <a:ext cx="2679840" cy="27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977760" y="3311640"/>
              <a:ext cx="632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New chairperson Arnold Breg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A28-9ABF-4661-8D46-322512F6A2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824000" y="1881360"/>
            <a:ext cx="3946680" cy="26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9360" y="1562040"/>
            <a:ext cx="4333680" cy="360"/>
            <a:chOff x="-9360" y="1562040"/>
            <a:chExt cx="4333680" cy="360"/>
          </a:xfrm>
        </p:grpSpPr>
        <p:sp>
          <p:nvSpPr>
            <p:cNvPr id="283" name=""/>
            <p:cNvSpPr/>
            <p:nvPr/>
          </p:nvSpPr>
          <p:spPr>
            <a:xfrm>
              <a:off x="-9360" y="1562040"/>
              <a:ext cx="433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9360" y="1562040"/>
              <a:ext cx="433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environment1" descr=""/>
          <p:cNvPicPr/>
          <p:nvPr/>
        </p:nvPicPr>
        <p:blipFill>
          <a:blip r:embed="rId2"/>
          <a:srcRect l="-5875" t="-5939" r="-11780" b="-23844"/>
          <a:stretch/>
        </p:blipFill>
        <p:spPr>
          <a:xfrm>
            <a:off x="1954080" y="2178000"/>
            <a:ext cx="1873440" cy="2097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01640" y="5356080"/>
            <a:ext cx="3290760" cy="898560"/>
          </a:xfrm>
          <a:prstGeom prst="rect">
            <a:avLst/>
          </a:prstGeom>
          <a:solidFill>
            <a:srgbClr val="000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37"/>
              </a:spcBef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J.G.L.Aalders@TUDelft.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nnet.vanderHorn@nen.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D27-72B6-4D72-BA72-263CE09863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4680" y="57924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: new memb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824440" y="2181240"/>
            <a:ext cx="4005360" cy="4324680"/>
            <a:chOff x="5824440" y="2181240"/>
            <a:chExt cx="4005360" cy="43246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824440" y="2181240"/>
              <a:ext cx="360036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368560" y="45212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3333cc"/>
                  </a:solidFill>
                  <a:uFillTx/>
                  <a:latin typeface="Arial"/>
                </a:rPr>
                <a:t>SU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14160" y="59673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0000a0"/>
                  </a:solidFill>
                  <a:uFillTx/>
                  <a:latin typeface="Arial"/>
                </a:rPr>
                <a:t>C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61760" y="342756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3333cc"/>
                  </a:solidFill>
                  <a:uFillTx/>
                  <a:latin typeface="Arial"/>
                </a:rPr>
                <a:t>EV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61760" y="36306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3333cc"/>
                  </a:solidFill>
                  <a:uFillTx/>
                  <a:latin typeface="Arial"/>
                </a:rPr>
                <a:t>LV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67720" y="38307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0000a0"/>
                  </a:solidFill>
                  <a:uFillTx/>
                  <a:latin typeface="Arial"/>
                </a:rPr>
                <a:t>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30320" y="41241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0000a0"/>
                  </a:solidFill>
                  <a:uFillTx/>
                  <a:latin typeface="Arial"/>
                </a:rPr>
                <a:t>PK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02920" y="480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 u="sng">
                  <a:solidFill>
                    <a:srgbClr val="0000a0"/>
                  </a:solidFill>
                  <a:uFillTx/>
                  <a:latin typeface="Arial"/>
                </a:rPr>
                <a:t>S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0200" y="4915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 u="sng">
                  <a:solidFill>
                    <a:srgbClr val="0000a0"/>
                  </a:solidFill>
                  <a:uFillTx/>
                  <a:latin typeface="Arial"/>
                  <a:ea typeface="SimSun"/>
                </a:rPr>
                <a:t>DZN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04240" y="6259680"/>
              <a:ext cx="51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ff3300"/>
                  </a:solidFill>
                  <a:uFillTx/>
                  <a:latin typeface="Arial"/>
                </a:rPr>
                <a:t>E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78840" y="322596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ff3300"/>
                  </a:solidFill>
                  <a:uFillTx/>
                  <a:latin typeface="Arial"/>
                </a:rPr>
                <a:t>FAT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04200" y="5116680"/>
              <a:ext cx="56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ff3300"/>
                  </a:solidFill>
                  <a:uFillTx/>
                  <a:latin typeface="Arial"/>
                </a:rPr>
                <a:t>ISS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24680" y="6124680"/>
              <a:ext cx="9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ff3300"/>
                  </a:solidFill>
                  <a:uFillTx/>
                  <a:latin typeface="Arial"/>
                </a:rPr>
                <a:t>INOR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80480" y="4432320"/>
              <a:ext cx="6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ff3300"/>
                  </a:solidFill>
                  <a:uFillTx/>
                  <a:latin typeface="Arial"/>
                </a:rPr>
                <a:t>DSS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86800" y="485136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339933"/>
                  </a:solidFill>
                  <a:uFillTx/>
                  <a:latin typeface="Arial"/>
                </a:rPr>
                <a:t>AS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54800" y="4724280"/>
              <a:ext cx="55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a0"/>
                  </a:solidFill>
                  <a:uFillTx/>
                  <a:latin typeface="Arial"/>
                </a:rPr>
                <a:t>MSZ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3560" y="1950840"/>
            <a:ext cx="5720040" cy="38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SimSun"/>
              </a:rPr>
              <a:t>Romanian Standards Association,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  <a:ea typeface="SimSun"/>
              </a:rPr>
              <a:t>	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  <a:ea typeface="SimSun"/>
              </a:rPr>
              <a:t>	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  <a:ea typeface="SimSun"/>
              </a:rPr>
              <a:t>	</a:t>
            </a:r>
            <a:r>
              <a:rPr b="1" lang="en-GB" sz="3200" spc="-1" strike="noStrike">
                <a:solidFill>
                  <a:srgbClr val="0033cc"/>
                </a:solidFill>
                <a:latin typeface="Arial"/>
                <a:ea typeface="SimSun"/>
              </a:rPr>
              <a:t>ASR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Now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29 members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25 EU + 4 EF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Albania, Bulgaria, Croatia, Macedonia and Turke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are affiliates and are expected to become full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18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member in the coming year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77880" y="5807160"/>
            <a:ext cx="347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EN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EN Partner Standardisation Bo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9D2-7467-4341-A7E8-F13E2435E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01800" y="69516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EN/TC 287 Org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6800" y="5281560"/>
            <a:ext cx="1468440" cy="520560"/>
          </a:xfrm>
          <a:prstGeom prst="rect">
            <a:avLst/>
          </a:prstGeom>
          <a:solidFill>
            <a:srgbClr val="3399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777777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9040" y="5205240"/>
            <a:ext cx="146844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777777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8680" y="3892680"/>
            <a:ext cx="3862440" cy="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160240" y="3790800"/>
            <a:ext cx="82440" cy="1535400"/>
          </a:xfrm>
          <a:custGeom>
            <a:avLst/>
            <a:gdLst/>
            <a:ahLst/>
            <a:rect l="l" t="t" r="r" b="b"/>
            <a:pathLst>
              <a:path w="1" h="432">
                <a:moveTo>
                  <a:pt x="0" y="4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8080" y="3654360"/>
            <a:ext cx="92916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87680" y="3637080"/>
            <a:ext cx="16621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C/2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38880" y="5129280"/>
            <a:ext cx="148824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9880" y="3814920"/>
            <a:ext cx="1320840" cy="531720"/>
          </a:xfrm>
          <a:prstGeom prst="rect">
            <a:avLst/>
          </a:prstGeom>
          <a:solidFill>
            <a:srgbClr val="dddddd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0960" y="3738600"/>
            <a:ext cx="132084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8000" y="3648240"/>
            <a:ext cx="132084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9760" y="5151600"/>
            <a:ext cx="164520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94000" y="4154400"/>
            <a:ext cx="1076400" cy="9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88280" y="5313240"/>
            <a:ext cx="1320840" cy="532080"/>
          </a:xfrm>
          <a:prstGeom prst="rect">
            <a:avLst/>
          </a:prstGeom>
          <a:solidFill>
            <a:srgbClr val="3399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5360" y="5237280"/>
            <a:ext cx="137484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29440" y="5146560"/>
            <a:ext cx="138744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b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85000" y="4168800"/>
            <a:ext cx="0" cy="9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993-F349-488F-A4E7-58BF90BDD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4720" y="1929960"/>
            <a:ext cx="365760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utreach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ontribution b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National bod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www.centc287.or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2416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99120" y="2778120"/>
            <a:ext cx="5257800" cy="3133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Times New Roman"/>
              </a:rPr>
              <a:t>Outreach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D7B-ADB9-4516-B8BC-45CF4F936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98640" y="2243160"/>
          <a:ext cx="8034120" cy="3490920"/>
        </p:xfrm>
        <a:graphic>
          <a:graphicData uri="http://schemas.openxmlformats.org/drawingml/2006/table">
            <a:tbl>
              <a:tblPr/>
              <a:tblGrid>
                <a:gridCol w="3535200"/>
                <a:gridCol w="2368440"/>
                <a:gridCol w="2130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rgan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tact from liaison to 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tact from TC to lia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SO/TC 211“Geographic information/Geomatic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laf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Østen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enri Aa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EN/TC 278 “Road transport and traffic telematic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elte Dijk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nnet van der H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uroGe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aude Luze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ntti Jakobs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C DG Joint Research Centre (JR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aul C. S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nnet van der H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801800" y="69516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EN/TC 287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07E-BAEE-4C0C-A701-C8AB569A0F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998640" y="2243160"/>
          <a:ext cx="8034120" cy="3149640"/>
        </p:xfrm>
        <a:graphic>
          <a:graphicData uri="http://schemas.openxmlformats.org/drawingml/2006/table">
            <a:tbl>
              <a:tblPr/>
              <a:tblGrid>
                <a:gridCol w="3535200"/>
                <a:gridCol w="2368440"/>
                <a:gridCol w="2130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rgan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tact from liaison to 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tact from TC to lia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pen GIS Consortium Inc (OG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am A. Bachar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SSS MMI-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tin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uroS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olfgang Kre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GIWG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NEW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icolas Lesag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il Had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1800" y="69840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EN/TC 287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D82-4652-4802-BBAC-E31D7D979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997680" y="2343240"/>
            <a:ext cx="2090880" cy="111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a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n subject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greement 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 or CEN Lea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880" y="5129280"/>
            <a:ext cx="917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Vienna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08760" y="3460680"/>
            <a:ext cx="3809160" cy="2876040"/>
            <a:chOff x="5108760" y="3460680"/>
            <a:chExt cx="3809160" cy="2876040"/>
          </a:xfrm>
        </p:grpSpPr>
        <p:sp>
          <p:nvSpPr>
            <p:cNvPr id="147" name=""/>
            <p:cNvSpPr/>
            <p:nvPr/>
          </p:nvSpPr>
          <p:spPr>
            <a:xfrm>
              <a:off x="5108760" y="4784760"/>
              <a:ext cx="718560" cy="398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U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5473800" y="3460680"/>
              <a:ext cx="3444120" cy="1725840"/>
              <a:chOff x="5473800" y="3460680"/>
              <a:chExt cx="3444120" cy="1725840"/>
            </a:xfrm>
          </p:grpSpPr>
          <p:sp>
            <p:nvSpPr>
              <p:cNvPr id="149" name=""/>
              <p:cNvSpPr/>
              <p:nvPr/>
            </p:nvSpPr>
            <p:spPr>
              <a:xfrm>
                <a:off x="7392960" y="3828960"/>
                <a:ext cx="1339920" cy="6426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</a:rPr>
                  <a:t>developed stand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85600" y="4818240"/>
                <a:ext cx="1732320" cy="36828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</a:rPr>
                  <a:t>parallel vo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73800" y="3460680"/>
                <a:ext cx="0" cy="1336680"/>
              </a:xfrm>
              <a:prstGeom prst="line">
                <a:avLst/>
              </a:prstGeom>
              <a:ln w="12600">
                <a:solidFill>
                  <a:srgbClr val="0000a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56440" y="3460680"/>
                <a:ext cx="0" cy="365040"/>
              </a:xfrm>
              <a:prstGeom prst="line">
                <a:avLst/>
              </a:prstGeom>
              <a:ln w="12600">
                <a:solidFill>
                  <a:srgbClr val="0000a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8061480" y="4484520"/>
              <a:ext cx="2880" cy="333720"/>
            </a:xfrm>
            <a:prstGeom prst="line">
              <a:avLst/>
            </a:prstGeom>
            <a:ln w="12600">
              <a:solidFill>
                <a:srgbClr val="0000a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00240" y="5877000"/>
              <a:ext cx="2094840" cy="459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 ISO 19x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56160" y="5191200"/>
              <a:ext cx="2603520" cy="350640"/>
            </a:xfrm>
            <a:custGeom>
              <a:avLst/>
              <a:gdLst/>
              <a:ahLst/>
              <a:rect l="l" t="t" r="r" b="b"/>
              <a:pathLst>
                <a:path w="2233" h="221">
                  <a:moveTo>
                    <a:pt x="0" y="0"/>
                  </a:moveTo>
                  <a:lnTo>
                    <a:pt x="0" y="221"/>
                  </a:lnTo>
                  <a:lnTo>
                    <a:pt x="2233" y="221"/>
                  </a:lnTo>
                  <a:lnTo>
                    <a:pt x="2233" y="0"/>
                  </a:lnTo>
                </a:path>
              </a:pathLst>
            </a:custGeom>
            <a:noFill/>
            <a:ln w="12600">
              <a:solidFill>
                <a:srgbClr val="000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6720" y="5535720"/>
              <a:ext cx="2880" cy="333360"/>
            </a:xfrm>
            <a:prstGeom prst="line">
              <a:avLst/>
            </a:prstGeom>
            <a:ln w="12600">
              <a:solidFill>
                <a:srgbClr val="0000a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007640" y="2106720"/>
            <a:ext cx="27212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tuation for 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EN/TC 2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991 -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003 -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SO/TC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995 -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33760" y="2352600"/>
            <a:ext cx="2062440" cy="111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n subj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ior ISO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8D2-5050-48EE-B650-2B594430A7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63640" y="2019240"/>
            <a:ext cx="8874000" cy="38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01 Reference mod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05 Conformance and test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07 Spatia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08 Tempora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11 Spatial referencing by coordinat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12 Spatial referencing by geographic identifi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13 Quality princip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14 Quality evaluation procedur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 ISO 19115 Meta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55160" y="5045040"/>
            <a:ext cx="376200" cy="479520"/>
          </a:xfrm>
          <a:custGeom>
            <a:avLst/>
            <a:gdLst/>
            <a:ahLst/>
            <a:rect l="l" t="t" r="r" b="b"/>
            <a:pathLst>
              <a:path w="203" h="264">
                <a:moveTo>
                  <a:pt x="45" y="153"/>
                </a:moveTo>
                <a:lnTo>
                  <a:pt x="0" y="10"/>
                </a:lnTo>
                <a:lnTo>
                  <a:pt x="110" y="0"/>
                </a:lnTo>
                <a:lnTo>
                  <a:pt x="203" y="88"/>
                </a:lnTo>
                <a:lnTo>
                  <a:pt x="191" y="264"/>
                </a:lnTo>
                <a:lnTo>
                  <a:pt x="4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880" y="5129280"/>
            <a:ext cx="917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01800" y="692280"/>
            <a:ext cx="588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ublished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/TC 287 Meeting, Dublin, Ireland, 2006-02-22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4A8-E573-4A49-8860-83815AD2A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9:01:32Z</dcterms:created>
  <dc:creator> Ten Wolde</dc:creator>
  <dc:description/>
  <dc:language>en-US</dc:language>
  <cp:lastModifiedBy>Aalders</cp:lastModifiedBy>
  <dcterms:modified xsi:type="dcterms:W3CDTF">2006-04-24T13:36:24Z</dcterms:modified>
  <cp:revision>172</cp:revision>
  <dc:subject/>
  <dc:title>Kenbaarheid  Normalisatie en normen 2002-2003</dc:title>
</cp:coreProperties>
</file>