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824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1"/>
          </p:nvPr>
        </p:nvSpPr>
        <p:spPr>
          <a:xfrm>
            <a:off x="384336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114800"/>
                <a:tab algn="l" pos="8229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04680" y="4711680"/>
            <a:ext cx="49719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2"/>
          </p:nvPr>
        </p:nvSpPr>
        <p:spPr>
          <a:xfrm>
            <a:off x="0" y="942336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spcBef>
                <a:spcPts val="3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3"/>
          </p:nvPr>
        </p:nvSpPr>
        <p:spPr>
          <a:xfrm>
            <a:off x="3843360" y="942336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53710-97AE-4003-A2DF-3F2BEAFA040E}" type="slidenum"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43360" y="942336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C09D1-19B3-4DB0-B467-69B04C945D48}" type="slidenum"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942336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4336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</a:rPr>
              <a:t>The alternative view when symbols do not scale and no re-compilation takes place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3843360" y="942336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0CB52-21B5-4B9C-BDD0-4035DA65D7F5}" type="slidenum"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42336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84336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</a:rPr>
              <a:t>Fourth scale based on a photo-reduction with scaled symbols and no re-compilation. Symbols from largest scale are now indistinguishable dots which only indicate the presence of a feature. 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3520" y="688680"/>
            <a:ext cx="70995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114800"/>
                <a:tab algn="l" pos="822960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69343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66680" y="3875400"/>
            <a:ext cx="69343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688680"/>
            <a:ext cx="70995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114800"/>
                <a:tab algn="l" pos="822960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19880" y="144756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680" y="387540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19880" y="387540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3520" y="688680"/>
            <a:ext cx="70995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114800"/>
                <a:tab algn="l" pos="822960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22327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11360" y="1447560"/>
            <a:ext cx="22327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56040" y="1447560"/>
            <a:ext cx="22327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66680" y="3875400"/>
            <a:ext cx="22327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11360" y="3875400"/>
            <a:ext cx="22327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56040" y="3875400"/>
            <a:ext cx="22327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688680"/>
            <a:ext cx="70995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114800"/>
                <a:tab algn="l" pos="822960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66680" y="1447560"/>
            <a:ext cx="69343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520" y="688680"/>
            <a:ext cx="70995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114800"/>
                <a:tab algn="l" pos="822960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69343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688680"/>
            <a:ext cx="70995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114800"/>
                <a:tab algn="l" pos="822960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338364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19880" y="1447560"/>
            <a:ext cx="338364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688680"/>
            <a:ext cx="70995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114800"/>
                <a:tab algn="l" pos="822960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523520" y="719280"/>
            <a:ext cx="70995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520" y="688680"/>
            <a:ext cx="70995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114800"/>
                <a:tab algn="l" pos="822960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19880" y="1447560"/>
            <a:ext cx="338364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66680" y="387540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3520" y="688680"/>
            <a:ext cx="70995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114800"/>
                <a:tab algn="l" pos="822960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66680" y="1447560"/>
            <a:ext cx="69343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520" y="688680"/>
            <a:ext cx="70995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114800"/>
                <a:tab algn="l" pos="822960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338364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19880" y="144756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19880" y="387540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3520" y="688680"/>
            <a:ext cx="70995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114800"/>
                <a:tab algn="l" pos="822960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19880" y="144756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3875400"/>
            <a:ext cx="69343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688680"/>
            <a:ext cx="70995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114800"/>
                <a:tab algn="l" pos="822960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69343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66680" y="3875400"/>
            <a:ext cx="69343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520" y="688680"/>
            <a:ext cx="70995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114800"/>
                <a:tab algn="l" pos="822960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19880" y="144756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387540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19880" y="387540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3520" y="688680"/>
            <a:ext cx="70995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114800"/>
                <a:tab algn="l" pos="822960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22327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11360" y="1447560"/>
            <a:ext cx="22327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56040" y="1447560"/>
            <a:ext cx="22327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66680" y="3875400"/>
            <a:ext cx="22327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11360" y="3875400"/>
            <a:ext cx="22327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756040" y="3875400"/>
            <a:ext cx="22327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520" y="688680"/>
            <a:ext cx="70995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114800"/>
                <a:tab algn="l" pos="822960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69343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520" y="688680"/>
            <a:ext cx="70995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114800"/>
                <a:tab algn="l" pos="822960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338364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19880" y="1447560"/>
            <a:ext cx="338364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520" y="688680"/>
            <a:ext cx="70995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114800"/>
                <a:tab algn="l" pos="822960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3520" y="719280"/>
            <a:ext cx="70995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520" y="688680"/>
            <a:ext cx="70995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114800"/>
                <a:tab algn="l" pos="822960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19880" y="1447560"/>
            <a:ext cx="338364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66680" y="387540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3520" y="688680"/>
            <a:ext cx="70995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114800"/>
                <a:tab algn="l" pos="822960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338364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19880" y="144756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19880" y="387540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3520" y="688680"/>
            <a:ext cx="70995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114800"/>
                <a:tab algn="l" pos="822960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19880" y="144756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75400"/>
            <a:ext cx="69343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520" y="719280"/>
            <a:ext cx="70995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114800"/>
                <a:tab algn="l" pos="8229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447560"/>
            <a:ext cx="69343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80000"/>
              <a:buFont typeface="Univers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80000"/>
              <a:buFont typeface="Univers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Univers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Univers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Univers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"/>
          <p:cNvSpPr/>
          <p:nvPr/>
        </p:nvSpPr>
        <p:spPr>
          <a:xfrm>
            <a:off x="0" y="1219320"/>
            <a:ext cx="38088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3" name="rødstreg" descr=""/>
          <p:cNvPicPr/>
          <p:nvPr/>
        </p:nvPicPr>
        <p:blipFill>
          <a:blip r:embed="rId2"/>
          <a:stretch/>
        </p:blipFill>
        <p:spPr>
          <a:xfrm>
            <a:off x="358920" y="1255680"/>
            <a:ext cx="7611840" cy="1116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3506040" y="6248520"/>
            <a:ext cx="2579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GIWG CONFERENCE AMSTERDAM 200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914400" cy="911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4114800"/>
                <a:tab algn="l" pos="8229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219320"/>
            <a:ext cx="38088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44" name="rødstreg" descr=""/>
          <p:cNvPicPr/>
          <p:nvPr/>
        </p:nvPicPr>
        <p:blipFill>
          <a:blip r:embed="rId2"/>
          <a:stretch/>
        </p:blipFill>
        <p:spPr>
          <a:xfrm>
            <a:off x="380880" y="1219320"/>
            <a:ext cx="7612200" cy="111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04920" y="228600"/>
            <a:ext cx="914400" cy="9111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SzPct val="80000"/>
              <a:buFont typeface="Univers Condense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nivers Condense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Univers Condensed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SzPct val="80000"/>
              <a:buFont typeface="Univers Condense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nivers Condensed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Univers Condensed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SzPct val="80000"/>
              <a:buFont typeface="Univers Condense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Univers Condensed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Univers Condensed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SzPct val="80000"/>
              <a:buFont typeface="Univers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Univers Condensed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Univers Condensed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SzPct val="80000"/>
              <a:buFont typeface="Univers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Univers Condensed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Univers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4114800"/>
                <a:tab algn="l" pos="8229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Thematic Coordinator, Portrayal 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eport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en-GB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Marlene Meyer</a:t>
            </a:r>
            <a:endParaRPr b="1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GIWG CONFERENCE AMSTERDAM 2006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23520" y="719280"/>
            <a:ext cx="70995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114800"/>
                <a:tab algn="l" pos="8229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D23 (REP)</a:t>
            </a: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320" y="1447560"/>
            <a:ext cx="723924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clusion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or effective portrayal there is a high degree of dependency on the underlying semantic definition of data elements. The data model &amp; portrayal must satisfy user requirements.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rtrayal can only convey required variations in meaning held in the data model.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rtrayal is required to be driven by attribute value level information.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rtrayal is required to be driven by metadata.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 complete and internally consistent portrayal standard is necessary.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2232000" cy="1727280"/>
          </a:xfrm>
          <a:prstGeom prst="rect">
            <a:avLst/>
          </a:prstGeom>
          <a:ln w="0">
            <a:noFill/>
          </a:ln>
        </p:spPr>
      </p:pic>
      <p:sp>
        <p:nvSpPr>
          <p:cNvPr id="164" name="Litebulb"/>
          <p:cNvSpPr/>
          <p:nvPr/>
        </p:nvSpPr>
        <p:spPr>
          <a:xfrm>
            <a:off x="5724360" y="1989000"/>
            <a:ext cx="675000" cy="509760"/>
          </a:xfrm>
          <a:prstGeom prst="pie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5" name="Litebulb"/>
          <p:cNvSpPr/>
          <p:nvPr/>
        </p:nvSpPr>
        <p:spPr>
          <a:xfrm>
            <a:off x="4284720" y="2708280"/>
            <a:ext cx="674640" cy="509760"/>
          </a:xfrm>
          <a:prstGeom prst="pie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6" name="Litebulb"/>
          <p:cNvSpPr/>
          <p:nvPr/>
        </p:nvSpPr>
        <p:spPr>
          <a:xfrm>
            <a:off x="6156360" y="3573360"/>
            <a:ext cx="674640" cy="509760"/>
          </a:xfrm>
          <a:prstGeom prst="pie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7" name="Litebulb"/>
          <p:cNvSpPr/>
          <p:nvPr/>
        </p:nvSpPr>
        <p:spPr>
          <a:xfrm>
            <a:off x="3059280" y="4292640"/>
            <a:ext cx="674640" cy="509400"/>
          </a:xfrm>
          <a:prstGeom prst="pie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8" name="Litebulb"/>
          <p:cNvSpPr/>
          <p:nvPr/>
        </p:nvSpPr>
        <p:spPr>
          <a:xfrm>
            <a:off x="6300720" y="1341360"/>
            <a:ext cx="674640" cy="509760"/>
          </a:xfrm>
          <a:prstGeom prst="pie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9" name="Litebulb"/>
          <p:cNvSpPr/>
          <p:nvPr/>
        </p:nvSpPr>
        <p:spPr>
          <a:xfrm>
            <a:off x="3564000" y="1916280"/>
            <a:ext cx="674640" cy="509400"/>
          </a:xfrm>
          <a:prstGeom prst="pie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0" name="Cloud"/>
          <p:cNvSpPr/>
          <p:nvPr/>
        </p:nvSpPr>
        <p:spPr>
          <a:xfrm>
            <a:off x="4140360" y="3429000"/>
            <a:ext cx="1371600" cy="84780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1" name="Cloud"/>
          <p:cNvSpPr/>
          <p:nvPr/>
        </p:nvSpPr>
        <p:spPr>
          <a:xfrm>
            <a:off x="6372360" y="4653000"/>
            <a:ext cx="1371600" cy="84780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2" name=""/>
          <p:cNvSpPr/>
          <p:nvPr/>
        </p:nvSpPr>
        <p:spPr>
          <a:xfrm>
            <a:off x="2771640" y="561960"/>
            <a:ext cx="3079800" cy="1182600"/>
          </a:xfrm>
          <a:custGeom>
            <a:avLst/>
            <a:gdLst/>
            <a:ahLst/>
            <a:rect l="l" t="t" r="r" b="b"/>
            <a:pathLst>
              <a:path w="1940" h="745">
                <a:moveTo>
                  <a:pt x="0" y="488"/>
                </a:moveTo>
                <a:cubicBezTo>
                  <a:pt x="10" y="449"/>
                  <a:pt x="22" y="411"/>
                  <a:pt x="35" y="373"/>
                </a:cubicBezTo>
                <a:cubicBezTo>
                  <a:pt x="39" y="363"/>
                  <a:pt x="53" y="362"/>
                  <a:pt x="62" y="355"/>
                </a:cubicBezTo>
                <a:cubicBezTo>
                  <a:pt x="103" y="324"/>
                  <a:pt x="136" y="301"/>
                  <a:pt x="186" y="284"/>
                </a:cubicBezTo>
                <a:cubicBezTo>
                  <a:pt x="229" y="254"/>
                  <a:pt x="285" y="244"/>
                  <a:pt x="336" y="231"/>
                </a:cubicBezTo>
                <a:cubicBezTo>
                  <a:pt x="429" y="234"/>
                  <a:pt x="628" y="224"/>
                  <a:pt x="735" y="257"/>
                </a:cubicBezTo>
                <a:cubicBezTo>
                  <a:pt x="763" y="276"/>
                  <a:pt x="785" y="301"/>
                  <a:pt x="806" y="328"/>
                </a:cubicBezTo>
                <a:cubicBezTo>
                  <a:pt x="819" y="345"/>
                  <a:pt x="842" y="382"/>
                  <a:pt x="842" y="382"/>
                </a:cubicBezTo>
                <a:cubicBezTo>
                  <a:pt x="860" y="441"/>
                  <a:pt x="896" y="499"/>
                  <a:pt x="930" y="550"/>
                </a:cubicBezTo>
                <a:cubicBezTo>
                  <a:pt x="940" y="566"/>
                  <a:pt x="938" y="587"/>
                  <a:pt x="948" y="603"/>
                </a:cubicBezTo>
                <a:cubicBezTo>
                  <a:pt x="960" y="621"/>
                  <a:pt x="971" y="638"/>
                  <a:pt x="983" y="656"/>
                </a:cubicBezTo>
                <a:cubicBezTo>
                  <a:pt x="989" y="665"/>
                  <a:pt x="992" y="677"/>
                  <a:pt x="1001" y="683"/>
                </a:cubicBezTo>
                <a:cubicBezTo>
                  <a:pt x="1079" y="734"/>
                  <a:pt x="1025" y="707"/>
                  <a:pt x="1090" y="727"/>
                </a:cubicBezTo>
                <a:cubicBezTo>
                  <a:pt x="1108" y="732"/>
                  <a:pt x="1143" y="745"/>
                  <a:pt x="1143" y="745"/>
                </a:cubicBezTo>
                <a:cubicBezTo>
                  <a:pt x="1242" y="738"/>
                  <a:pt x="1309" y="728"/>
                  <a:pt x="1400" y="701"/>
                </a:cubicBezTo>
                <a:cubicBezTo>
                  <a:pt x="1418" y="689"/>
                  <a:pt x="1435" y="677"/>
                  <a:pt x="1453" y="665"/>
                </a:cubicBezTo>
                <a:cubicBezTo>
                  <a:pt x="1461" y="660"/>
                  <a:pt x="1457" y="646"/>
                  <a:pt x="1462" y="638"/>
                </a:cubicBezTo>
                <a:cubicBezTo>
                  <a:pt x="1472" y="619"/>
                  <a:pt x="1482" y="600"/>
                  <a:pt x="1497" y="585"/>
                </a:cubicBezTo>
                <a:cubicBezTo>
                  <a:pt x="1515" y="567"/>
                  <a:pt x="1532" y="550"/>
                  <a:pt x="1550" y="532"/>
                </a:cubicBezTo>
                <a:cubicBezTo>
                  <a:pt x="1559" y="523"/>
                  <a:pt x="1577" y="506"/>
                  <a:pt x="1577" y="506"/>
                </a:cubicBezTo>
                <a:cubicBezTo>
                  <a:pt x="1595" y="453"/>
                  <a:pt x="1572" y="502"/>
                  <a:pt x="1613" y="461"/>
                </a:cubicBezTo>
                <a:cubicBezTo>
                  <a:pt x="1660" y="414"/>
                  <a:pt x="1591" y="453"/>
                  <a:pt x="1666" y="408"/>
                </a:cubicBezTo>
                <a:cubicBezTo>
                  <a:pt x="1709" y="382"/>
                  <a:pt x="1721" y="389"/>
                  <a:pt x="1754" y="355"/>
                </a:cubicBezTo>
                <a:cubicBezTo>
                  <a:pt x="1783" y="326"/>
                  <a:pt x="1778" y="282"/>
                  <a:pt x="1799" y="249"/>
                </a:cubicBezTo>
                <a:cubicBezTo>
                  <a:pt x="1828" y="203"/>
                  <a:pt x="1862" y="189"/>
                  <a:pt x="1905" y="160"/>
                </a:cubicBezTo>
                <a:cubicBezTo>
                  <a:pt x="1938" y="110"/>
                  <a:pt x="1940" y="59"/>
                  <a:pt x="194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3" name=""/>
          <p:cNvSpPr/>
          <p:nvPr/>
        </p:nvSpPr>
        <p:spPr>
          <a:xfrm>
            <a:off x="2403360" y="3038400"/>
            <a:ext cx="4095720" cy="3376800"/>
          </a:xfrm>
          <a:custGeom>
            <a:avLst/>
            <a:gdLst/>
            <a:ahLst/>
            <a:rect l="l" t="t" r="r" b="b"/>
            <a:pathLst>
              <a:path w="2580" h="2127">
                <a:moveTo>
                  <a:pt x="125" y="0"/>
                </a:moveTo>
                <a:cubicBezTo>
                  <a:pt x="134" y="6"/>
                  <a:pt x="144" y="10"/>
                  <a:pt x="152" y="18"/>
                </a:cubicBezTo>
                <a:cubicBezTo>
                  <a:pt x="160" y="25"/>
                  <a:pt x="162" y="37"/>
                  <a:pt x="170" y="44"/>
                </a:cubicBezTo>
                <a:cubicBezTo>
                  <a:pt x="177" y="50"/>
                  <a:pt x="188" y="49"/>
                  <a:pt x="196" y="53"/>
                </a:cubicBezTo>
                <a:cubicBezTo>
                  <a:pt x="206" y="58"/>
                  <a:pt x="215" y="64"/>
                  <a:pt x="223" y="71"/>
                </a:cubicBezTo>
                <a:cubicBezTo>
                  <a:pt x="242" y="88"/>
                  <a:pt x="276" y="124"/>
                  <a:pt x="276" y="124"/>
                </a:cubicBezTo>
                <a:cubicBezTo>
                  <a:pt x="298" y="189"/>
                  <a:pt x="267" y="110"/>
                  <a:pt x="311" y="177"/>
                </a:cubicBezTo>
                <a:cubicBezTo>
                  <a:pt x="316" y="185"/>
                  <a:pt x="316" y="196"/>
                  <a:pt x="320" y="204"/>
                </a:cubicBezTo>
                <a:cubicBezTo>
                  <a:pt x="325" y="213"/>
                  <a:pt x="332" y="221"/>
                  <a:pt x="338" y="230"/>
                </a:cubicBezTo>
                <a:cubicBezTo>
                  <a:pt x="362" y="301"/>
                  <a:pt x="353" y="265"/>
                  <a:pt x="365" y="337"/>
                </a:cubicBezTo>
                <a:cubicBezTo>
                  <a:pt x="362" y="425"/>
                  <a:pt x="410" y="578"/>
                  <a:pt x="320" y="638"/>
                </a:cubicBezTo>
                <a:cubicBezTo>
                  <a:pt x="288" y="735"/>
                  <a:pt x="338" y="592"/>
                  <a:pt x="294" y="691"/>
                </a:cubicBezTo>
                <a:cubicBezTo>
                  <a:pt x="266" y="754"/>
                  <a:pt x="283" y="747"/>
                  <a:pt x="223" y="789"/>
                </a:cubicBezTo>
                <a:cubicBezTo>
                  <a:pt x="190" y="837"/>
                  <a:pt x="132" y="881"/>
                  <a:pt x="108" y="931"/>
                </a:cubicBezTo>
                <a:cubicBezTo>
                  <a:pt x="89" y="970"/>
                  <a:pt x="95" y="1015"/>
                  <a:pt x="81" y="1055"/>
                </a:cubicBezTo>
                <a:cubicBezTo>
                  <a:pt x="78" y="1065"/>
                  <a:pt x="68" y="1072"/>
                  <a:pt x="63" y="1081"/>
                </a:cubicBezTo>
                <a:cubicBezTo>
                  <a:pt x="40" y="1121"/>
                  <a:pt x="50" y="1110"/>
                  <a:pt x="37" y="1152"/>
                </a:cubicBezTo>
                <a:cubicBezTo>
                  <a:pt x="32" y="1170"/>
                  <a:pt x="19" y="1205"/>
                  <a:pt x="19" y="1205"/>
                </a:cubicBezTo>
                <a:cubicBezTo>
                  <a:pt x="25" y="1307"/>
                  <a:pt x="0" y="1344"/>
                  <a:pt x="72" y="1391"/>
                </a:cubicBezTo>
                <a:cubicBezTo>
                  <a:pt x="92" y="1450"/>
                  <a:pt x="64" y="1392"/>
                  <a:pt x="108" y="1427"/>
                </a:cubicBezTo>
                <a:cubicBezTo>
                  <a:pt x="116" y="1433"/>
                  <a:pt x="117" y="1447"/>
                  <a:pt x="125" y="1453"/>
                </a:cubicBezTo>
                <a:cubicBezTo>
                  <a:pt x="137" y="1462"/>
                  <a:pt x="204" y="1471"/>
                  <a:pt x="205" y="1471"/>
                </a:cubicBezTo>
                <a:cubicBezTo>
                  <a:pt x="240" y="1465"/>
                  <a:pt x="277" y="1464"/>
                  <a:pt x="311" y="1453"/>
                </a:cubicBezTo>
                <a:cubicBezTo>
                  <a:pt x="325" y="1449"/>
                  <a:pt x="334" y="1434"/>
                  <a:pt x="347" y="1427"/>
                </a:cubicBezTo>
                <a:cubicBezTo>
                  <a:pt x="378" y="1412"/>
                  <a:pt x="411" y="1407"/>
                  <a:pt x="444" y="1400"/>
                </a:cubicBezTo>
                <a:cubicBezTo>
                  <a:pt x="498" y="1373"/>
                  <a:pt x="466" y="1387"/>
                  <a:pt x="533" y="1365"/>
                </a:cubicBezTo>
                <a:cubicBezTo>
                  <a:pt x="542" y="1362"/>
                  <a:pt x="560" y="1356"/>
                  <a:pt x="560" y="1356"/>
                </a:cubicBezTo>
                <a:cubicBezTo>
                  <a:pt x="699" y="1260"/>
                  <a:pt x="914" y="1272"/>
                  <a:pt x="1065" y="1267"/>
                </a:cubicBezTo>
                <a:cubicBezTo>
                  <a:pt x="1181" y="1237"/>
                  <a:pt x="1211" y="1253"/>
                  <a:pt x="1375" y="1258"/>
                </a:cubicBezTo>
                <a:cubicBezTo>
                  <a:pt x="1393" y="1264"/>
                  <a:pt x="1410" y="1270"/>
                  <a:pt x="1428" y="1276"/>
                </a:cubicBezTo>
                <a:cubicBezTo>
                  <a:pt x="1437" y="1279"/>
                  <a:pt x="1455" y="1285"/>
                  <a:pt x="1455" y="1285"/>
                </a:cubicBezTo>
                <a:cubicBezTo>
                  <a:pt x="1481" y="1303"/>
                  <a:pt x="1507" y="1312"/>
                  <a:pt x="1534" y="1329"/>
                </a:cubicBezTo>
                <a:cubicBezTo>
                  <a:pt x="1570" y="1383"/>
                  <a:pt x="1649" y="1441"/>
                  <a:pt x="1712" y="1462"/>
                </a:cubicBezTo>
                <a:cubicBezTo>
                  <a:pt x="1767" y="1500"/>
                  <a:pt x="1831" y="1493"/>
                  <a:pt x="1898" y="1498"/>
                </a:cubicBezTo>
                <a:cubicBezTo>
                  <a:pt x="1906" y="1500"/>
                  <a:pt x="1956" y="1508"/>
                  <a:pt x="1969" y="1515"/>
                </a:cubicBezTo>
                <a:cubicBezTo>
                  <a:pt x="2003" y="1532"/>
                  <a:pt x="2015" y="1562"/>
                  <a:pt x="2039" y="1586"/>
                </a:cubicBezTo>
                <a:cubicBezTo>
                  <a:pt x="2079" y="1626"/>
                  <a:pt x="2109" y="1632"/>
                  <a:pt x="2164" y="1639"/>
                </a:cubicBezTo>
                <a:cubicBezTo>
                  <a:pt x="2197" y="1662"/>
                  <a:pt x="2221" y="1667"/>
                  <a:pt x="2261" y="1675"/>
                </a:cubicBezTo>
                <a:cubicBezTo>
                  <a:pt x="2289" y="1694"/>
                  <a:pt x="2318" y="1714"/>
                  <a:pt x="2332" y="1746"/>
                </a:cubicBezTo>
                <a:cubicBezTo>
                  <a:pt x="2340" y="1763"/>
                  <a:pt x="2350" y="1799"/>
                  <a:pt x="2350" y="1799"/>
                </a:cubicBezTo>
                <a:cubicBezTo>
                  <a:pt x="2353" y="1820"/>
                  <a:pt x="2349" y="1842"/>
                  <a:pt x="2358" y="1861"/>
                </a:cubicBezTo>
                <a:cubicBezTo>
                  <a:pt x="2362" y="1870"/>
                  <a:pt x="2377" y="1866"/>
                  <a:pt x="2385" y="1870"/>
                </a:cubicBezTo>
                <a:cubicBezTo>
                  <a:pt x="2410" y="1882"/>
                  <a:pt x="2418" y="1894"/>
                  <a:pt x="2438" y="1914"/>
                </a:cubicBezTo>
                <a:cubicBezTo>
                  <a:pt x="2441" y="1923"/>
                  <a:pt x="2443" y="1933"/>
                  <a:pt x="2447" y="1941"/>
                </a:cubicBezTo>
                <a:cubicBezTo>
                  <a:pt x="2452" y="1950"/>
                  <a:pt x="2461" y="1957"/>
                  <a:pt x="2465" y="1967"/>
                </a:cubicBezTo>
                <a:cubicBezTo>
                  <a:pt x="2470" y="1978"/>
                  <a:pt x="2466" y="1993"/>
                  <a:pt x="2474" y="2003"/>
                </a:cubicBezTo>
                <a:cubicBezTo>
                  <a:pt x="2489" y="2022"/>
                  <a:pt x="2521" y="2016"/>
                  <a:pt x="2545" y="2021"/>
                </a:cubicBezTo>
                <a:cubicBezTo>
                  <a:pt x="2567" y="2055"/>
                  <a:pt x="2561" y="2040"/>
                  <a:pt x="2571" y="2083"/>
                </a:cubicBezTo>
                <a:cubicBezTo>
                  <a:pt x="2574" y="2098"/>
                  <a:pt x="2580" y="2127"/>
                  <a:pt x="2580" y="2127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4" name=""/>
          <p:cNvSpPr/>
          <p:nvPr/>
        </p:nvSpPr>
        <p:spPr>
          <a:xfrm>
            <a:off x="611280" y="549360"/>
            <a:ext cx="8137440" cy="590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5" name=""/>
          <p:cNvSpPr/>
          <p:nvPr/>
        </p:nvSpPr>
        <p:spPr>
          <a:xfrm>
            <a:off x="1906560" y="1346040"/>
            <a:ext cx="862200" cy="1713240"/>
          </a:xfrm>
          <a:custGeom>
            <a:avLst/>
            <a:gdLst/>
            <a:ahLst/>
            <a:rect l="l" t="t" r="r" b="b"/>
            <a:pathLst>
              <a:path w="543" h="1079">
                <a:moveTo>
                  <a:pt x="543" y="0"/>
                </a:moveTo>
                <a:cubicBezTo>
                  <a:pt x="526" y="13"/>
                  <a:pt x="512" y="30"/>
                  <a:pt x="494" y="41"/>
                </a:cubicBezTo>
                <a:cubicBezTo>
                  <a:pt x="468" y="57"/>
                  <a:pt x="424" y="59"/>
                  <a:pt x="395" y="65"/>
                </a:cubicBezTo>
                <a:cubicBezTo>
                  <a:pt x="348" y="75"/>
                  <a:pt x="302" y="89"/>
                  <a:pt x="255" y="98"/>
                </a:cubicBezTo>
                <a:cubicBezTo>
                  <a:pt x="220" y="117"/>
                  <a:pt x="195" y="143"/>
                  <a:pt x="157" y="156"/>
                </a:cubicBezTo>
                <a:cubicBezTo>
                  <a:pt x="129" y="177"/>
                  <a:pt x="99" y="190"/>
                  <a:pt x="74" y="213"/>
                </a:cubicBezTo>
                <a:cubicBezTo>
                  <a:pt x="59" y="259"/>
                  <a:pt x="43" y="297"/>
                  <a:pt x="83" y="337"/>
                </a:cubicBezTo>
                <a:cubicBezTo>
                  <a:pt x="114" y="329"/>
                  <a:pt x="134" y="326"/>
                  <a:pt x="157" y="304"/>
                </a:cubicBezTo>
                <a:cubicBezTo>
                  <a:pt x="223" y="311"/>
                  <a:pt x="237" y="298"/>
                  <a:pt x="255" y="353"/>
                </a:cubicBezTo>
                <a:cubicBezTo>
                  <a:pt x="246" y="388"/>
                  <a:pt x="239" y="395"/>
                  <a:pt x="214" y="419"/>
                </a:cubicBezTo>
                <a:cubicBezTo>
                  <a:pt x="200" y="449"/>
                  <a:pt x="183" y="466"/>
                  <a:pt x="165" y="493"/>
                </a:cubicBezTo>
                <a:cubicBezTo>
                  <a:pt x="137" y="582"/>
                  <a:pt x="149" y="578"/>
                  <a:pt x="83" y="633"/>
                </a:cubicBezTo>
                <a:cubicBezTo>
                  <a:pt x="42" y="667"/>
                  <a:pt x="77" y="652"/>
                  <a:pt x="33" y="666"/>
                </a:cubicBezTo>
                <a:cubicBezTo>
                  <a:pt x="21" y="702"/>
                  <a:pt x="10" y="737"/>
                  <a:pt x="0" y="773"/>
                </a:cubicBezTo>
                <a:cubicBezTo>
                  <a:pt x="5" y="798"/>
                  <a:pt x="10" y="846"/>
                  <a:pt x="33" y="864"/>
                </a:cubicBezTo>
                <a:cubicBezTo>
                  <a:pt x="53" y="880"/>
                  <a:pt x="82" y="874"/>
                  <a:pt x="107" y="880"/>
                </a:cubicBezTo>
                <a:cubicBezTo>
                  <a:pt x="124" y="884"/>
                  <a:pt x="157" y="896"/>
                  <a:pt x="157" y="896"/>
                </a:cubicBezTo>
                <a:cubicBezTo>
                  <a:pt x="167" y="928"/>
                  <a:pt x="173" y="936"/>
                  <a:pt x="206" y="946"/>
                </a:cubicBezTo>
                <a:cubicBezTo>
                  <a:pt x="244" y="982"/>
                  <a:pt x="206" y="953"/>
                  <a:pt x="297" y="971"/>
                </a:cubicBezTo>
                <a:cubicBezTo>
                  <a:pt x="314" y="974"/>
                  <a:pt x="346" y="987"/>
                  <a:pt x="346" y="987"/>
                </a:cubicBezTo>
                <a:cubicBezTo>
                  <a:pt x="361" y="1010"/>
                  <a:pt x="376" y="1025"/>
                  <a:pt x="395" y="1045"/>
                </a:cubicBezTo>
                <a:cubicBezTo>
                  <a:pt x="408" y="1079"/>
                  <a:pt x="395" y="1069"/>
                  <a:pt x="436" y="106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6" name="Tree"/>
          <p:cNvSpPr/>
          <p:nvPr/>
        </p:nvSpPr>
        <p:spPr>
          <a:xfrm>
            <a:off x="1258920" y="2276640"/>
            <a:ext cx="833400" cy="97632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7" name="Tree"/>
          <p:cNvSpPr/>
          <p:nvPr/>
        </p:nvSpPr>
        <p:spPr>
          <a:xfrm>
            <a:off x="900000" y="1341360"/>
            <a:ext cx="833400" cy="97632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8" name="Tree"/>
          <p:cNvSpPr/>
          <p:nvPr/>
        </p:nvSpPr>
        <p:spPr>
          <a:xfrm>
            <a:off x="1476360" y="1052640"/>
            <a:ext cx="833400" cy="97632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9" name="Cloud"/>
          <p:cNvSpPr/>
          <p:nvPr/>
        </p:nvSpPr>
        <p:spPr>
          <a:xfrm>
            <a:off x="1619280" y="1844640"/>
            <a:ext cx="1371600" cy="84780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0" name="Cloud"/>
          <p:cNvSpPr/>
          <p:nvPr/>
        </p:nvSpPr>
        <p:spPr>
          <a:xfrm>
            <a:off x="1908000" y="1484280"/>
            <a:ext cx="1371600" cy="84780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1" name="Tree"/>
          <p:cNvSpPr/>
          <p:nvPr/>
        </p:nvSpPr>
        <p:spPr>
          <a:xfrm>
            <a:off x="1619280" y="1916280"/>
            <a:ext cx="833400" cy="97632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2" name="Tree"/>
          <p:cNvSpPr/>
          <p:nvPr/>
        </p:nvSpPr>
        <p:spPr>
          <a:xfrm>
            <a:off x="1403280" y="1628640"/>
            <a:ext cx="833400" cy="97632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3" name="Litebulb"/>
          <p:cNvSpPr/>
          <p:nvPr/>
        </p:nvSpPr>
        <p:spPr>
          <a:xfrm>
            <a:off x="2627280" y="1557360"/>
            <a:ext cx="674640" cy="509400"/>
          </a:xfrm>
          <a:prstGeom prst="pie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4" name="Litebulb"/>
          <p:cNvSpPr/>
          <p:nvPr/>
        </p:nvSpPr>
        <p:spPr>
          <a:xfrm>
            <a:off x="2556000" y="2133720"/>
            <a:ext cx="674640" cy="509400"/>
          </a:xfrm>
          <a:prstGeom prst="pie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5" name="Litebulb"/>
          <p:cNvSpPr/>
          <p:nvPr/>
        </p:nvSpPr>
        <p:spPr>
          <a:xfrm>
            <a:off x="2124000" y="2565360"/>
            <a:ext cx="674640" cy="509760"/>
          </a:xfrm>
          <a:prstGeom prst="pie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6" name="Litebulb"/>
          <p:cNvSpPr/>
          <p:nvPr/>
        </p:nvSpPr>
        <p:spPr>
          <a:xfrm>
            <a:off x="2268360" y="2133720"/>
            <a:ext cx="675000" cy="509400"/>
          </a:xfrm>
          <a:prstGeom prst="pie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7" name="Litebulb"/>
          <p:cNvSpPr/>
          <p:nvPr/>
        </p:nvSpPr>
        <p:spPr>
          <a:xfrm>
            <a:off x="2195640" y="2276640"/>
            <a:ext cx="674640" cy="509400"/>
          </a:xfrm>
          <a:prstGeom prst="pie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8" name="Litebulb"/>
          <p:cNvSpPr/>
          <p:nvPr/>
        </p:nvSpPr>
        <p:spPr>
          <a:xfrm>
            <a:off x="1835280" y="2133720"/>
            <a:ext cx="674640" cy="509400"/>
          </a:xfrm>
          <a:prstGeom prst="pie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9" name="Litebulb"/>
          <p:cNvSpPr/>
          <p:nvPr/>
        </p:nvSpPr>
        <p:spPr>
          <a:xfrm>
            <a:off x="1979640" y="2060640"/>
            <a:ext cx="674640" cy="509400"/>
          </a:xfrm>
          <a:prstGeom prst="pie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0" name="Litebulb"/>
          <p:cNvSpPr/>
          <p:nvPr/>
        </p:nvSpPr>
        <p:spPr>
          <a:xfrm>
            <a:off x="1835280" y="1916280"/>
            <a:ext cx="674640" cy="509400"/>
          </a:xfrm>
          <a:prstGeom prst="pie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1" name="Litebulb"/>
          <p:cNvSpPr/>
          <p:nvPr/>
        </p:nvSpPr>
        <p:spPr>
          <a:xfrm>
            <a:off x="1979640" y="1413000"/>
            <a:ext cx="674640" cy="509400"/>
          </a:xfrm>
          <a:prstGeom prst="pie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2" name="Tree"/>
          <p:cNvSpPr/>
          <p:nvPr/>
        </p:nvSpPr>
        <p:spPr>
          <a:xfrm>
            <a:off x="1547640" y="2060640"/>
            <a:ext cx="833760" cy="97632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2232000" cy="1727280"/>
          </a:xfrm>
          <a:prstGeom prst="rect">
            <a:avLst/>
          </a:prstGeom>
          <a:ln w="0">
            <a:noFill/>
          </a:ln>
        </p:spPr>
      </p:pic>
      <p:sp>
        <p:nvSpPr>
          <p:cNvPr id="194" name="Litebulb"/>
          <p:cNvSpPr/>
          <p:nvPr/>
        </p:nvSpPr>
        <p:spPr>
          <a:xfrm>
            <a:off x="5724360" y="1989000"/>
            <a:ext cx="675000" cy="509760"/>
          </a:xfrm>
          <a:prstGeom prst="pie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5" name="Litebulb"/>
          <p:cNvSpPr/>
          <p:nvPr/>
        </p:nvSpPr>
        <p:spPr>
          <a:xfrm>
            <a:off x="4284720" y="2708280"/>
            <a:ext cx="674640" cy="509760"/>
          </a:xfrm>
          <a:prstGeom prst="pie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6" name="Litebulb"/>
          <p:cNvSpPr/>
          <p:nvPr/>
        </p:nvSpPr>
        <p:spPr>
          <a:xfrm>
            <a:off x="6156360" y="3573360"/>
            <a:ext cx="674640" cy="509760"/>
          </a:xfrm>
          <a:prstGeom prst="pie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7" name="Litebulb"/>
          <p:cNvSpPr/>
          <p:nvPr/>
        </p:nvSpPr>
        <p:spPr>
          <a:xfrm>
            <a:off x="3059280" y="4292640"/>
            <a:ext cx="674640" cy="509400"/>
          </a:xfrm>
          <a:prstGeom prst="pie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8" name="Litebulb"/>
          <p:cNvSpPr/>
          <p:nvPr/>
        </p:nvSpPr>
        <p:spPr>
          <a:xfrm>
            <a:off x="6300720" y="1341360"/>
            <a:ext cx="674640" cy="509760"/>
          </a:xfrm>
          <a:prstGeom prst="pie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9" name="Litebulb"/>
          <p:cNvSpPr/>
          <p:nvPr/>
        </p:nvSpPr>
        <p:spPr>
          <a:xfrm>
            <a:off x="3564000" y="1916280"/>
            <a:ext cx="674640" cy="509400"/>
          </a:xfrm>
          <a:prstGeom prst="pie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0" name="Cloud"/>
          <p:cNvSpPr/>
          <p:nvPr/>
        </p:nvSpPr>
        <p:spPr>
          <a:xfrm>
            <a:off x="4140360" y="3429000"/>
            <a:ext cx="1371600" cy="84780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1" name="Cloud"/>
          <p:cNvSpPr/>
          <p:nvPr/>
        </p:nvSpPr>
        <p:spPr>
          <a:xfrm>
            <a:off x="6372360" y="4653000"/>
            <a:ext cx="1371600" cy="84780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2" name=""/>
          <p:cNvSpPr/>
          <p:nvPr/>
        </p:nvSpPr>
        <p:spPr>
          <a:xfrm>
            <a:off x="2771640" y="561960"/>
            <a:ext cx="3079800" cy="1182600"/>
          </a:xfrm>
          <a:custGeom>
            <a:avLst/>
            <a:gdLst/>
            <a:ahLst/>
            <a:rect l="l" t="t" r="r" b="b"/>
            <a:pathLst>
              <a:path w="1940" h="745">
                <a:moveTo>
                  <a:pt x="0" y="488"/>
                </a:moveTo>
                <a:cubicBezTo>
                  <a:pt x="10" y="449"/>
                  <a:pt x="22" y="411"/>
                  <a:pt x="35" y="373"/>
                </a:cubicBezTo>
                <a:cubicBezTo>
                  <a:pt x="39" y="363"/>
                  <a:pt x="53" y="362"/>
                  <a:pt x="62" y="355"/>
                </a:cubicBezTo>
                <a:cubicBezTo>
                  <a:pt x="103" y="324"/>
                  <a:pt x="136" y="301"/>
                  <a:pt x="186" y="284"/>
                </a:cubicBezTo>
                <a:cubicBezTo>
                  <a:pt x="229" y="254"/>
                  <a:pt x="285" y="244"/>
                  <a:pt x="336" y="231"/>
                </a:cubicBezTo>
                <a:cubicBezTo>
                  <a:pt x="429" y="234"/>
                  <a:pt x="628" y="224"/>
                  <a:pt x="735" y="257"/>
                </a:cubicBezTo>
                <a:cubicBezTo>
                  <a:pt x="763" y="276"/>
                  <a:pt x="785" y="301"/>
                  <a:pt x="806" y="328"/>
                </a:cubicBezTo>
                <a:cubicBezTo>
                  <a:pt x="819" y="345"/>
                  <a:pt x="842" y="382"/>
                  <a:pt x="842" y="382"/>
                </a:cubicBezTo>
                <a:cubicBezTo>
                  <a:pt x="860" y="441"/>
                  <a:pt x="896" y="499"/>
                  <a:pt x="930" y="550"/>
                </a:cubicBezTo>
                <a:cubicBezTo>
                  <a:pt x="940" y="566"/>
                  <a:pt x="938" y="587"/>
                  <a:pt x="948" y="603"/>
                </a:cubicBezTo>
                <a:cubicBezTo>
                  <a:pt x="960" y="621"/>
                  <a:pt x="971" y="638"/>
                  <a:pt x="983" y="656"/>
                </a:cubicBezTo>
                <a:cubicBezTo>
                  <a:pt x="989" y="665"/>
                  <a:pt x="992" y="677"/>
                  <a:pt x="1001" y="683"/>
                </a:cubicBezTo>
                <a:cubicBezTo>
                  <a:pt x="1079" y="734"/>
                  <a:pt x="1025" y="707"/>
                  <a:pt x="1090" y="727"/>
                </a:cubicBezTo>
                <a:cubicBezTo>
                  <a:pt x="1108" y="732"/>
                  <a:pt x="1143" y="745"/>
                  <a:pt x="1143" y="745"/>
                </a:cubicBezTo>
                <a:cubicBezTo>
                  <a:pt x="1242" y="738"/>
                  <a:pt x="1309" y="728"/>
                  <a:pt x="1400" y="701"/>
                </a:cubicBezTo>
                <a:cubicBezTo>
                  <a:pt x="1418" y="689"/>
                  <a:pt x="1435" y="677"/>
                  <a:pt x="1453" y="665"/>
                </a:cubicBezTo>
                <a:cubicBezTo>
                  <a:pt x="1461" y="660"/>
                  <a:pt x="1457" y="646"/>
                  <a:pt x="1462" y="638"/>
                </a:cubicBezTo>
                <a:cubicBezTo>
                  <a:pt x="1472" y="619"/>
                  <a:pt x="1482" y="600"/>
                  <a:pt x="1497" y="585"/>
                </a:cubicBezTo>
                <a:cubicBezTo>
                  <a:pt x="1515" y="567"/>
                  <a:pt x="1532" y="550"/>
                  <a:pt x="1550" y="532"/>
                </a:cubicBezTo>
                <a:cubicBezTo>
                  <a:pt x="1559" y="523"/>
                  <a:pt x="1577" y="506"/>
                  <a:pt x="1577" y="506"/>
                </a:cubicBezTo>
                <a:cubicBezTo>
                  <a:pt x="1595" y="453"/>
                  <a:pt x="1572" y="502"/>
                  <a:pt x="1613" y="461"/>
                </a:cubicBezTo>
                <a:cubicBezTo>
                  <a:pt x="1660" y="414"/>
                  <a:pt x="1591" y="453"/>
                  <a:pt x="1666" y="408"/>
                </a:cubicBezTo>
                <a:cubicBezTo>
                  <a:pt x="1709" y="382"/>
                  <a:pt x="1721" y="389"/>
                  <a:pt x="1754" y="355"/>
                </a:cubicBezTo>
                <a:cubicBezTo>
                  <a:pt x="1783" y="326"/>
                  <a:pt x="1778" y="282"/>
                  <a:pt x="1799" y="249"/>
                </a:cubicBezTo>
                <a:cubicBezTo>
                  <a:pt x="1828" y="203"/>
                  <a:pt x="1862" y="189"/>
                  <a:pt x="1905" y="160"/>
                </a:cubicBezTo>
                <a:cubicBezTo>
                  <a:pt x="1938" y="110"/>
                  <a:pt x="1940" y="59"/>
                  <a:pt x="194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3" name=""/>
          <p:cNvSpPr/>
          <p:nvPr/>
        </p:nvSpPr>
        <p:spPr>
          <a:xfrm>
            <a:off x="2403360" y="3038400"/>
            <a:ext cx="4095720" cy="3376800"/>
          </a:xfrm>
          <a:custGeom>
            <a:avLst/>
            <a:gdLst/>
            <a:ahLst/>
            <a:rect l="l" t="t" r="r" b="b"/>
            <a:pathLst>
              <a:path w="2580" h="2127">
                <a:moveTo>
                  <a:pt x="125" y="0"/>
                </a:moveTo>
                <a:cubicBezTo>
                  <a:pt x="134" y="6"/>
                  <a:pt x="144" y="10"/>
                  <a:pt x="152" y="18"/>
                </a:cubicBezTo>
                <a:cubicBezTo>
                  <a:pt x="160" y="25"/>
                  <a:pt x="162" y="37"/>
                  <a:pt x="170" y="44"/>
                </a:cubicBezTo>
                <a:cubicBezTo>
                  <a:pt x="177" y="50"/>
                  <a:pt x="188" y="49"/>
                  <a:pt x="196" y="53"/>
                </a:cubicBezTo>
                <a:cubicBezTo>
                  <a:pt x="206" y="58"/>
                  <a:pt x="215" y="64"/>
                  <a:pt x="223" y="71"/>
                </a:cubicBezTo>
                <a:cubicBezTo>
                  <a:pt x="242" y="88"/>
                  <a:pt x="276" y="124"/>
                  <a:pt x="276" y="124"/>
                </a:cubicBezTo>
                <a:cubicBezTo>
                  <a:pt x="298" y="189"/>
                  <a:pt x="267" y="110"/>
                  <a:pt x="311" y="177"/>
                </a:cubicBezTo>
                <a:cubicBezTo>
                  <a:pt x="316" y="185"/>
                  <a:pt x="316" y="196"/>
                  <a:pt x="320" y="204"/>
                </a:cubicBezTo>
                <a:cubicBezTo>
                  <a:pt x="325" y="213"/>
                  <a:pt x="332" y="221"/>
                  <a:pt x="338" y="230"/>
                </a:cubicBezTo>
                <a:cubicBezTo>
                  <a:pt x="362" y="301"/>
                  <a:pt x="353" y="265"/>
                  <a:pt x="365" y="337"/>
                </a:cubicBezTo>
                <a:cubicBezTo>
                  <a:pt x="362" y="425"/>
                  <a:pt x="410" y="578"/>
                  <a:pt x="320" y="638"/>
                </a:cubicBezTo>
                <a:cubicBezTo>
                  <a:pt x="288" y="735"/>
                  <a:pt x="338" y="592"/>
                  <a:pt x="294" y="691"/>
                </a:cubicBezTo>
                <a:cubicBezTo>
                  <a:pt x="266" y="754"/>
                  <a:pt x="283" y="747"/>
                  <a:pt x="223" y="789"/>
                </a:cubicBezTo>
                <a:cubicBezTo>
                  <a:pt x="190" y="837"/>
                  <a:pt x="132" y="881"/>
                  <a:pt x="108" y="931"/>
                </a:cubicBezTo>
                <a:cubicBezTo>
                  <a:pt x="89" y="970"/>
                  <a:pt x="95" y="1015"/>
                  <a:pt x="81" y="1055"/>
                </a:cubicBezTo>
                <a:cubicBezTo>
                  <a:pt x="78" y="1065"/>
                  <a:pt x="68" y="1072"/>
                  <a:pt x="63" y="1081"/>
                </a:cubicBezTo>
                <a:cubicBezTo>
                  <a:pt x="40" y="1121"/>
                  <a:pt x="50" y="1110"/>
                  <a:pt x="37" y="1152"/>
                </a:cubicBezTo>
                <a:cubicBezTo>
                  <a:pt x="32" y="1170"/>
                  <a:pt x="19" y="1205"/>
                  <a:pt x="19" y="1205"/>
                </a:cubicBezTo>
                <a:cubicBezTo>
                  <a:pt x="25" y="1307"/>
                  <a:pt x="0" y="1344"/>
                  <a:pt x="72" y="1391"/>
                </a:cubicBezTo>
                <a:cubicBezTo>
                  <a:pt x="92" y="1450"/>
                  <a:pt x="64" y="1392"/>
                  <a:pt x="108" y="1427"/>
                </a:cubicBezTo>
                <a:cubicBezTo>
                  <a:pt x="116" y="1433"/>
                  <a:pt x="117" y="1447"/>
                  <a:pt x="125" y="1453"/>
                </a:cubicBezTo>
                <a:cubicBezTo>
                  <a:pt x="137" y="1462"/>
                  <a:pt x="204" y="1471"/>
                  <a:pt x="205" y="1471"/>
                </a:cubicBezTo>
                <a:cubicBezTo>
                  <a:pt x="240" y="1465"/>
                  <a:pt x="277" y="1464"/>
                  <a:pt x="311" y="1453"/>
                </a:cubicBezTo>
                <a:cubicBezTo>
                  <a:pt x="325" y="1449"/>
                  <a:pt x="334" y="1434"/>
                  <a:pt x="347" y="1427"/>
                </a:cubicBezTo>
                <a:cubicBezTo>
                  <a:pt x="378" y="1412"/>
                  <a:pt x="411" y="1407"/>
                  <a:pt x="444" y="1400"/>
                </a:cubicBezTo>
                <a:cubicBezTo>
                  <a:pt x="498" y="1373"/>
                  <a:pt x="466" y="1387"/>
                  <a:pt x="533" y="1365"/>
                </a:cubicBezTo>
                <a:cubicBezTo>
                  <a:pt x="542" y="1362"/>
                  <a:pt x="560" y="1356"/>
                  <a:pt x="560" y="1356"/>
                </a:cubicBezTo>
                <a:cubicBezTo>
                  <a:pt x="699" y="1260"/>
                  <a:pt x="914" y="1272"/>
                  <a:pt x="1065" y="1267"/>
                </a:cubicBezTo>
                <a:cubicBezTo>
                  <a:pt x="1181" y="1237"/>
                  <a:pt x="1211" y="1253"/>
                  <a:pt x="1375" y="1258"/>
                </a:cubicBezTo>
                <a:cubicBezTo>
                  <a:pt x="1393" y="1264"/>
                  <a:pt x="1410" y="1270"/>
                  <a:pt x="1428" y="1276"/>
                </a:cubicBezTo>
                <a:cubicBezTo>
                  <a:pt x="1437" y="1279"/>
                  <a:pt x="1455" y="1285"/>
                  <a:pt x="1455" y="1285"/>
                </a:cubicBezTo>
                <a:cubicBezTo>
                  <a:pt x="1481" y="1303"/>
                  <a:pt x="1507" y="1312"/>
                  <a:pt x="1534" y="1329"/>
                </a:cubicBezTo>
                <a:cubicBezTo>
                  <a:pt x="1570" y="1383"/>
                  <a:pt x="1649" y="1441"/>
                  <a:pt x="1712" y="1462"/>
                </a:cubicBezTo>
                <a:cubicBezTo>
                  <a:pt x="1767" y="1500"/>
                  <a:pt x="1831" y="1493"/>
                  <a:pt x="1898" y="1498"/>
                </a:cubicBezTo>
                <a:cubicBezTo>
                  <a:pt x="1906" y="1500"/>
                  <a:pt x="1956" y="1508"/>
                  <a:pt x="1969" y="1515"/>
                </a:cubicBezTo>
                <a:cubicBezTo>
                  <a:pt x="2003" y="1532"/>
                  <a:pt x="2015" y="1562"/>
                  <a:pt x="2039" y="1586"/>
                </a:cubicBezTo>
                <a:cubicBezTo>
                  <a:pt x="2079" y="1626"/>
                  <a:pt x="2109" y="1632"/>
                  <a:pt x="2164" y="1639"/>
                </a:cubicBezTo>
                <a:cubicBezTo>
                  <a:pt x="2197" y="1662"/>
                  <a:pt x="2221" y="1667"/>
                  <a:pt x="2261" y="1675"/>
                </a:cubicBezTo>
                <a:cubicBezTo>
                  <a:pt x="2289" y="1694"/>
                  <a:pt x="2318" y="1714"/>
                  <a:pt x="2332" y="1746"/>
                </a:cubicBezTo>
                <a:cubicBezTo>
                  <a:pt x="2340" y="1763"/>
                  <a:pt x="2350" y="1799"/>
                  <a:pt x="2350" y="1799"/>
                </a:cubicBezTo>
                <a:cubicBezTo>
                  <a:pt x="2353" y="1820"/>
                  <a:pt x="2349" y="1842"/>
                  <a:pt x="2358" y="1861"/>
                </a:cubicBezTo>
                <a:cubicBezTo>
                  <a:pt x="2362" y="1870"/>
                  <a:pt x="2377" y="1866"/>
                  <a:pt x="2385" y="1870"/>
                </a:cubicBezTo>
                <a:cubicBezTo>
                  <a:pt x="2410" y="1882"/>
                  <a:pt x="2418" y="1894"/>
                  <a:pt x="2438" y="1914"/>
                </a:cubicBezTo>
                <a:cubicBezTo>
                  <a:pt x="2441" y="1923"/>
                  <a:pt x="2443" y="1933"/>
                  <a:pt x="2447" y="1941"/>
                </a:cubicBezTo>
                <a:cubicBezTo>
                  <a:pt x="2452" y="1950"/>
                  <a:pt x="2461" y="1957"/>
                  <a:pt x="2465" y="1967"/>
                </a:cubicBezTo>
                <a:cubicBezTo>
                  <a:pt x="2470" y="1978"/>
                  <a:pt x="2466" y="1993"/>
                  <a:pt x="2474" y="2003"/>
                </a:cubicBezTo>
                <a:cubicBezTo>
                  <a:pt x="2489" y="2022"/>
                  <a:pt x="2521" y="2016"/>
                  <a:pt x="2545" y="2021"/>
                </a:cubicBezTo>
                <a:cubicBezTo>
                  <a:pt x="2567" y="2055"/>
                  <a:pt x="2561" y="2040"/>
                  <a:pt x="2571" y="2083"/>
                </a:cubicBezTo>
                <a:cubicBezTo>
                  <a:pt x="2574" y="2098"/>
                  <a:pt x="2580" y="2127"/>
                  <a:pt x="2580" y="2127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4" name=""/>
          <p:cNvSpPr/>
          <p:nvPr/>
        </p:nvSpPr>
        <p:spPr>
          <a:xfrm>
            <a:off x="611280" y="549360"/>
            <a:ext cx="8137440" cy="590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23520" y="719280"/>
            <a:ext cx="70995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114800"/>
                <a:tab algn="l" pos="8229600"/>
              </a:tabLst>
            </a:pPr>
            <a:r>
              <a:rPr b="1" lang="da-DK" sz="4000" spc="-1" strike="noStrike">
                <a:solidFill>
                  <a:srgbClr val="000000"/>
                </a:solidFill>
                <a:latin typeface="Arial Unicode MS"/>
              </a:rPr>
              <a:t>Issues</a:t>
            </a:r>
            <a:endParaRPr b="1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69343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Unicode MS"/>
              </a:rPr>
              <a:t>DGIWG business model/maintenance procedure for Register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Unicode MS"/>
              </a:rPr>
              <a:t>Call for resources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 Unicode MS"/>
              </a:rPr>
              <a:t>Follow up to D23 REP (NWIP) cross-domain semantic interoperability in feature catalogues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 Unicode MS"/>
              </a:rPr>
              <a:t>D14/15 (Mission specific data)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 Unicode MS"/>
              </a:rPr>
              <a:t>S01 (Portrayal service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23520" y="719280"/>
            <a:ext cx="70995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114800"/>
                <a:tab algn="l" pos="82296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 Unicode MS"/>
              </a:rPr>
              <a:t>Dependencies (delete)</a:t>
            </a: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066680" y="1558800"/>
            <a:ext cx="6934320" cy="442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520" y="719280"/>
            <a:ext cx="70995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114800"/>
                <a:tab algn="l" pos="8229600"/>
              </a:tabLst>
            </a:pPr>
            <a:br>
              <a:rPr sz="3200"/>
            </a:br>
            <a:r>
              <a:rPr b="1" lang="da-DK" sz="3200" spc="-1" strike="noStrike">
                <a:solidFill>
                  <a:srgbClr val="000000"/>
                </a:solidFill>
                <a:latin typeface="Arial Unicode MS"/>
              </a:rPr>
              <a:t>Scope of DGIWG</a:t>
            </a: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69343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Unicode MS"/>
              </a:rPr>
              <a:t>Portrayal Registry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 Unicode MS"/>
              </a:rPr>
              <a:t>Design, implementation, population, maintenance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Unicode MS"/>
              </a:rPr>
              <a:t>Design of symbol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 Unicode MS"/>
              </a:rPr>
              <a:t>Initiated by either projects or nation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 Unicode MS"/>
              </a:rPr>
              <a:t>For specific domains/products/use case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Unicode MS"/>
              </a:rPr>
              <a:t>Deconfliction of symbol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 Unicode MS"/>
              </a:rPr>
              <a:t>Deconfliction cross nations within a domain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 Unicode MS"/>
              </a:rPr>
              <a:t>Deconfliction cross nations/cross domains – needed for COP, REP,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371600" y="4267080"/>
            <a:ext cx="6858000" cy="1479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5" name=""/>
          <p:cNvSpPr/>
          <p:nvPr/>
        </p:nvSpPr>
        <p:spPr>
          <a:xfrm>
            <a:off x="1371600" y="2438280"/>
            <a:ext cx="6858000" cy="1594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520" y="719280"/>
            <a:ext cx="70995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114800"/>
                <a:tab algn="l" pos="82296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 Unicode MS"/>
              </a:rPr>
              <a:t>Portrayal Road Map (T03)</a:t>
            </a: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7" name=""/>
          <p:cNvSpPr/>
          <p:nvPr/>
        </p:nvSpPr>
        <p:spPr>
          <a:xfrm>
            <a:off x="1752480" y="2819520"/>
            <a:ext cx="1798920" cy="56340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Current State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8" name=""/>
          <p:cNvSpPr/>
          <p:nvPr/>
        </p:nvSpPr>
        <p:spPr>
          <a:xfrm>
            <a:off x="5943600" y="2819520"/>
            <a:ext cx="1714680" cy="56340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Future State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9" name=""/>
          <p:cNvSpPr/>
          <p:nvPr/>
        </p:nvSpPr>
        <p:spPr>
          <a:xfrm>
            <a:off x="3886200" y="2819520"/>
            <a:ext cx="1685880" cy="56340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Activity Plan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0" name=""/>
          <p:cNvSpPr/>
          <p:nvPr/>
        </p:nvSpPr>
        <p:spPr>
          <a:xfrm>
            <a:off x="2362320" y="3657600"/>
            <a:ext cx="4343400" cy="144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1" name=""/>
          <p:cNvSpPr/>
          <p:nvPr/>
        </p:nvSpPr>
        <p:spPr>
          <a:xfrm>
            <a:off x="1714680" y="4832280"/>
            <a:ext cx="1714320" cy="5716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User Requirements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2" name=""/>
          <p:cNvSpPr/>
          <p:nvPr/>
        </p:nvSpPr>
        <p:spPr>
          <a:xfrm>
            <a:off x="3772080" y="4846680"/>
            <a:ext cx="1714320" cy="7160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400" spc="-1" strike="noStrike">
                <a:solidFill>
                  <a:srgbClr val="000000"/>
                </a:solidFill>
                <a:latin typeface="Arial"/>
              </a:rPr>
              <a:t>Relevant Standards &amp;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Technologies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3" name=""/>
          <p:cNvSpPr/>
          <p:nvPr/>
        </p:nvSpPr>
        <p:spPr>
          <a:xfrm>
            <a:off x="5943600" y="4846680"/>
            <a:ext cx="1943280" cy="5572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Liaison Partners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4" name=""/>
          <p:cNvSpPr/>
          <p:nvPr/>
        </p:nvSpPr>
        <p:spPr>
          <a:xfrm>
            <a:off x="1371600" y="1371600"/>
            <a:ext cx="6858000" cy="723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Mission and Objective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Policy and Guideline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5" name=""/>
          <p:cNvSpPr/>
          <p:nvPr/>
        </p:nvSpPr>
        <p:spPr>
          <a:xfrm>
            <a:off x="1981080" y="1828800"/>
            <a:ext cx="0" cy="83808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6" name=""/>
          <p:cNvSpPr/>
          <p:nvPr/>
        </p:nvSpPr>
        <p:spPr>
          <a:xfrm>
            <a:off x="3581280" y="4343400"/>
            <a:ext cx="2133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External Factor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981080" y="3809520"/>
            <a:ext cx="0" cy="68580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762120" y="1981080"/>
          <a:ext cx="6019560" cy="3875040"/>
        </p:xfrm>
        <a:graphic>
          <a:graphicData uri="http://schemas.openxmlformats.org/drawingml/2006/table">
            <a:tbl>
              <a:tblPr/>
              <a:tblGrid>
                <a:gridCol w="6019560"/>
              </a:tblGrid>
              <a:tr h="6735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DGIWG Portrayal Regist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201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1981080" y="3200400"/>
          <a:ext cx="1295280" cy="1344600"/>
        </p:xfrm>
        <a:graphic>
          <a:graphicData uri="http://schemas.openxmlformats.org/drawingml/2006/table">
            <a:tbl>
              <a:tblPr/>
              <a:tblGrid>
                <a:gridCol w="1295280"/>
              </a:tblGrid>
              <a:tr h="4708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Regis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GEOSY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873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Register of Portrayal Specifi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Containing ru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520" y="719280"/>
            <a:ext cx="70995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114800"/>
                <a:tab algn="l" pos="82296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 Unicode MS"/>
              </a:rPr>
              <a:t>Future State</a:t>
            </a: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752480" y="3429000"/>
          <a:ext cx="1295280" cy="1344600"/>
        </p:xfrm>
        <a:graphic>
          <a:graphicData uri="http://schemas.openxmlformats.org/drawingml/2006/table">
            <a:tbl>
              <a:tblPr/>
              <a:tblGrid>
                <a:gridCol w="1295280"/>
              </a:tblGrid>
              <a:tr h="4708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Regis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GEOSY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873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Register of Portrayal Specifi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Containing ru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1523880" y="3733920"/>
          <a:ext cx="1295280" cy="1454040"/>
        </p:xfrm>
        <a:graphic>
          <a:graphicData uri="http://schemas.openxmlformats.org/drawingml/2006/table">
            <a:tbl>
              <a:tblPr/>
              <a:tblGrid>
                <a:gridCol w="1295280"/>
              </a:tblGrid>
              <a:tr h="5774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Regis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876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Register of Portrayal Specifi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Containing ru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5257800" y="3200400"/>
          <a:ext cx="1295280" cy="1344600"/>
        </p:xfrm>
        <a:graphic>
          <a:graphicData uri="http://schemas.openxmlformats.org/drawingml/2006/table">
            <a:tbl>
              <a:tblPr/>
              <a:tblGrid>
                <a:gridCol w="1295280"/>
              </a:tblGrid>
              <a:tr h="4708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Regis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GEOSY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873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Register of Portrayal Cataloug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Containing Symbo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1219320" y="4038480"/>
          <a:ext cx="1295280" cy="1344600"/>
        </p:xfrm>
        <a:graphic>
          <a:graphicData uri="http://schemas.openxmlformats.org/drawingml/2006/table">
            <a:tbl>
              <a:tblPr/>
              <a:tblGrid>
                <a:gridCol w="1295280"/>
              </a:tblGrid>
              <a:tr h="4708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Regis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GeoSy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873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Register of Portrayal Specifi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Containing Symbo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5105520" y="3505320"/>
          <a:ext cx="1295280" cy="1344600"/>
        </p:xfrm>
        <a:graphic>
          <a:graphicData uri="http://schemas.openxmlformats.org/drawingml/2006/table">
            <a:tbl>
              <a:tblPr/>
              <a:tblGrid>
                <a:gridCol w="1295280"/>
              </a:tblGrid>
              <a:tr h="4708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Regis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GEOSY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873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Register of Portrayal Cataloug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Containing Symbo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4876920" y="3809880"/>
          <a:ext cx="1295280" cy="1344600"/>
        </p:xfrm>
        <a:graphic>
          <a:graphicData uri="http://schemas.openxmlformats.org/drawingml/2006/table">
            <a:tbl>
              <a:tblPr/>
              <a:tblGrid>
                <a:gridCol w="1295280"/>
              </a:tblGrid>
              <a:tr h="4708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Regis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GEOSY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873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Register of Portrayal Cataloug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Containing Symbo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4648320" y="4114800"/>
          <a:ext cx="1295280" cy="1344600"/>
        </p:xfrm>
        <a:graphic>
          <a:graphicData uri="http://schemas.openxmlformats.org/drawingml/2006/table">
            <a:tbl>
              <a:tblPr/>
              <a:tblGrid>
                <a:gridCol w="1295280"/>
              </a:tblGrid>
              <a:tr h="4708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Regis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GeoSy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873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Register of Portrayal Catalog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Containing Ru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118" name=""/>
          <p:cNvSpPr/>
          <p:nvPr/>
        </p:nvSpPr>
        <p:spPr>
          <a:xfrm>
            <a:off x="6477120" y="2590920"/>
            <a:ext cx="2438280" cy="25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 Unicode MS"/>
              </a:rPr>
              <a:t>GeoSym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 Unicode MS"/>
              </a:rPr>
              <a:t>REP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 Unicode MS"/>
              </a:rPr>
              <a:t>S52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 Unicode MS"/>
              </a:rPr>
              <a:t>TLM50 Spec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 Unicode MS"/>
              </a:rPr>
              <a:t>Mil-STD-2525/APP-6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 Unicode MS"/>
              </a:rPr>
              <a:t>Emergency Management Symbology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 Unicode MS"/>
              </a:rPr>
              <a:t>Mission Specific data (MSD)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6171840" y="2362320"/>
            <a:ext cx="15238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3520" y="719280"/>
            <a:ext cx="70995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114800"/>
                <a:tab algn="l" pos="82296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 Unicode MS"/>
              </a:rPr>
              <a:t>Project overview</a:t>
            </a: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6172200" y="3276720"/>
          <a:ext cx="1514520" cy="1419120"/>
        </p:xfrm>
        <a:graphic>
          <a:graphicData uri="http://schemas.openxmlformats.org/drawingml/2006/table">
            <a:tbl>
              <a:tblPr/>
              <a:tblGrid>
                <a:gridCol w="1514520"/>
              </a:tblGrid>
              <a:tr h="1129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D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Investigate portrayal issues for Environmental Intelligence in the REP for GMWG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894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Brian Paris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122" name=""/>
          <p:cNvSpPr/>
          <p:nvPr/>
        </p:nvSpPr>
        <p:spPr>
          <a:xfrm>
            <a:off x="4343400" y="1828800"/>
            <a:ext cx="1981080" cy="13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771640" y="1341360"/>
          <a:ext cx="1600200" cy="685800"/>
        </p:xfrm>
        <a:graphic>
          <a:graphicData uri="http://schemas.openxmlformats.org/drawingml/2006/table">
            <a:tbl>
              <a:tblPr/>
              <a:tblGrid>
                <a:gridCol w="1600200"/>
              </a:tblGrid>
              <a:tr h="3430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DST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Data Structure T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427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Mike Harbaug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7848720" y="2895480"/>
          <a:ext cx="1143000" cy="673200"/>
        </p:xfrm>
        <a:graphic>
          <a:graphicData uri="http://schemas.openxmlformats.org/drawingml/2006/table">
            <a:tbl>
              <a:tblPr/>
              <a:tblGrid>
                <a:gridCol w="1143000"/>
              </a:tblGrid>
              <a:tr h="3808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S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Portrayal Servic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2923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Marlene Mey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4356000" y="2781360"/>
          <a:ext cx="1584360" cy="1396800"/>
        </p:xfrm>
        <a:graphic>
          <a:graphicData uri="http://schemas.openxmlformats.org/drawingml/2006/table">
            <a:tbl>
              <a:tblPr/>
              <a:tblGrid>
                <a:gridCol w="1584360"/>
              </a:tblGrid>
              <a:tr h="11613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D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"/>
                        </a:rPr>
                        <a:t>Prototype Register of Symbols for Hardcopy Output of Mission Specific Data Level 3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"/>
                        </a:rPr>
                        <a:t>in 1: 50,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354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Dan Gleas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2268360" y="2421000"/>
          <a:ext cx="1981440" cy="931680"/>
        </p:xfrm>
        <a:graphic>
          <a:graphicData uri="http://schemas.openxmlformats.org/drawingml/2006/table">
            <a:tbl>
              <a:tblPr/>
              <a:tblGrid>
                <a:gridCol w="1981440"/>
              </a:tblGrid>
              <a:tr h="6411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D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Portrayal Catalogs and Portrayal Specifications for Mission Specific Data (MSD)</a:t>
                      </a:r>
                      <a:r>
                        <a:rPr b="1" lang="da-DK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905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Dan Gleas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7315200" y="1447920"/>
          <a:ext cx="1600200" cy="685800"/>
        </p:xfrm>
        <a:graphic>
          <a:graphicData uri="http://schemas.openxmlformats.org/drawingml/2006/table">
            <a:tbl>
              <a:tblPr/>
              <a:tblGrid>
                <a:gridCol w="1600200"/>
              </a:tblGrid>
              <a:tr h="5144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SIT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Service &amp; Interface T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1713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Karpal Cha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8077320" y="2133720"/>
            <a:ext cx="75960" cy="761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1979280" y="1628640"/>
            <a:ext cx="647640" cy="169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0" name=""/>
          <p:cNvSpPr/>
          <p:nvPr/>
        </p:nvSpPr>
        <p:spPr>
          <a:xfrm>
            <a:off x="5508720" y="4149720"/>
            <a:ext cx="0" cy="719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187280" y="3429000"/>
          <a:ext cx="2270160" cy="1004760"/>
        </p:xfrm>
        <a:graphic>
          <a:graphicData uri="http://schemas.openxmlformats.org/drawingml/2006/table">
            <a:tbl>
              <a:tblPr/>
              <a:tblGrid>
                <a:gridCol w="2270160"/>
              </a:tblGrid>
              <a:tr h="6728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New D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Implementation of a prototype DGIWG Portrayal Regist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366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Dan Gleas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755640" y="1844640"/>
          <a:ext cx="1154160" cy="1278000"/>
        </p:xfrm>
        <a:graphic>
          <a:graphicData uri="http://schemas.openxmlformats.org/drawingml/2006/table">
            <a:tbl>
              <a:tblPr/>
              <a:tblGrid>
                <a:gridCol w="1154160"/>
              </a:tblGrid>
              <a:tr h="9064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New D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"/>
                        </a:rPr>
                        <a:t>Information Model and Schema for Symbol Registry</a:t>
                      </a:r>
                      <a:r>
                        <a:rPr b="1" lang="da-DK" sz="1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Dan Gleas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 flipH="1">
            <a:off x="3131640" y="2060640"/>
            <a:ext cx="71640" cy="288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4" name=""/>
          <p:cNvSpPr/>
          <p:nvPr/>
        </p:nvSpPr>
        <p:spPr>
          <a:xfrm>
            <a:off x="2700360" y="4437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5" name=""/>
          <p:cNvSpPr/>
          <p:nvPr/>
        </p:nvSpPr>
        <p:spPr>
          <a:xfrm>
            <a:off x="900000" y="3141720"/>
            <a:ext cx="0" cy="1224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835280" y="4724280"/>
          <a:ext cx="1512720" cy="1766880"/>
        </p:xfrm>
        <a:graphic>
          <a:graphicData uri="http://schemas.openxmlformats.org/drawingml/2006/table">
            <a:tbl>
              <a:tblPr/>
              <a:tblGrid>
                <a:gridCol w="1512720"/>
              </a:tblGrid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Outpu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1738800">
                <a:tc>
                  <a:txBody>
                    <a:bodyPr lIns="0" rIns="0" tIns="0" bIns="0" anchor="t">
                      <a:noAutofit/>
                    </a:bodyPr>
                    <a:p>
                      <a:pPr marL="380880" indent="-380880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9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 </a:t>
                      </a: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"/>
                        </a:rPr>
                        <a:t>An implemented prototype of the DGIWG Portrayal Registry, using GeoSym as the initial content of the Regist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 marL="380880" indent="-380880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"/>
                        </a:rPr>
                        <a:t> </a:t>
                      </a: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"/>
                        </a:rPr>
                        <a:t>Documented maintenance mod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 marL="380880" indent="-380880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3419640" y="5157720"/>
          <a:ext cx="1523880" cy="1485720"/>
        </p:xfrm>
        <a:graphic>
          <a:graphicData uri="http://schemas.openxmlformats.org/drawingml/2006/table">
            <a:tbl>
              <a:tblPr/>
              <a:tblGrid>
                <a:gridCol w="1523880"/>
              </a:tblGrid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Outpu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1272240">
                <a:tc>
                  <a:txBody>
                    <a:bodyPr lIns="0" rIns="0" tIns="0" bIns="0" anchor="t">
                      <a:noAutofit/>
                    </a:bodyPr>
                    <a:p>
                      <a:pPr marL="380880" indent="-380880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9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Develop Portrayal Catalogs and Portrayal Specifications for Mission Specific Data (MSD)</a:t>
                      </a:r>
                      <a:r>
                        <a:rPr b="1" lang="da-DK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5003640" y="5013360"/>
          <a:ext cx="1371600" cy="1599840"/>
        </p:xfrm>
        <a:graphic>
          <a:graphicData uri="http://schemas.openxmlformats.org/drawingml/2006/table">
            <a:tbl>
              <a:tblPr/>
              <a:tblGrid>
                <a:gridCol w="1371600"/>
              </a:tblGrid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Outpu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1523160">
                <a:tc>
                  <a:txBody>
                    <a:bodyPr lIns="0" rIns="0" tIns="0" bIns="0" anchor="t">
                      <a:noAutofit/>
                    </a:bodyPr>
                    <a:p>
                      <a:pPr marL="380880" indent="-380880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9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 </a:t>
                      </a:r>
                      <a:r>
                        <a:rPr b="1" lang="da-DK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P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ortrayal catalog and portrayal specifications for the portrayal of Mission Specific Data Level 3 on hardcopy media</a:t>
                      </a:r>
                      <a:r>
                        <a:rPr b="1" lang="da-DK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7885080" y="5013360"/>
          <a:ext cx="1116000" cy="1599840"/>
        </p:xfrm>
        <a:graphic>
          <a:graphicData uri="http://schemas.openxmlformats.org/drawingml/2006/table">
            <a:tbl>
              <a:tblPr/>
              <a:tblGrid>
                <a:gridCol w="1116000"/>
              </a:tblGrid>
              <a:tr h="2066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Outpu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1393200">
                <a:tc>
                  <a:txBody>
                    <a:bodyPr lIns="0" rIns="0" tIns="0" bIns="0" anchor="t">
                      <a:noAutofit/>
                    </a:bodyPr>
                    <a:p>
                      <a:pPr marL="380880" indent="-380880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9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 </a:t>
                      </a:r>
                      <a:r>
                        <a:rPr b="1" lang="da-DK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S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pecification for a portrayal service for DGIWG Portrayal Regist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sp>
        <p:nvSpPr>
          <p:cNvPr id="140" name=""/>
          <p:cNvSpPr/>
          <p:nvPr/>
        </p:nvSpPr>
        <p:spPr>
          <a:xfrm>
            <a:off x="4356000" y="2060640"/>
            <a:ext cx="792360" cy="649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1" name=""/>
          <p:cNvSpPr/>
          <p:nvPr/>
        </p:nvSpPr>
        <p:spPr>
          <a:xfrm>
            <a:off x="3924360" y="3357720"/>
            <a:ext cx="0" cy="1726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2" name=""/>
          <p:cNvSpPr/>
          <p:nvPr/>
        </p:nvSpPr>
        <p:spPr>
          <a:xfrm>
            <a:off x="7086600" y="4724280"/>
            <a:ext cx="648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3" name=""/>
          <p:cNvSpPr/>
          <p:nvPr/>
        </p:nvSpPr>
        <p:spPr>
          <a:xfrm>
            <a:off x="8388360" y="3573360"/>
            <a:ext cx="0" cy="129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4" name=""/>
          <p:cNvSpPr/>
          <p:nvPr/>
        </p:nvSpPr>
        <p:spPr>
          <a:xfrm>
            <a:off x="1403280" y="3141720"/>
            <a:ext cx="21600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6443640" y="5157720"/>
          <a:ext cx="1368360" cy="1485720"/>
        </p:xfrm>
        <a:graphic>
          <a:graphicData uri="http://schemas.openxmlformats.org/drawingml/2006/table">
            <a:tbl>
              <a:tblPr/>
              <a:tblGrid>
                <a:gridCol w="1368360"/>
              </a:tblGrid>
              <a:tr h="2016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Outpu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1284120">
                <a:tc>
                  <a:txBody>
                    <a:bodyPr lIns="0" rIns="0" tIns="0" bIns="0" anchor="t">
                      <a:noAutofit/>
                    </a:bodyPr>
                    <a:p>
                      <a:pPr marL="380880" indent="-380880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9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 </a:t>
                      </a:r>
                      <a:r>
                        <a:rPr b="1" lang="da-DK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Report defining a  recommended approach to future portrayal of EInt data in the RE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179280" y="4508640"/>
          <a:ext cx="1584360" cy="2101680"/>
        </p:xfrm>
        <a:graphic>
          <a:graphicData uri="http://schemas.openxmlformats.org/drawingml/2006/table">
            <a:tbl>
              <a:tblPr/>
              <a:tblGrid>
                <a:gridCol w="1584360"/>
              </a:tblGrid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Outpu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075040">
                <a:tc>
                  <a:txBody>
                    <a:bodyPr lIns="0" rIns="0" tIns="0" bIns="0" anchor="t">
                      <a:noAutofit/>
                    </a:bodyPr>
                    <a:p>
                      <a:pPr marL="380880" indent="-380880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 Unicode MS"/>
                          <a:ea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"/>
                        </a:rPr>
                        <a:t>Information model (UML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 marL="380880" indent="-380880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"/>
                        </a:rPr>
                        <a:t>Schema for prototype DGIWG Portrayal Regist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 marL="380880" indent="-380880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"/>
                        </a:rPr>
                        <a:t>Potential  recommendations  for changes or amendments to ISO 19117 and OGC portrayal-related specifications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 marL="380880" indent="-380880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5410080" y="1371600"/>
          <a:ext cx="1600200" cy="685800"/>
        </p:xfrm>
        <a:graphic>
          <a:graphicData uri="http://schemas.openxmlformats.org/drawingml/2006/table">
            <a:tbl>
              <a:tblPr/>
              <a:tblGrid>
                <a:gridCol w="1600200"/>
              </a:tblGrid>
              <a:tr h="5144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T0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Portrayal Roadma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13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Marlene Mey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3520" y="719280"/>
            <a:ext cx="70995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114800"/>
                <a:tab algn="l" pos="8229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Projects status</a:t>
            </a: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61722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 Unicode MS"/>
              </a:rPr>
              <a:t>D06. Development of an application schema. Amendment of 19117 Ongoing.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Progress: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SzPct val="8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Prototype schema - draft.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SzPct val="8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Review of proposed changes to ISO 19117.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-modelling of Feature Portrayal Catalogue.</a:t>
            </a:r>
            <a:endParaRPr b="0" lang="en-US" sz="1600" spc="-1" strike="noStrike">
              <a:solidFill>
                <a:srgbClr val="000000"/>
              </a:solidFill>
              <a:latin typeface="Univers Condensed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-modelling of Symbol Representation.</a:t>
            </a:r>
            <a:endParaRPr b="0" lang="en-US" sz="1600" spc="-1" strike="noStrike">
              <a:solidFill>
                <a:srgbClr val="000000"/>
              </a:solidFill>
              <a:latin typeface="Univers Condensed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 Unicode MS"/>
              </a:rPr>
              <a:t>D22. Implementation of DGIWG Registry. Ongoing.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 Unicode MS"/>
              </a:rPr>
              <a:t>Progress: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SzPct val="8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 Unicode MS"/>
              </a:rPr>
              <a:t>Formulation of UML use cases to develop architecture.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SzPct val="8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 Unicode MS"/>
              </a:rPr>
              <a:t>Presentation of prototype Register this week in Technical meeting.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 Unicode MS"/>
              </a:rPr>
              <a:t>T03</a:t>
            </a:r>
            <a:r>
              <a:rPr b="1" lang="en-AU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AU" sz="1800" spc="-1" strike="noStrike">
                <a:solidFill>
                  <a:srgbClr val="000000"/>
                </a:solidFill>
                <a:latin typeface="Arial Unicode MS"/>
              </a:rPr>
              <a:t>Portrayal Roadmap. Ongoing.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 Unicode MS"/>
              </a:rPr>
              <a:t>Progress: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SzPct val="8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 Unicode MS"/>
              </a:rPr>
              <a:t>Draft version – final version before next technical meetings.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3520" y="719280"/>
            <a:ext cx="70995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114800"/>
                <a:tab algn="l" pos="82296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 Unicode MS"/>
              </a:rPr>
              <a:t>Project status (continued)</a:t>
            </a: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1" name=""/>
          <p:cNvSpPr/>
          <p:nvPr/>
        </p:nvSpPr>
        <p:spPr>
          <a:xfrm>
            <a:off x="1066680" y="1447920"/>
            <a:ext cx="5410440" cy="40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S01   Portrayal Service. Starting up.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ill be addressed this week. Project lead to be confirmed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D14   Symbols for Mission Specific Data.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ot started, Resources required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D15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Prototype Symbols for Hardcopy Output of TLM.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ot started, Resources required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D23  </a:t>
            </a:r>
            <a:r>
              <a:rPr b="1" lang="da-DK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vestigate portrayal issues for Environmental Intelligence in the REP for GMWG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Finalized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Report will be presented this week at technical meeting.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3520" y="719280"/>
            <a:ext cx="70995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114800"/>
                <a:tab algn="l" pos="82296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 Unicode MS"/>
              </a:rPr>
              <a:t>Overview – architecture (draft)</a:t>
            </a: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3" name=""/>
          <p:cNvSpPr/>
          <p:nvPr/>
        </p:nvSpPr>
        <p:spPr>
          <a:xfrm>
            <a:off x="1828800" y="15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828800" y="1828800"/>
          <a:ext cx="5486400" cy="368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828800"/>
                    <a:ext cx="5486400" cy="36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1066680" y="548640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(D. Gleason 2006)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3520" y="719280"/>
            <a:ext cx="70995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114800"/>
                <a:tab algn="l" pos="82296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 Unicode MS"/>
              </a:rPr>
              <a:t>Use cases, example (D06)</a:t>
            </a: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8" name=""/>
          <p:cNvSpPr/>
          <p:nvPr/>
        </p:nvSpPr>
        <p:spPr>
          <a:xfrm>
            <a:off x="274320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59" name="scenario5" descr=""/>
          <p:cNvPicPr/>
          <p:nvPr/>
        </p:nvPicPr>
        <p:blipFill>
          <a:blip r:embed="rId1"/>
          <a:stretch/>
        </p:blipFill>
        <p:spPr>
          <a:xfrm>
            <a:off x="2438280" y="2362320"/>
            <a:ext cx="4953240" cy="37144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838080" y="1523880"/>
            <a:ext cx="7620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ommand and control situation multiple users of common data set, 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ifferent roles, and role based portrayal</a:t>
            </a: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9T11:14:47Z</dcterms:created>
  <dc:creator>M. Lind</dc:creator>
  <dc:description>Tilrettet d. 15-11-2000 af Kent Agerlund, Coretech ApS</dc:description>
  <dc:language>en-US</dc:language>
  <cp:lastModifiedBy>CFI</cp:lastModifiedBy>
  <dcterms:modified xsi:type="dcterms:W3CDTF">2006-04-24T09:10:35Z</dcterms:modified>
  <cp:revision>95</cp:revision>
  <dc:subject/>
  <dc:title>INSPIRE: Basisdata og sektordata</dc:title>
</cp:coreProperties>
</file>