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691-20E3-4DB5-977D-088009E8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9E9-DB64-4BAE-A4C7-E5574790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CE8-8B59-4386-9F64-8A37E62D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83D-B694-4F68-AD79-8CDF9CD9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9B13-0C30-42DE-BB3A-BDF4DA45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3B2A-9E85-47B3-BF0B-25AE6F0D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ECAD-6375-4F61-8C57-7FBF5D99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84EF-24AD-4D89-BBEC-6B41F973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5B50-BC0C-4C90-8777-9110E2D0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E92F-81E5-4531-AE3E-BBDC8900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99C3-E20C-4B87-9814-2A822FD6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77E-E9D7-42D7-9D8A-95FD1947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1CDC-CC89-4312-BB1B-0F7F3500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12CC-780E-4CF0-A684-C7996DC0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CE8E-517A-49A3-904F-1D8BC91F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A24A-A819-4A98-86EC-7B26BC66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2C04-DBCF-4CE1-B41F-C9D93585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50A-2A78-4891-845A-55FC12ED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307-B36B-4D17-B790-B0CD34DB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0B6-6F44-4FE3-A377-ABDF0263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107-9616-4752-9E4E-D99D4A10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49E-3F48-4D7D-B28C-2623E136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FE6-9DAB-4008-9F4F-C951682E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1AA-0C2F-4800-B4CA-5DD3D227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GIWG Conference 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0EFE-05B2-4A04-9C61-5B2D397E9868}" type="slidenum">
              <a:rPr b="0" lang="de-DE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DGIWG_geospatial_logo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4320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5699-435A-47E7-9BD1-2675BC745DFC}" type="slidenum">
              <a:rPr b="0" lang="de-DE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ogress DATP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01 – Data product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02 – Compli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03   -  Data Exchange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04   -  Reference Feature Catalogue Register(s)</a:t>
            </a:r>
            <a:br>
              <a:rPr sz="2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05 – GML profi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50840" y="5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5000" y="36036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GIWG Technical Meeting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DGIWG_geospatial_logo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432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A05 – GML prof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ment study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us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ossible input for requirement analysi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ATO GML Profile (gmlNATOCoreGI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GCP application sch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GIWG/TSMAD Pro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HO IHO-S57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GML Pro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egacy products (VMap Level 0, 1,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utcome of OGC OWS-2 &amp; OWS-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A05 – GML prof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msterdam agen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essons-learned from the development of the of the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MGCP GML application sch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roposal: DGIWG GML profiles according to the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GIWG/TSMAD Profile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Profiles of ISO 1910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T is looking for contact with the DGIWG/TSMAD Profile development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ATO GML Pro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o the proposed DGIWG profiles suite the requirements of NA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A05 – GML prof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977760" y="1752480"/>
            <a:ext cx="167652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GC:GM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06560" y="1752480"/>
            <a:ext cx="281952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07640" y="1779480"/>
            <a:ext cx="14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GC:G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59200" y="2286000"/>
            <a:ext cx="1752480" cy="4572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GC:SF_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82880" y="2209680"/>
            <a:ext cx="2666880" cy="1067040"/>
            <a:chOff x="2882880" y="2209680"/>
            <a:chExt cx="2666880" cy="1067040"/>
          </a:xfrm>
        </p:grpSpPr>
        <p:sp>
          <p:nvSpPr>
            <p:cNvPr id="118" name=""/>
            <p:cNvSpPr/>
            <p:nvPr/>
          </p:nvSpPr>
          <p:spPr>
            <a:xfrm>
              <a:off x="2882880" y="2209680"/>
              <a:ext cx="2666880" cy="1067040"/>
            </a:xfrm>
            <a:prstGeom prst="rect">
              <a:avLst/>
            </a:prstGeom>
            <a:noFill/>
            <a:ln cap="rnd" w="38160">
              <a:solidFill>
                <a:srgbClr val="3b812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83960" y="2819520"/>
              <a:ext cx="25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GIWG:DGIWG_pro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007880" y="3357720"/>
            <a:ext cx="3680280" cy="1218600"/>
            <a:chOff x="4007880" y="3357720"/>
            <a:chExt cx="3680280" cy="1218600"/>
          </a:xfrm>
        </p:grpSpPr>
        <p:grpSp>
          <p:nvGrpSpPr>
            <p:cNvPr id="121" name=""/>
            <p:cNvGrpSpPr/>
            <p:nvPr/>
          </p:nvGrpSpPr>
          <p:grpSpPr>
            <a:xfrm>
              <a:off x="4007880" y="4119480"/>
              <a:ext cx="3680280" cy="456840"/>
              <a:chOff x="4007880" y="4119480"/>
              <a:chExt cx="3680280" cy="456840"/>
            </a:xfrm>
          </p:grpSpPr>
          <p:sp>
            <p:nvSpPr>
              <p:cNvPr id="122" name=""/>
              <p:cNvSpPr/>
              <p:nvPr/>
            </p:nvSpPr>
            <p:spPr>
              <a:xfrm>
                <a:off x="4030560" y="4119480"/>
                <a:ext cx="3657600" cy="45684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07880" y="4167000"/>
                <a:ext cx="366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MGCP:MGCP_applicationSche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402160" y="3357720"/>
              <a:ext cx="0" cy="68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013640" y="4611600"/>
            <a:ext cx="2207520" cy="951120"/>
            <a:chOff x="4013640" y="4611600"/>
            <a:chExt cx="2207520" cy="951120"/>
          </a:xfrm>
        </p:grpSpPr>
        <p:grpSp>
          <p:nvGrpSpPr>
            <p:cNvPr id="126" name=""/>
            <p:cNvGrpSpPr/>
            <p:nvPr/>
          </p:nvGrpSpPr>
          <p:grpSpPr>
            <a:xfrm>
              <a:off x="4013640" y="5105520"/>
              <a:ext cx="2207520" cy="457200"/>
              <a:chOff x="4013640" y="5105520"/>
              <a:chExt cx="2207520" cy="457200"/>
            </a:xfrm>
          </p:grpSpPr>
          <p:sp>
            <p:nvSpPr>
              <p:cNvPr id="127" name=""/>
              <p:cNvSpPr/>
              <p:nvPr/>
            </p:nvSpPr>
            <p:spPr>
              <a:xfrm>
                <a:off x="4038480" y="5105520"/>
                <a:ext cx="2182680" cy="45720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13640" y="5153040"/>
                <a:ext cx="218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MGCP:MGCP_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410080" y="4611600"/>
              <a:ext cx="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339960" y="3124080"/>
            <a:ext cx="2477520" cy="914400"/>
            <a:chOff x="6339960" y="3124080"/>
            <a:chExt cx="2477520" cy="914400"/>
          </a:xfrm>
        </p:grpSpPr>
        <p:grpSp>
          <p:nvGrpSpPr>
            <p:cNvPr id="131" name=""/>
            <p:cNvGrpSpPr/>
            <p:nvPr/>
          </p:nvGrpSpPr>
          <p:grpSpPr>
            <a:xfrm>
              <a:off x="6339960" y="3124080"/>
              <a:ext cx="2477520" cy="457200"/>
              <a:chOff x="6339960" y="3124080"/>
              <a:chExt cx="2477520" cy="457200"/>
            </a:xfrm>
          </p:grpSpPr>
          <p:sp>
            <p:nvSpPr>
              <p:cNvPr id="132" name=""/>
              <p:cNvSpPr/>
              <p:nvPr/>
            </p:nvSpPr>
            <p:spPr>
              <a:xfrm>
                <a:off x="6355440" y="3124080"/>
                <a:ext cx="2447640" cy="45720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339960" y="3171960"/>
                <a:ext cx="247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MGCP:MGCP_catalo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>
              <a:off x="6489720" y="3657600"/>
              <a:ext cx="53352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43720" y="3357720"/>
            <a:ext cx="3680640" cy="1218960"/>
            <a:chOff x="243720" y="3357720"/>
            <a:chExt cx="3680640" cy="1218960"/>
          </a:xfrm>
        </p:grpSpPr>
        <p:grpSp>
          <p:nvGrpSpPr>
            <p:cNvPr id="136" name=""/>
            <p:cNvGrpSpPr/>
            <p:nvPr/>
          </p:nvGrpSpPr>
          <p:grpSpPr>
            <a:xfrm>
              <a:off x="243720" y="4119480"/>
              <a:ext cx="3680640" cy="457200"/>
              <a:chOff x="243720" y="4119480"/>
              <a:chExt cx="3680640" cy="457200"/>
            </a:xfrm>
          </p:grpSpPr>
          <p:sp>
            <p:nvSpPr>
              <p:cNvPr id="137" name=""/>
              <p:cNvSpPr/>
              <p:nvPr/>
            </p:nvSpPr>
            <p:spPr>
              <a:xfrm>
                <a:off x="266760" y="4119480"/>
                <a:ext cx="3657600" cy="45720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3720" y="4167360"/>
                <a:ext cx="365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DGIWG:legacyApplicationSche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419640" y="335772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80120" y="4611600"/>
            <a:ext cx="2207520" cy="951120"/>
            <a:chOff x="780120" y="4611600"/>
            <a:chExt cx="2207520" cy="951120"/>
          </a:xfrm>
        </p:grpSpPr>
        <p:grpSp>
          <p:nvGrpSpPr>
            <p:cNvPr id="141" name=""/>
            <p:cNvGrpSpPr/>
            <p:nvPr/>
          </p:nvGrpSpPr>
          <p:grpSpPr>
            <a:xfrm>
              <a:off x="780120" y="5105520"/>
              <a:ext cx="2207520" cy="457200"/>
              <a:chOff x="780120" y="5105520"/>
              <a:chExt cx="2207520" cy="457200"/>
            </a:xfrm>
          </p:grpSpPr>
          <p:sp>
            <p:nvSpPr>
              <p:cNvPr id="142" name=""/>
              <p:cNvSpPr/>
              <p:nvPr/>
            </p:nvSpPr>
            <p:spPr>
              <a:xfrm>
                <a:off x="804960" y="5105520"/>
                <a:ext cx="2182680" cy="45720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0120" y="5153040"/>
                <a:ext cx="218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DGIWG:legacy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176560" y="4611600"/>
              <a:ext cx="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780160" y="1757520"/>
            <a:ext cx="3348000" cy="45720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GIWG/TSMAD:Profile 19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01 – Data product specif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eliverab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escriptive profile of ISO 191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egister content model for register of data product specif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A01 – Data product specif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eliverable 1: Descriptive profile of ISO 1913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raft was completed right aft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pindleruv Mly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ctions sinc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pindleruv Mly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lear identification of parts adopted from ISO 1913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put from team members for WD 2.3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comments from France, Swe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eed of UML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diting committee meeting in Amsterdam to resolve comm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pletion of final draft in May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A01 – Data product specif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eliverable 2: Content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ntent of a register for data product specifications already defined in deliverable 1 (metadata of the data product specific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put needed about existing document registers of DGIW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gister content model will be included as annex of the profile (deliverable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A01 – Data product specif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Further 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mplementation of register !?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A02 – Compliance tes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eliverab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GIWG Standard for Product Specification Based Compliance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est model and test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est configuration management p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pository of testing 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A02 – Compliance tes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eliverable 1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GIWG standard compliance testing 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WD 2.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hort revision i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PINDLERUV MLY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S updated (Feb 200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eliverabl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est model and test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odel and simulation are available on the SiteScapeForum (Test and Evaluation Softwa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S updated (Feb 200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A02 – Compliance tes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eliverable 3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est configuration management p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ccording to industry standard configuration management processes ISO/IEC 122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d in the standard (Deliverable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eliverable 4 -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pository of testing material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ermanent repository is maintained on the DGIWG SiteScapeForum, backup at the JI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pository in accordance with the software configuration management plan (SCM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A05 – GML prof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Project proposed at the DGIWG conference April 2005 in Madr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1st PT meeting held in Spindleruv Mly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rticipants from 9 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ment study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WD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6-02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les for restriction of the GML base standard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WD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6-02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GIWG GML Profil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WD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6-04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9:50:33Z</dcterms:created>
  <dc:creator>AGIS</dc:creator>
  <dc:description/>
  <dc:language>en-US</dc:language>
  <cp:lastModifiedBy>reisen</cp:lastModifiedBy>
  <dcterms:modified xsi:type="dcterms:W3CDTF">2006-04-24T08:58:31Z</dcterms:modified>
  <cp:revision>63</cp:revision>
  <dc:subject/>
  <dc:title>Summary DATP</dc:title>
</cp:coreProperties>
</file>