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4188960" y="426960"/>
            <a:ext cx="26082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80800" y="798480"/>
            <a:ext cx="463716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4"/>
          </p:nvPr>
        </p:nvSpPr>
        <p:spPr>
          <a:xfrm>
            <a:off x="-360" y="8694720"/>
            <a:ext cx="2055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5"/>
          </p:nvPr>
        </p:nvSpPr>
        <p:spPr>
          <a:xfrm>
            <a:off x="5425920" y="8694720"/>
            <a:ext cx="1371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0BD0-26CC-42EA-B16F-0EB764C4EE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520" y="426960"/>
            <a:ext cx="28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GIWG Report to 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13000" y="71280"/>
            <a:ext cx="23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3000" y="8866080"/>
            <a:ext cx="23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80028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48960" y="4489560"/>
            <a:ext cx="512748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80028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48960" y="4489560"/>
            <a:ext cx="512748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80028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8960" y="4489560"/>
            <a:ext cx="512748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C386-DF1F-4AB1-8980-30FB3187B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909D-9409-4C47-94C5-77825A391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946E-341C-49DF-8062-383B2E6A9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40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69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6B9C-3F03-49A5-B353-46F818D59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6D2-38FE-42C8-91E6-3AA473A076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C03-90F0-4DD1-84D6-131BC5EFE2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ED9-EF2D-42B6-9AC4-8F1EBF05EB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512-1CBD-4A7D-9065-0F3E278E45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D80-7A8C-4AED-A43A-DE36E0BC26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99840" y="76212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61F-ACD0-4F22-B35B-A87C5FE20E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DE7-3D41-4F52-AC45-F0096BBB0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811D-7079-4A89-8167-41282A8BE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618-7F4A-434C-A325-72073808FA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C30-4BE8-4914-9EFD-F7A69B5167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2D9-9781-410F-B7F7-6C531050A1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A9E-B970-4FFB-BA52-43160FD9F7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7A7-2946-4CA3-B3E2-651EF6D71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777E-F01E-4BF3-815B-90B93449B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3459-0A98-463C-96CB-3E09B0E75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A164-D6BF-4F59-B4A7-7CBCE0437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99840" y="76212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0AA9-903A-442F-AEA3-6203C7D0D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85D7-0ECB-4CD2-967E-B712A1C99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BCC0-E6BA-4188-9983-E51B35F3A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D20A-BEAB-490C-92B5-0CE27BC86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249B-8861-4D66-A403-B05D69718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33920" y="4419720"/>
            <a:ext cx="285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00200" y="22860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Digital Geospatial Information Working Group (DGIW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638680" y="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DGIWG_geospatial_logo" descr=""/>
          <p:cNvPicPr/>
          <p:nvPr/>
        </p:nvPicPr>
        <p:blipFill>
          <a:blip r:embed="rId2"/>
          <a:stretch/>
        </p:blipFill>
        <p:spPr>
          <a:xfrm>
            <a:off x="0" y="0"/>
            <a:ext cx="1601640" cy="16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1F74-E6C0-4A8A-AB89-09239E3AA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419720"/>
            <a:ext cx="285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1522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GIWG_geospatial_logo" descr=""/>
          <p:cNvPicPr/>
          <p:nvPr/>
        </p:nvPicPr>
        <p:blipFill>
          <a:blip r:embed="rId2"/>
          <a:stretch/>
        </p:blipFill>
        <p:spPr>
          <a:xfrm>
            <a:off x="1908000" y="692280"/>
            <a:ext cx="5131080" cy="513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sotc211.org/Resolutions/resolutn.htm#Slide 155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0C10-8010-44B3-BF24-2B875390F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national Organization for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andardization Technical Committee 211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Geographic information/Geomatics)</a:t>
            </a:r>
            <a:br>
              <a:rPr sz="32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000"/>
            </a:b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24-25 April, 2006</a:t>
            </a:r>
            <a:br>
              <a:rPr sz="2000"/>
            </a:b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DGIWG Conference </a:t>
            </a:r>
            <a:br>
              <a:rPr sz="2000"/>
            </a:b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Amsterdam, NL</a:t>
            </a:r>
            <a:br>
              <a:rPr sz="2000"/>
            </a:br>
            <a:br>
              <a:rPr sz="24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aison representation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/TC 211 representative to DGI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erhard Joos (DE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bert Kuffel (USA/NGA) Resolution 334, 2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le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GIWG rep to ISO/TC 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ke Harbaugh (USA/N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colas Lesage (FRA/IG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F266-BFA6-4DE6-8BA2-8A52F8F06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C 211 Ballots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6-04-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echnical Specification 19101-2 Geographic information - Reference model - Part 2: Imag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6-05-0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ext for final CD 19141, Geographic information - Schema for moving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ext for submission as D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6-05-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raft New Work Item Proposal (NWIP): ISO 19110:2005, Geographic information - Methodology for feature cataloguing, Amendm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ocument is not for voting, but a one month review in accordance with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solution 15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6-06-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quirements for a registry and corresponding registration authority for ISO/TS 19127, Geographic information - Geodetic codes and paramet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6-06-1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WIP: Revision of ISO 19118:2005: Geographic information – En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6-07-1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 19132 Geographic information - Location Based Services - Reference model Vote from NBs directly to the ISO Central Secretari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6D51-1D32-4211-BD05-6EC9459D15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GIWG Contribution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e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iting Committee for ISO 19101-2 (Reference model – image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onique Lemaire (F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iting Committee for ISO 19115-2 (Metadata-extensions for image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colas Lesage (F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 NWIP: ISO 19110: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e Danko (OGC Project L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colas Lesage (FRA Edi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WIP: ISO 19126 (Registries for Data Dictionaries) (to be submit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les Roswell (USA Project L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 19129 (Framework for Imagery, Gridded and Coverage 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nts submitted to DIS 19136 (GML) 2006-04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-hoc discussions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ISO 19117 (Portray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ach and results of DGIWG Portrayal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ISO 19131 (Product Spec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be deficient in the area of imagery and coverag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4CD1-7784-4D11-9D20-DE59AA6331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764640"/>
            <a:ext cx="7010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O/IEC JTC 1/SC 24 – ISO/TC 211 task forc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2240" cy="40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ress progam/project interest between the two commun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ign work, concept, and approaches where practi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llaborate and reduce redundancies between two 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479F-AE70-4B2F-81F1-F1804AB495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837720"/>
            <a:ext cx="7010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SO/TC 211 meeting schedul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2240" cy="40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2nd plenary 2006-05-25/26 Orlando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3rd plenary 2006-11-14/15 Riyadh, Saudi Ara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4th plenary 2007-05-24/25 (dates to be confirmed) Rome,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3A01-15D0-46AF-97E2-C4912D28CA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2240" cy="40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r further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(Mike) Harba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 DS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baughm@nga.m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1-314-263-4567 ext 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12EE-E2E7-4026-9D0C-93D0C9268D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4:39:32Z</dcterms:created>
  <dc:creator/>
  <dc:description/>
  <cp:keywords>DGIWG NGC NPfPGC 2003 Presentation Report</cp:keywords>
  <dc:language>en-US</dc:language>
  <cp:lastModifiedBy>CDO'Brien</cp:lastModifiedBy>
  <cp:lastPrinted>2004-06-11T12:32:46Z</cp:lastPrinted>
  <dcterms:modified xsi:type="dcterms:W3CDTF">2006-04-25T08:48:33Z</dcterms:modified>
  <cp:revision>271</cp:revision>
  <dc:subject/>
  <dc:title>DGIWG Presentation to NATO &amp; Partnership for Peace Geographic Conference 2003 - Item 13</dc:title>
</cp:coreProperties>
</file>