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E809-8B6F-4C3C-B4FF-536950102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7570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3BD6-1C71-42A6-A3C2-ACBD4F72B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943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36560" y="1599840"/>
            <a:ext cx="36943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36943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336560" y="3872160"/>
            <a:ext cx="36943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5F41-7C82-4DEA-B74E-7C029378A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437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7160" y="1599840"/>
            <a:ext cx="2437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576760" y="1599840"/>
            <a:ext cx="2437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437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017160" y="3872160"/>
            <a:ext cx="2437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576760" y="3872160"/>
            <a:ext cx="2437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6F24-332B-41D0-9CC1-9FFAAD3528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7570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967B-EF6B-4367-8450-8C05BF1F7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2666-718C-4133-902C-54B35D815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943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6560" y="1599840"/>
            <a:ext cx="36943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A296-E89E-4BF8-8530-A0C87BED6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1514-6058-4D06-BEC2-201654839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28480" y="0"/>
            <a:ext cx="74995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0181-868F-40DE-A6D1-0EF0ED6DB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943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36560" y="1599840"/>
            <a:ext cx="36943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36943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9A75-84DD-4097-B7A4-D8FFC0953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943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36560" y="1599840"/>
            <a:ext cx="36943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336560" y="3872160"/>
            <a:ext cx="36943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9512-7264-4FA4-B690-319D15CA1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943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36560" y="1599840"/>
            <a:ext cx="36943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7570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EB60-839B-4151-98AB-76C80DAC1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27320"/>
            <a:ext cx="9144000" cy="5530680"/>
          </a:xfrm>
          <a:prstGeom prst="rect">
            <a:avLst/>
          </a:prstGeom>
          <a:solidFill>
            <a:srgbClr val="e1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336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16600" y="3551400"/>
            <a:ext cx="4852800" cy="4010040"/>
          </a:xfrm>
          <a:custGeom>
            <a:avLst/>
            <a:gdLst/>
            <a:ahLst/>
            <a:rect l="l" t="t" r="r" b="b"/>
            <a:pathLst>
              <a:path w="3057" h="2526">
                <a:moveTo>
                  <a:pt x="2646" y="50"/>
                </a:moveTo>
                <a:cubicBezTo>
                  <a:pt x="2623" y="296"/>
                  <a:pt x="2601" y="543"/>
                  <a:pt x="2542" y="741"/>
                </a:cubicBezTo>
                <a:cubicBezTo>
                  <a:pt x="2483" y="939"/>
                  <a:pt x="2385" y="1101"/>
                  <a:pt x="2295" y="1240"/>
                </a:cubicBezTo>
                <a:cubicBezTo>
                  <a:pt x="2205" y="1379"/>
                  <a:pt x="2101" y="1480"/>
                  <a:pt x="1999" y="1575"/>
                </a:cubicBezTo>
                <a:cubicBezTo>
                  <a:pt x="1897" y="1670"/>
                  <a:pt x="1778" y="1751"/>
                  <a:pt x="1686" y="1810"/>
                </a:cubicBezTo>
                <a:cubicBezTo>
                  <a:pt x="1594" y="1869"/>
                  <a:pt x="1537" y="1894"/>
                  <a:pt x="1445" y="1931"/>
                </a:cubicBezTo>
                <a:cubicBezTo>
                  <a:pt x="1353" y="1968"/>
                  <a:pt x="1242" y="2009"/>
                  <a:pt x="1132" y="2035"/>
                </a:cubicBezTo>
                <a:cubicBezTo>
                  <a:pt x="1022" y="2061"/>
                  <a:pt x="909" y="2076"/>
                  <a:pt x="786" y="2090"/>
                </a:cubicBezTo>
                <a:cubicBezTo>
                  <a:pt x="663" y="2104"/>
                  <a:pt x="459" y="2103"/>
                  <a:pt x="391" y="2118"/>
                </a:cubicBezTo>
                <a:cubicBezTo>
                  <a:pt x="323" y="2133"/>
                  <a:pt x="0" y="2176"/>
                  <a:pt x="380" y="2183"/>
                </a:cubicBezTo>
                <a:cubicBezTo>
                  <a:pt x="760" y="2190"/>
                  <a:pt x="2289" y="2526"/>
                  <a:pt x="2673" y="2162"/>
                </a:cubicBezTo>
                <a:cubicBezTo>
                  <a:pt x="3057" y="1798"/>
                  <a:pt x="2870" y="899"/>
                  <a:pt x="2684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24680" y="6114960"/>
            <a:ext cx="695520" cy="6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570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7942320" y="0"/>
            <a:ext cx="1201680" cy="182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9680"/>
            <a:ext cx="9144000" cy="1192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335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9150480" y="12600"/>
            <a:ext cx="183960" cy="6926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858000"/>
            <a:ext cx="9387000" cy="32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902280"/>
            <a:ext cx="9387000" cy="519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188280" y="-152280"/>
            <a:ext cx="879480" cy="7397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50400" y="65592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A21E-A601-4623-A322-4A2DD34E74AE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75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98960" y="3208320"/>
            <a:ext cx="4971960" cy="4249800"/>
          </a:xfrm>
          <a:custGeom>
            <a:avLst/>
            <a:gdLst/>
            <a:ahLst/>
            <a:rect l="l" t="t" r="r" b="b"/>
            <a:pathLst>
              <a:path w="3132" h="2677">
                <a:moveTo>
                  <a:pt x="2657" y="50"/>
                </a:moveTo>
                <a:cubicBezTo>
                  <a:pt x="2634" y="296"/>
                  <a:pt x="2612" y="543"/>
                  <a:pt x="2553" y="741"/>
                </a:cubicBezTo>
                <a:cubicBezTo>
                  <a:pt x="2494" y="939"/>
                  <a:pt x="2396" y="1101"/>
                  <a:pt x="2306" y="1240"/>
                </a:cubicBezTo>
                <a:cubicBezTo>
                  <a:pt x="2216" y="1379"/>
                  <a:pt x="2112" y="1480"/>
                  <a:pt x="2010" y="1575"/>
                </a:cubicBezTo>
                <a:cubicBezTo>
                  <a:pt x="1908" y="1670"/>
                  <a:pt x="1789" y="1751"/>
                  <a:pt x="1697" y="1810"/>
                </a:cubicBezTo>
                <a:cubicBezTo>
                  <a:pt x="1605" y="1869"/>
                  <a:pt x="1548" y="1894"/>
                  <a:pt x="1456" y="1931"/>
                </a:cubicBezTo>
                <a:cubicBezTo>
                  <a:pt x="1364" y="1968"/>
                  <a:pt x="1253" y="2009"/>
                  <a:pt x="1143" y="2035"/>
                </a:cubicBezTo>
                <a:cubicBezTo>
                  <a:pt x="1033" y="2061"/>
                  <a:pt x="920" y="2076"/>
                  <a:pt x="797" y="2090"/>
                </a:cubicBezTo>
                <a:cubicBezTo>
                  <a:pt x="674" y="2104"/>
                  <a:pt x="470" y="2103"/>
                  <a:pt x="402" y="2118"/>
                </a:cubicBezTo>
                <a:cubicBezTo>
                  <a:pt x="334" y="2133"/>
                  <a:pt x="0" y="2151"/>
                  <a:pt x="391" y="2183"/>
                </a:cubicBezTo>
                <a:cubicBezTo>
                  <a:pt x="782" y="2215"/>
                  <a:pt x="2364" y="2677"/>
                  <a:pt x="2748" y="2313"/>
                </a:cubicBezTo>
                <a:cubicBezTo>
                  <a:pt x="3132" y="1949"/>
                  <a:pt x="2706" y="482"/>
                  <a:pt x="2695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42320" y="0"/>
            <a:ext cx="1201680" cy="182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9680"/>
            <a:ext cx="9144000" cy="2658960"/>
          </a:xfrm>
          <a:prstGeom prst="rect">
            <a:avLst/>
          </a:prstGeom>
          <a:solidFill>
            <a:srgbClr val="008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8018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499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GIWG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vantGarde Bk BT"/>
              </a:rPr>
              <a:t>EUROCONTROL Presentation to DGIWG Plenary meeting April 2006 - Amsterda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3633840"/>
            <a:ext cx="62355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vantGarde Bk BT"/>
              </a:rPr>
              <a:t>Presented by:</a:t>
            </a:r>
            <a:br>
              <a:rPr sz="12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vantGarde Bk BT"/>
              </a:rPr>
              <a:t>Ken Reid</a:t>
            </a:r>
            <a:br>
              <a:rPr sz="1600"/>
            </a:br>
            <a:r>
              <a:rPr b="0" i="1" lang="en-US" sz="1200" spc="-1" strike="noStrike">
                <a:solidFill>
                  <a:srgbClr val="ffffff"/>
                </a:solidFill>
                <a:latin typeface="AvantGarde Bk BT"/>
              </a:rPr>
              <a:t> Head of AE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05480" y="6551640"/>
            <a:ext cx="409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European Organisation for the Safety of Air Nav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924680" y="6114960"/>
            <a:ext cx="695520" cy="695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50480" y="12600"/>
            <a:ext cx="183960" cy="6926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858000"/>
            <a:ext cx="9387000" cy="32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902280"/>
            <a:ext cx="9387000" cy="519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88280" y="-152280"/>
            <a:ext cx="879480" cy="7397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CB5D-09B6-460C-8698-A657129DD7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IXM V5.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rrain &amp; Obstruction 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FR Standardisation Stud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grity Mand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IM Strate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lobal AIS Cong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5F3F-80BF-4E52-859B-CEAA8B79E9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XMV5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IXM V5.0 joint development by Eurocontrol &amp; FA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nded as the “GLOBAL” mod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ffers from present version in terms of scope &amp; content &amp; change from XML to GM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 is ongo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ue for publication in Novemb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ing reviewed by AIHW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ch consideration being given to how to “Manage” global evolu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posal to the Global AIS Congress in Jun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C9FF-40D7-4032-A83C-F1C5371F11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ain &amp; Obstructio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mdt 33 to ICAO Annex 15 introduced requirements for terrain &amp; obstruction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ranslation from EUROCAE/RTCA materi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ased on 4 areas of a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roblem is that NO European State knows how to do this (&amp; this true for ROW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uropean States have asked Eurocontrol to take lea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ask force established, meets for the first time 23 May in Pollu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ll welcome to atte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71B0-63FA-4E22-B3BB-5A2F4831CD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FR Standardisatio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948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keholders agree common standardisation of VFR publications would be beneficial &amp; requested Eurocontrol to stud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‘Standard for VFR Publication’ study (to last 4 months) shall help define the possible aims of such standardisation as well as its scop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dentify WHO are the stakehold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dentify applicable SARP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velopment of a common VFR AIP specification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scription of VFR information in the Aeronautical Information Exchange Model (AIXM) and the eAIP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fine data requirements for VFR charts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fine specific VFR regulations such as: transponder, use of GPS, border crossing, etc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d identify  their location in different current AIP sections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5B65-F55D-4C13-9959-F68BE21709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ity Man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C have identified data integrity as essential for AT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ated Eurocontrol to prepare proposals for reg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 options propos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d-to-end proc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rom origination to public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armonise the data structu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on 2 preferr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shop in 3 May in Eurocontr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6BE8-D190-43C3-9BF7-6AFE008D6C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IM Strategy published in 2000 ECAC poli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vised version (V2) endorsed by AIS Team in Mar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w started formal approval proc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ll be on web site short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FFE0-289A-4EBD-B2EB-7B404688C1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 AIS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alacio de Congresos, Madr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When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27-2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June 2006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Who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ll AIS Stakehold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Why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o bring together the global AIS Community to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gree the need for chan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dentify what are the key need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cope a (high level) road map for chan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Organisation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Global Consortiu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Facilitation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Eurocontrol supported by AEN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rogress to da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stra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untries represent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ost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Free!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E826-906F-4B6F-89AE-76181CC53A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708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34800" y="1517760"/>
            <a:ext cx="7682040" cy="4651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528480" y="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 AIS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D119-57E7-49C5-BE3A-74C0B33BB0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3:41:59Z</dcterms:created>
  <dc:creator>CELIS Seppe (HBRUPM35X - scelis)</dc:creator>
  <dc:description/>
  <dc:language>en-US</dc:language>
  <cp:lastModifiedBy>RYNDERS Sylvie (HBRUWK20K - srynders)</cp:lastModifiedBy>
  <dcterms:modified xsi:type="dcterms:W3CDTF">2006-04-24T14:09:39Z</dcterms:modified>
  <cp:revision>62</cp:revision>
  <dc:subject/>
  <dc:title>Slide 1</dc:title>
</cp:coreProperties>
</file>