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4687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5DB8-E4EE-4DF3-A75A-78328721F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41407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7252-79E4-408A-B671-14EEE8790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168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30A0-69F5-48B0-9E82-03FCCFEB0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40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692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40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692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9269-1027-40ED-B9CA-4C659992D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01C-0C74-4710-86E2-70E98DEF88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28A-D112-4755-9F8D-9DAB81C837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AB1-2784-4A2D-B69C-D0C7241E58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D9B-25B4-4127-A532-3F9DDA4AB8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992-CA19-4CE6-B2E0-C97887E876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99840" y="76212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44B-C7EA-4B18-A91E-24DD966A3B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72D-26AB-405B-B495-63D46299E7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4BDE-3334-44C2-BEEA-298452E7D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814-EEA2-4CAB-B601-356D48F2E0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163-F172-4773-96B7-AEE9D73D5D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41407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96F-972A-498C-9FE7-32E4F990D4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56D-1375-4BA8-AFB9-86426BCA62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7524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41407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4F2-3CA9-4FF0-8614-00287E911B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A7AB-ADE4-4E0B-A400-1EFA659A8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86AD-99D3-49A8-9003-16C9BAAA7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E661-30CC-4D76-B567-485299472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99840" y="76212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11C7-B5FE-4221-9DDD-8AB518C93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A15D-3A87-431D-9E26-D7A43789E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1680" y="41407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7452-7F76-4F68-9009-2283E9661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41407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8913-C171-4261-AFFD-4037138AE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F65F-BCBB-46FA-86A7-DA91C1C2E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733920" y="4419720"/>
            <a:ext cx="285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00200" y="228600"/>
            <a:ext cx="701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Digital Geospatial Information Working Group (DGIWG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638680" y="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DGIWG_geospatial_logo" descr=""/>
          <p:cNvPicPr/>
          <p:nvPr/>
        </p:nvPicPr>
        <p:blipFill>
          <a:blip r:embed="rId2"/>
          <a:stretch/>
        </p:blipFill>
        <p:spPr>
          <a:xfrm>
            <a:off x="0" y="0"/>
            <a:ext cx="1601640" cy="16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AE40-7686-4AD6-84C0-AE6A5A5C7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419720"/>
            <a:ext cx="285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1522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GIWG_geospatial_logo" descr=""/>
          <p:cNvPicPr/>
          <p:nvPr/>
        </p:nvPicPr>
        <p:blipFill>
          <a:blip r:embed="rId2"/>
          <a:stretch/>
        </p:blipFill>
        <p:spPr>
          <a:xfrm>
            <a:off x="1908000" y="692280"/>
            <a:ext cx="5131080" cy="5130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8163-7AD8-40A2-9EE0-DB4C78687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eronautical Information Harmonization Working Group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IHWG)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189000"/>
            <a:ext cx="19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38840" y="3821040"/>
            <a:ext cx="28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DGIWG Conference</a:t>
            </a:r>
            <a:br>
              <a:rPr sz="2400"/>
            </a:b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24-25 April, 2006</a:t>
            </a:r>
            <a:br>
              <a:rPr sz="2400"/>
            </a:b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msterdam, N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roduction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HWG sub-group formed at FAD PT in Februar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objective:  Establish aeronautical content of the DGIWG Feature Data Dictio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ing barriers to interoperability across all legacy aeronautical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llow-on to DGIWG Project D18 “Fundamental Review of Feature and Attribute Dat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03A1-7DA4-4815-A55D-549FA4C8B9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oup Make-up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964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GIWG – aeronautical subject matter expe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Civil Aviation Organization - IC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O (need representative P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Organization for Safety of Navigation - EURO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Government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Chair – Jeff Bell - NGA - Center for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AA7B-6E0E-4C0B-8581-0D74C20C0A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liverable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31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aeronautical content of DGIWG Feature Data Dictionar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pproximately 75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rodromes, Heliports, Airspace, Waypoints, Navigation Aids, Organizations, Services, Procedur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metries – Leverage work from AIXM Work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monize common content model with cross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, Services, Navigation Aids. – Hydro/To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Aeronautical Metadata Profile for the DF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rom Canada and US (FAA) through Hydrographic Information Harmonization Working Group (HIHWG) and Aeronautical Information Exchange Model (AIXM) Work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ronautical Profile of  ISO 19115 completed by Jun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4541-FDF1-4510-AEFE-F16F17E529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chedule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year work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-off meeting May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ICAO headquarters in Montreal, Canada (planning meeting occurred in February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Items include finalize the TOR &amp; Complete Airspace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d meetings approximately every four months until 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 of one to two domains per meeting schedu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iverables briefed in intervals at FAD PT mee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l Deliverables to be briefed to PTSG and DGIWG Confe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quarter upon completion to be used for final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D88B-C958-41C4-9028-75A6ABF57E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raft Timeline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lize 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Air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temb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vaids and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Procedures and Time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Organization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Geometries and Clean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Schemas and final deliver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All deliverables comple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C575-A899-4991-B278-64788E1936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uture External Relationships</a:t>
            </a:r>
            <a:br>
              <a:rPr sz="3200"/>
            </a:b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4941720"/>
            <a:ext cx="2737080" cy="15843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DD A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205000"/>
            <a:ext cx="3138480" cy="10080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X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Control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5.0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564000" y="4220640"/>
            <a:ext cx="2232000" cy="129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3492360" y="2637000"/>
            <a:ext cx="223200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4653000"/>
            <a:ext cx="22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for reference and Provide Feed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84720" y="3284640"/>
            <a:ext cx="1366920" cy="1225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213000"/>
            <a:ext cx="1944720" cy="1728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371628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ential Drivers for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EFBF-9364-4984-92BD-11BBF55767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ll for Participation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DGIWG particip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ada, Netherlands, Sweden, United Kingdom, United States (potentially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AO, EURO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NATO represen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Aeronautical Subject Matter Expe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nautical Metadata Expe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Jeff Bell – NGA – Jeffrey.R.Bell@nga.m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314-263-4567 Extension 1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EF08-1D0D-4788-8812-772221A095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ck-Off meeting - M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ation of work to be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to submit proposed timeline after Kick-Off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eronautical Subject matter expe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s and Customers welcome to particip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working relationship with International AIXM WG and CC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GIWG approval (MANDATE) to move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ccess will measured by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FEA8-DFE7-44E8-B2C6-6FC896950A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4:39:32Z</dcterms:created>
  <dc:creator/>
  <dc:description/>
  <cp:keywords>DGIWG NGC NPfPGC 2003 Presentation Report</cp:keywords>
  <dc:language>en-US</dc:language>
  <cp:lastModifiedBy>NGA</cp:lastModifiedBy>
  <cp:lastPrinted>2004-06-11T12:32:46Z</cp:lastPrinted>
  <dcterms:modified xsi:type="dcterms:W3CDTF">2006-04-24T12:25:19Z</dcterms:modified>
  <cp:revision>199</cp:revision>
  <dc:subject/>
  <dc:title>DGIWG Presentation to NATO &amp; Partnership for Peace Geographic Conference 2003 - Item 13</dc:title>
</cp:coreProperties>
</file>