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6F5-38E3-4278-AA07-A00C6E74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032-2D3D-4803-9306-F79EA87C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ECC-73DE-4231-A762-D40AA6F2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9C2-08C8-4FD0-896E-72D95539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3589-8C01-4993-9976-3318B56B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1497-39D4-456A-8D44-B4F154B1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7DAA-0085-4F42-93CA-C849E3B5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0366-1A60-4113-B8A3-042A0C27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070E-9826-4BEA-8E37-E95A306D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2168-E964-4B46-9651-28EC83AA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CDCF-686B-434E-9091-F68C6FA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FCA-620B-4019-AC1F-5D066D22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4A95-400E-4B8F-896A-B52DE1B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94AD-D322-4790-AEFD-302EF2D4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2732-5354-46A3-87BF-4470F480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D633-32C5-4F00-AB89-A6A89B1C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E830-478D-4797-B540-3FE1F22B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38A-9B91-425D-8D44-523D1D35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8BC-AAFF-426B-9631-4C8907F6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0EB-93A1-4E5A-8E6C-C599DDAC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4C7-F8B0-4D99-9EC2-7AEC8A93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31D-2FD3-4665-83AA-25392803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E3C-152E-44D1-8B80-06E9273E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C64-3FC1-4138-9E0A-96CC4B69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501B-79CB-44D3-B0B5-750745702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B409-6ABB-4BBA-BA24-FE96174C2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SO/TC211 Multi-Lingual Glossary of Term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rt to TC 211/SC24 Joint Taskforce Review - Tokyo, Jap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uly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ntents of Operating Proced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ssary structure and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lossary as a regi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ion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Language and Multi-Country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of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of English and non-English spreadshe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of spreadsheet header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etting Star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make the Glossary re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should we star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and regional pri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data continues to be a topical iss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 4 in ISO 19115 includes eleven term 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e into national languages using national character sets by 2007-09-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preadsheet templ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be available by 2007-06-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erminology Spreadshee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erminology Spreadsheet contains the terms and definitions fr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ublished ISO/TC 211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st recent draft of ISO/TC 211 standards that are under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published on the ISO/TC 21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dition – 2007-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use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developers of TC211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the harmonisation of terms and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preadsheet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versions of the same workbook are provi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s listed by work 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s listed in alphabetical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spreadsheets for current and retired ter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 notes are also publis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nsistencies between definitions for the same term in different standards are highligh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ed through commenting or review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preadsheet Acces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ccess is only available to TC211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s and definitions in draft documents are frequently subject to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considered safe to make these terms and definitions available to the wider spatial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lossary of Term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itial glossary of terms in English has been derived from the Terminology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2006-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ccessed from ISO/TC 211 Home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only terms that are defined in documents that have been published as International Standards (i.e. no draft te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term, definition, reference, notes &amp; examples (where they ex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s available to every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ulti-Lingual Glossary of Term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Glossary to provide multi-lingual terminology capa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t the Orlando TMG meeting, it was agreed that the TMG wou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vite national bodies to participate in the development of a multi-lingual glo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repare a registry based on IS 191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vitation to National Bodies issued by Chair of ISO/TC 211 during 2006-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tional Bodies Participa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2895480"/>
            <a:ext cx="44197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2895480"/>
            <a:ext cx="44197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ve responses were initially received from 12 national bo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5729400"/>
            <a:ext cx="77724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udi Arabia, Iran, Spain and Thailand have since requested involv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mplementation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lossary will initially be stored in an Excel work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parate spreadsheet will be used for each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ing records on different spreadsheets will be linked by a common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preadsheet will be a separate ISO 19135-compliant regi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lossary in its entirety will become a compound regi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Operating Procedures Docu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operating procedures for the establishment and maintenance of the ISO/TC 211 Multi-Lingual Glossary of Te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to facilitate consistency given that contributors would be working in parall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in 2007-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s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1.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as N2199 on 2007-04-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4:49:01Z</dcterms:created>
  <dc:creator>DEH</dc:creator>
  <dc:description/>
  <dc:language>en-US</dc:language>
  <cp:lastModifiedBy>jonesa02</cp:lastModifiedBy>
  <dcterms:modified xsi:type="dcterms:W3CDTF">2007-06-22T01:13:10Z</dcterms:modified>
  <cp:revision>135</cp:revision>
  <dc:subject/>
  <dc:title>Terminology Maintenance Group</dc:title>
</cp:coreProperties>
</file>