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702-DDDD-445D-A722-9AD3FB03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AE1-7987-4AE6-B272-F9C23E55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CF1-2B1E-4275-AC7F-A80B15A2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39B-290C-4554-A2DF-89A57E4C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61C0-3BD8-4D60-AB8D-349F8317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BB87-12CB-4F7C-843C-7321F3D5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F685-2FAD-471D-9E04-A08D9BD8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339F-0D53-4447-9F97-F09C0DF7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DBCC-EB2C-4603-94C1-B2B498D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AFB0-43A5-4E5B-8C6E-D0669F2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F376-ADD4-4496-8400-A087BC8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CC6-3C74-4E1A-A7F4-7A43AFD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26E4-2696-4623-B456-64A67A5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EB23-B72E-4A86-8BAB-FE83928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5197-74B0-40DB-B1B9-42E89203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0874-7D0B-4D07-892F-2EADFEAC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884C-AAD0-4D50-B7E7-25944AB5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2CB-D481-45CA-9DB3-6E9740FC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BA5-B802-4034-A583-B5A9412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AC8-C18B-41C7-94D3-A5E392D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A60-12D6-49E3-8AD2-6EFAA294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BAD-49D2-4D2F-B9EA-986B24C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2A4-875A-4AB3-954E-4B7657F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CA5-AB66-4CF0-AA88-FB2767D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67EA-D893-4F4F-8776-DAD4DA21A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412-CA0E-431C-A4E9-2C142B16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SO 19146 Cross-Domain Vocabularies Projec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95280" y="45716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rt to TC 211/SC24 Joint Taskforce Review - Tokyo, Ja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uly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SO 19146 – Cross-Domain Vocabulari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Mincho"/>
              </a:rPr>
              <a:t>Objective is to cross-map between TC211 terminology and technical vocabularies that have been adopted by industry-oriented geo-spatial communities for routine u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MS Mincho"/>
              </a:rPr>
              <a:t>Establish a consistent approach to cross-mapp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MS Mincho"/>
              </a:rPr>
              <a:t>Implement cross-mapping between TC 211 and TC 2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derpinning standard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O 1087-1 Terminology Work – Vocabulary – Part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O 19135 Geographic Information – Procedures for item 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tivity to Da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oted as a NWIP prior to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lenary of ISO/TC 211 in Riyad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team – 16 people from 11 coun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tralia confirmed as project l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ing Draft 1 was provided with the NW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Draft 2 (much expanded) was distributed to PT members during 2007-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team held its first meeting in Rome on 2007-05-28/2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D2 reviewed in its entir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support by the PT for WD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ussion primarily focussed on the approach to classifying cross-mapped relationship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ocument Struc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inciples for cross-mapping of vocabul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ference vocabu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oss-mapping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cumentation and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giste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nnex - cross-mapping between ISO/TC 211 and ISO/TC 2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hilosophy and Approach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rong emphasis on ensuring collaboration between vocabulary owners – must be bilateral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erminology is to be rationalised rather than prolif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Vocabulary cross-mapping will provide a thesaurus, not a taxonomy or ont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 stable reference vocabulary, maintained by a recognised standards body, will be adopted for all cross-mapping undertakings involving a particular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ross-mapping must proceed as a collaborative ven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ross-mapping must not circumvent established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ross-mapping must be recognised through publication in a regi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ross-mapping must accommodate continuous chang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ssu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for classifying relationships between cross-mapped concepts is proving difficult to finalise; how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ome, the project team was supportive of the proposed classification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O have independently developed a classification approach which is very similar to that proposed for ISO 19146 – provides positive reinforc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present, cross-mapping has only been attempted with Intelligent Transport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rable to test with other 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to WD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ed to be final WD before issue as C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ed to be issued as CD in 2007-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ears to be achiev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4:49:01Z</dcterms:created>
  <dc:creator>DEH</dc:creator>
  <dc:description/>
  <dc:language>en-US</dc:language>
  <cp:lastModifiedBy>jonesa02</cp:lastModifiedBy>
  <dcterms:modified xsi:type="dcterms:W3CDTF">2007-06-22T01:00:55Z</dcterms:modified>
  <cp:revision>128</cp:revision>
  <dc:subject/>
  <dc:title>Terminology Maintenance Group</dc:title>
</cp:coreProperties>
</file>